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2B7-422F-4C71-B1F0-04C93C505C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CF48-8E7B-45A7-A418-1013A7ECD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delivering this presentation, please read the Handout4T of Unit M01U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5125-464C-4866-AAA8-B4730008F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B7F-E1B7-433C-B599-CA53CF9E98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16-minute multimedia available in the Kit’s video library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Nigel Crawhall, Director of Secretariat at the Indigenous Peoples of Africa Coordinating Committee (IPACC), a pan-African network, introduces the Training Kit on Participatory Spatial Information Management and Communication and describes its value in promoting good practice and adding authority to local knowled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12FA-928D-4D42-9280-A12BBB256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raining Kit does not include training in project formulation; however, you can find some guidelines among the e-handou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A75F-2786-4DFC-B5C9-E3E616431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formation on these and other similar sites is available on the handout “List of Additional Resources” of Units M01U01 and M01U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94CF-5B8C-4538-BFF1-56F7F5913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3BC8-D7FB-4DAA-AD7D-A27141958F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F740-3573-4216-B0C7-24CCE3F42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DC1B-D42D-4253-B200-B6EE26251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44D3-A4C2-4EEA-A57B-8FDB75CA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EEDC-CDD6-401F-9D85-BE0F8350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0B8B-832D-4660-807E-F1B7AD194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D8D9B-3612-4780-9010-081BD56B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D1B40-501B-4E9B-A3B3-F7164C62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4ADF9-C1C1-45A8-9D3B-A444CA68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922C5-844C-4FB3-ACBD-14B94EBF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5E04C-F965-4877-AF52-7240C99A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F4F57-4D9B-4D85-857C-6BE93209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D2E06-2ADE-42CC-A2CB-116B83FD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8218-27BB-4E46-8733-D04B59AC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362F6-2AC5-431F-B06E-A146D2E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E8F23-2C8A-400D-88E9-A48CE2D2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CE3A4-91E3-47E3-9F9A-8F13C66B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1F328-F25F-4906-8A7E-CD120FA0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B3307-78F1-4228-8070-3ECC4F8C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D0CE-749F-4BB4-A5FF-7482C004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1A41-A21E-47DB-8483-A7B667EA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549F-A7E1-46A3-969E-8BE6AF53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21F7-DDE0-4645-BFE7-C1FAE800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18EE-376E-4D8F-9BE4-2177C181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909B-1955-4155-835A-83FEB8D5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2699-2140-4F13-8489-B28826E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00B7-290B-4D14-9E9C-504F0DC4BA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D5B-CB8F-4730-9049-049653D131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articipatorygis.blogspot.com/" TargetMode="External"/><Relationship Id="rId2" Type="http://schemas.openxmlformats.org/officeDocument/2006/relationships/hyperlink" Target="http://pgis.cta.int/" TargetMode="External"/><Relationship Id="rId3" Type="http://schemas.openxmlformats.org/officeDocument/2006/relationships/hyperlink" Target="http://www.nativemaps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How to Support the Adoption </a:t>
            </a:r>
            <a:br>
              <a:rPr sz="4400"/>
            </a:b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nd Improvement </a:t>
            </a:r>
            <a:br>
              <a:rPr sz="4400"/>
            </a:b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of the Training Kit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306960" y="51436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Giacomo Rambal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low of the presen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ips and tricks for raising in-house awareness and for selling ide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ow to keep updated and in touch with pee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ays to contribute to improving the Training Ki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" name="Picture 4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Raising in-house awarenes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ebriefing with colleagues and supervis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rown bag semina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riefing paper for policy makers and decision make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ly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8" name="Picture 4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 to the Training Ki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1363" t="44915" r="20763" b="11977"/>
          <a:stretch/>
        </p:blipFill>
        <p:spPr>
          <a:xfrm>
            <a:off x="2500200" y="2000160"/>
            <a:ext cx="4071960" cy="34290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ell your ide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 implement a training programme, you need to be able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spond to demand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ess training need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epare the training curriculum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dentify resource people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mpile a project proposal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ource and secure fund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Keeping up-to-d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participatorygis.blogspot.com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 blog providing latest news about the practic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pgis.cta.int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 CTA initiatives concerning participatory mapp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ttp://www.nativemaps.or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: supports indigenous peoples facing land claims, treaty negotiations and resource developme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haring among practitione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http://www.ppgis.net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 Open Forum on Participatory Geographic Information Systems and Technologie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Gateway for accessing discussion lists in English, French, Portuguese and Spanish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How to contribute to </a:t>
            </a:r>
            <a:br>
              <a:rPr sz="4400"/>
            </a:b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mproving the Training Ki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hare your experiences and lessons learned in using the Training Kit at </a:t>
            </a:r>
            <a:r>
              <a:rPr b="0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http://www.ppgis.ne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Use the “Materials Evaluation Form”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end feedback to </a:t>
            </a:r>
            <a:r>
              <a:rPr b="0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pgis-tk@cta.i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4:18:28Z</dcterms:created>
  <dc:creator>Giacomo</dc:creator>
  <dc:description/>
  <cp:keywords>pgis training kit</cp:keywords>
  <dc:language>en-US</dc:language>
  <cp:lastModifiedBy>Giacomo Rambaldi</cp:lastModifiedBy>
  <dcterms:modified xsi:type="dcterms:W3CDTF">2010-03-22T17:25:53Z</dcterms:modified>
  <cp:revision>23</cp:revision>
  <dc:subject/>
  <dc:title>Presentation - Supporting the adoption and improvement of the K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ContentTypeId">
    <vt:lpwstr>0x010100524DE4F4C995CC49A2E3EBF903E298A700444F003324912E469596FEA97841A527</vt:lpwstr>
  </property>
  <property fmtid="{D5CDD505-2E9C-101B-9397-08002B2CF9AE}" pid="7" name="Keywords">
    <vt:lpwstr>pgis, training kit</vt:lpwstr>
  </property>
  <property fmtid="{D5CDD505-2E9C-101B-9397-08002B2CF9AE}" pid="8" name="Slides">
    <vt:lpwstr>1</vt:lpwstr>
  </property>
  <property fmtid="{D5CDD505-2E9C-101B-9397-08002B2CF9AE}" pid="9" name="Subject">
    <vt:lpwstr/>
  </property>
  <property fmtid="{D5CDD505-2E9C-101B-9397-08002B2CF9AE}" pid="10" name="_Author">
    <vt:lpwstr>Giacomo Rambaldi</vt:lpwstr>
  </property>
  <property fmtid="{D5CDD505-2E9C-101B-9397-08002B2CF9AE}" pid="11" name="_Category">
    <vt:lpwstr/>
  </property>
  <property fmtid="{D5CDD505-2E9C-101B-9397-08002B2CF9AE}" pid="12" name="_Comments">
    <vt:lpwstr/>
  </property>
</Properties>
</file>