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BAF-030B-4107-8429-87C6A7BD42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of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 brainstorm with trainees about keywords related to this question: In what sense do adults learn differently than children?  See Exercise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he trainees what they know about ODL, OER, FLOSS and 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1 and the entire Module M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 with an exercise on Personal Styles (Exercise No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ll the attention of the trainees to the source and move to the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rning follows a continuous progression of experience-action-refle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What concepts and perspectives of learning do we know? See Exercise No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9800-6A8C-42EF-AAF7-2678A16C6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9C17-5123-441A-8265-09B8E78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32A8-423E-4A99-83F7-DEB4BF6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30B8-DD9C-4B03-A26B-CE12EE9DD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F34CE-781D-48F4-B6B3-95E25B11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CD15-605F-4955-A787-1AA8A25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3D882-0F6D-4F88-9985-7B0F7548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C06C7-10EF-4716-B04C-33E9652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A24C-AE74-4CAF-AF5C-D74676F0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0F744-E4B4-45BC-A580-A18FB38A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5681F-B133-472B-A5F3-22D8E21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BCBD-5B76-4707-AC9F-27996E3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4D89F-C6D3-4424-923E-C754479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F7E8E-2084-496A-B377-AAC0917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A0815-6B7F-4DC7-ACD1-2A11EDAF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9CE2F-965E-4D72-BCF2-1EF06CF0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65A2D-E039-4410-95AA-1212442F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6436-E420-4220-A544-048381B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072D-67F0-46E2-AD72-26A462B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DEE3-AFEC-47B7-AC6E-B2FF5A1D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0965-BD6F-4ED2-8A02-7C1CEEE5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3976-5143-4577-B0C8-04AE57B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831B-352E-4E1C-8987-EDDB3670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8CA7-B2D5-4496-8C96-AE91E18B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2C3A-78A4-45AE-BA6C-FBC614D84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FCBE-6611-45B7-9218-DAEFC03FC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ics of Trai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aching causes other people to develop skills and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is a broader concep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ers are not necessarily linked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th an educational organis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ducation and trai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ducation is broad and gener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is short and specific and has concise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ar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ditionally: formal face-to-face teach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en and distance learning (ODL): a new technolog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formation and communication technologies (ICT) enhance lea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ar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st method combines several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 should be selected according to learning objectives.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inciples of 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learn differently than childr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chieving objectives is the trainees’ responsibilit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control their own lea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need to see the relevance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should relate to adults' working experie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ctive participation should be encourag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that gives satisfaction stimulates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 one training method by itself is best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ariety of methods is useful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 should relate to the learning content (KSA)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like to discover or elaborate solutions (i.e. experiential learning)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like to compare achievements with standar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exercises are often more effectiv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an individual learning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dividual learning may meet the specific needs of individual learne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need to see the whole pictur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aspects of training should relate to each o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should follow a logical ord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rogramme should move from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eneral to specific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 simple to complex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 easy to difficul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periential learning cycl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concepts and perspectiv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inciples of adult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cent develop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should be within trainees' abiliti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should be specific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training topic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environment and tone should be encouraging and pleasa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’ attention span is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1½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is best in the morning, decreases towards noon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is low after lunch, may increase late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Knowles’ principles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 adult learn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ults need to know why they need to lear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or experiences provide a resource for learning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ults learn to cope with a situ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ults’ orientation to learning is life-centre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motivation for adult learners is inter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cent Develop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DL can meet increasing learning need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y approaches to ODL exis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paration of learners and teachers in time and/or space,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stitutional accreditation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ixed-media (e.g. print, radio, computer)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wo-way communication between learners and tutors,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eriodic face-to-face interaction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 of industrialised processes in large-scale ODL operation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ther term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rrespondence education,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tinuing education,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lexible and distributed learning,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-learning and virtual learning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chnology-mediated educ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Educational Resources (OER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offer new perspectives to learn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cept of OER is a new (r)evolu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extends access to learning to everyon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Educational Resources (OER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are digitised learning materials for free use and reus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ew or no copyright restrictions (like FLOSS)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include full courses, course materials … and the PGIS Training Kit.</a:t>
            </a: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kit for Participatory Spatial Information Management and Communication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of trainers on fundamentals of training delivery and facilit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Educational Resources (OER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knowledge divide may be more serious than the digital divi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ree sharing of OER allows broader and faster dissemination of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reative Commons (C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cept of open copyright licenc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2002 officially released to the publi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motes creativity in the public domai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pectrum of possibilities between all rights reserved and no rights reserv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s keep their copyrights while allowing certain uses of their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reative Commons (C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C licenses can be combin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ribution - Share Alike (BY-SA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Experiential Learning Cyc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Experiential Learning Cycle" descr="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179280" y="1700280"/>
            <a:ext cx="4202280" cy="3606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8320" y="2421000"/>
            <a:ext cx="469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, B. and Beniest, J.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in agroforestry - A toolkit for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.21. ISBN 92 9059 151 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 Agroforestry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Nations Ave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irobi, Keny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amework for 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Experiential Learning Cycle" descr="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179280" y="1700280"/>
            <a:ext cx="4202280" cy="3606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01480" y="3346560"/>
            <a:ext cx="284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xperienc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amework for 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arning Concepts and Perspectiv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eneral recommend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events should be shor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keholder involvement is importa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titutional capacity building and training of trainers should be promo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Knowledge and inform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Knowledge and information are not separable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and learning turn information into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09-11-27T00:58:28Z</dcterms:modified>
  <cp:revision>129</cp:revision>
  <dc:subject/>
  <dc:title>Presentation - Basics of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