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C8A1-AB8B-412A-B3AC-B35BFA584A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e for the trainer: a complete description on how to use a Democracy Wall is available in Module M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ctise "dartboarding" for a few minu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to apply pre and post-test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would you conduct a partial test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function of the continuous activity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mediatel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fter each activity; it takes a minute only.  "Name" is optional to allow for clarification of doub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backside offers space for "Overall comments of the day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 day, coordinators should collect the evaluation forms and summarise the results on these summary for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are the components of a final questionnaire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rainees to do a short exercise on the first qu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relevance of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he trainees to do a tentative Final Course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10F1-1271-4B8E-95D0-342015CC6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0AD9-7673-46C5-B735-F504913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4BB4-796A-49A2-A064-19E6C46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C308-8CB4-4120-9537-AFAD9D7D1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E8CDF-28BA-4609-87B5-F0E97ADB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21DA9-452C-4F62-9135-D0124F9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87F7C-0ADD-4A9E-95F4-92C0735C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656C9-C970-4EB7-A188-9E10F180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DCA19-CAC1-42D2-A420-0341833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F9EA8-BD91-4AD1-AEB6-1017CC14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2AD31-A7FF-48C9-99E3-68BC872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EFB4-5060-4E67-B9C0-4BD7CF14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B8001-9E59-4D58-A3C4-8FBFF77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54C17-B555-40D8-916B-B6EC18E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3E15F-0205-4FA7-9649-C8CD21E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AAA51-CCAF-4C3D-9FF4-4437D6E8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1D6AC-7E2D-4341-ACA2-B44BF296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724E-A6D0-4035-9710-2E898607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A066-774A-4F10-B9E7-48F15ABC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0181-1C3D-4C62-AE98-F187B2D2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B5CD-2699-4407-A5D0-C9160882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BB98-FD2D-4273-8C6F-5DDCD2F8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A3B1-E0BE-4C08-B88A-BD37D5C6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56B5-5C0B-4CB7-80FC-25CDA73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AFFC-653F-4A4F-A9E1-7F034F9B33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03C0-5425-48FE-8138-40E3058F4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worldagroforestrycentre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3 (= behaviour) follows the application after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4 (= results) assesses impact at trainees' organis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is Unit addresses Levels 1 and 2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3 and 4 are follow-up activities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and integral pa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f the training curriculum, not just the end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termine training need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pecify training objectiv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just training methods and material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lete unnecessary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ecute training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rify accomplishment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llow-up with traine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duce training cos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ng whether objectives have been accomplished is as important as specifying training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wo types of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tive evaluation to monitor training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tive evaluation to measure accomplishment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achers and organisers often evaluate informally and unconsci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jective tests are based on specific questions to be answer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ponse tests give freedom for subjective express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actical skills testing is important for PGI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l evaluations includ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ed activity evaluation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 and course material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levance of evalu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s are not intended to grade people, but to monitor course progr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y methods exist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mocracy Wall”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Dartboard” is useful for monitoring participants’ feeling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G_1442B&amp;W" descr=""/>
          <p:cNvPicPr/>
          <p:nvPr/>
        </p:nvPicPr>
        <p:blipFill>
          <a:blip r:embed="rId1"/>
          <a:stretch/>
        </p:blipFill>
        <p:spPr>
          <a:xfrm>
            <a:off x="826920" y="592200"/>
            <a:ext cx="7488360" cy="4983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2960" y="5646960"/>
            <a:ext cx="76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ingual democracy wall deployed at the 2007 Web2forDev Conference in Rome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: Anja Barth, C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Unit M10U01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art" descr=""/>
          <p:cNvPicPr/>
          <p:nvPr/>
        </p:nvPicPr>
        <p:blipFill>
          <a:blip r:embed="rId1"/>
          <a:stretch/>
        </p:blipFill>
        <p:spPr>
          <a:xfrm>
            <a:off x="826920" y="1255680"/>
            <a:ext cx="4608720" cy="44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554800" y="3654360"/>
            <a:ext cx="2849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, B. and Beniest, J.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in agro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 toolkit for 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2.176; ISBN 92 9059 151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ld Agroforestry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ed Nations A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 Box 30677, GPO 0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worldagroforestrycentre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re-test assesses trainees' initial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naires may be u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are difficult to design, but analysis is easy and object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"stem" and several options for answe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stem should be a concise statemen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at leads directly into the op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in the stem as much information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 possible about the ite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ulate the stem concisely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ach option should be a grammatically correct completion of the st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stem an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definitely wrong distract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ne correct answ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an)other definitely wrong distracter(s).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ous activity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materia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: Multiple-choice question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)  easy to develop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)  easy to answ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)  relatively objective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)  not widely applicable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nly one option should be the correct answer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rrect answers must not be self-evid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other options, i.e. distracters, should be plausible but definitely wro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length of options should not provid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clue to the answ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sk only relevant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negatively formulated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ange the answers in random ord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multiple-choice questions when other evaluations are more appropri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present the pre-test at the beginning of the cou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honest and not to gu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results with trainees and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give the questionnaires bac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the same questionnaire for the post-tes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 the post-test one day before the course en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mpare pre- and post-test results and present them to trainees and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 help ensure that resource people cover subject matter appropriate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partial tests to grade traine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use the first 15 to 20 minutes of each day for the partial tes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four or five questions from topics of the previous da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open essay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design questions and expected answers (both!) in collaboration with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artial tests should only cover relevant course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rainees to use open books, training documents, etc. to place them in a real life situation where they may consult referenc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part of the training curriculu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in many aspects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shows whether objectives have been accomplish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nalyse answers immediately with instruc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turn tests to trainees and discuss resul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e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beginning of the course, explain how to use th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critic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morning, coordinators should distribute new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evaluate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each activity, write the title of the activity on a board to remind trainees to evalu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the day, coordinators should collect the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rise results on the summary form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include trainees in processing the evalu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draw conclusions and report them back to the class the next mo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the summaries to the resource people and discuss the resul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ep copies in the files for future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2720" y="981000"/>
            <a:ext cx="7991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0000" cy="497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471600"/>
            <a:ext cx="6985080" cy="56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tools may range from objective tests to subjective assess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ne of the evaluation procedures described are intended to grade trainees or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and Course Material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ource people evaluate the suppo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ven by course coordina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specific nee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resource people to return the evaluation after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30480" y="652320"/>
            <a:ext cx="6696000" cy="53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valuation of course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source people evaluate materials included in the PGIS Training Kit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never you use some of the PGIS materials (e.g. Unit Trainer Notes, Exercises, Handouts, PowerPoint Presentations, etc.), return your evaluation to the course coordinat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01680" y="530280"/>
            <a:ext cx="6697800" cy="57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assess the course’s overall acceptability, strengths and weaknesses and to provide sugges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their nee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irst question - general opinion on the course - is arranged so that ideal answers result in a diagonal pattern from top left to bottom r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428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First ques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2200" y="1563840"/>
            <a:ext cx="7921800" cy="431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 important aspect is the balance between theory and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usually criticise having too much theory and not enough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Question 7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7991280" cy="37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s like “What topics should have been extended?”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e not conclusiv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wish to extend almost everyth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better question would be “What topics should have been reduced or omitted?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ask “What topics have been most useful?”: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find almost everything most use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tead, ask “What topics have been least useful?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may ask “What new topics should be included in the future?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questionnaires to trainees several days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lect questionnaires the day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tract the most relevant conclusions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the conclusions with trainees the next mo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the course, coordinators should summarise the questionnai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the summary in the final course repor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fer to the results when planning the next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Last question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398600"/>
            <a:ext cx="7777440" cy="48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irkpatrick’s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of training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1 = rea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2 =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3 = behaviou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4 = resul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1 (= reaction) measures participants’ satisfa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west level of measurement, nonetheless import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cludes aspects before and during the cour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2 (= learning) measur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quisition of new knowledge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mprovement of skill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hange in attitud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Rainer Zachmann</cp:lastModifiedBy>
  <dcterms:modified xsi:type="dcterms:W3CDTF">2010-06-30T10:25:25Z</dcterms:modified>
  <cp:revision>455</cp:revision>
  <dc:subject/>
  <dc:title>Presentation - Training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