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BBC-5F4A-4F05-B62E-4822C2C09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pproaches of TNA can we apply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would you conduct a semi-structured interview regarding the: a) art of interviewing; and  b) content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; continu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 we need to assess training nee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3029-723A-48D1-A70E-85C474BA5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1CE2-154E-4FC0-835F-17643107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4046-7F22-4F05-8D80-B080423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EE56-AA83-480B-A1C4-D9D491679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CB1C6-7626-4889-93E2-CC413761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3AF1D-DE39-485B-A464-6113F7B0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A5CB2-15F4-4D7B-BCF7-B630124B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5F22-2318-4F93-B880-8EA76C9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E19BA-4833-4440-8B03-2B0EF68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561D7-ECC5-4FAE-8B0B-9E128A6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43ACC-DB60-4C53-82E4-DA38124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120B-4A9F-4EFE-8E4B-BC46199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84A7D-77B4-44F1-8BA1-D0BA3B47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7D4D8-1881-42C5-82E2-FA79F3D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7B9D-3118-43B6-B5A7-AAB0AD89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131E-5EAB-49A0-94EC-411305A6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D427-F8C3-40E8-B072-03F2E053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A260-0881-4167-9CBA-CCCD4D3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6447-3C49-43C2-AD61-E7DD0C9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4FBB-43B4-4E11-A9C6-D9FD480D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1DE2-3DA7-4EC7-8D78-3B7E9905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DC5B-2539-48EA-A840-6AE06B5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7297-D547-4C99-B083-03632323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431C-58FA-498E-B5D5-825D768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8FF8-20C5-4012-8182-5F4121F73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E8C3-91B1-4197-B9C6-F45E3624E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Needs Assessment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(TNA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ther there is a real training ne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root causes of poor performa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desired performance level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(i.e. the expected results of training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aseline data for planning content and scope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ssible support from stakeholders, concerned organisations and prospective participa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12960" y="2130120"/>
            <a:ext cx="554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of Training Needs Assessment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to what extent these steps are relevant for TNA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stakeholders with relevance to the training proces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k about their expectations, concerns, suggestions, possible conflicts of interest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hallenges that require training.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ctors for TNA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pend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tise pres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available and costs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liability and importance of inform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umber and location of people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fidentiality of da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lture and social climate within an organis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Job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about job frequency, importance and difficul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stimate prior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Yield in-depth information, background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d sugges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dividual interviewing is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s of relevant people may be interviewed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ke sure to get viewpoints of everyone, not just of the most outspoken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Questionnai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specific information from a large group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naires may not allow for free expr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servat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assess skills, attitudes and behaviour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real situa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servations are time-consuming and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kills and knowledge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kills tests assess skill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appropriate performance may be due to lack of knowledge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nowledge tests complement skills te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y assess training need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roach of TN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erformance data review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dentify possible performance gaps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rough data review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ufficient performance may be confounded with external factors that cannot be solved through trai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makes sure that challenges can be addressed by train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-training measures may be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iscuss steps with the institutions and people concern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 (SSI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views are useful for gathering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interviewing requires skills an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requires consideration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art of interviewing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tent of the interview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uidelines for note tak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needs assessment (TNA)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s guidance for a productiv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it M03U02 helps to plan and implement T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larifies whether training is the solution to a probl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how the factors described are relevant for T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on PGIS is diverse and complex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should be an open-ended, flexible and dynamic proces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programme depends on the contex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termines the current and desired performance; the difference, or gap, is the neede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includes the political, economic, social and cultural environment and the physical and human resources availabl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ollects information on knowledge, skills and attitudes (KSA) needed for the job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involvement of trainees is necessary to ensure a sense of ownership commitment, and accomplishment of objective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clude relevant stakeholde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keholders help identify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urces of inform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ministrative and technical challeng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ssible obstacles and proposed solu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09-11-27T17:03:57Z</dcterms:modified>
  <cp:revision>151</cp:revision>
  <dc:subject/>
  <dc:title>Presentation - T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