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FDDA-4983-4A74-A8A9-F2BC9925B9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using this presentation, study the Handout for Trainee for this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major training methods, applications and condition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about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principal rules for written training materials and visual aid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go into details of writing training materials; refer the trainees to the handou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on "Simple Writing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 You may conduct the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tional additional Exercise "M03U03 Exercise: Simple Writing and Editing"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inued on next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about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considerations for organising course content and logistic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fer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x 1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the Handout for Trai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Application Form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fer to Appendix 2 in the Handout for Trainee: Logistics Check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about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the components and characteristics for curriculum design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See Exercise No. 1.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raining Kit is a curricul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fer to the handout related to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Writing Learning Outcomes”.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10B41-7731-4C80-8B4C-CDAF731BC2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D1750-A633-43DB-8A4A-E2EC09C3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8F9FE-827E-4B5C-8164-A3495C98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926D-31DE-4456-989D-352E2CE015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56AA1-421F-445C-A444-F5A418DF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C6786-AE13-4560-B61F-96025BF2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F87D7-3127-4AD4-9554-2FD624CE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AAEA2-995A-46C3-A9CA-F64333B7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500E0-2FBD-4C17-B487-E68F2DEB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92011-2135-477B-8B05-E47754AD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24356-7936-44BA-A79B-C9A01F82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FF2AB-670D-4A64-B747-672078DB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C2E62-E3BF-4E23-A1D8-3E52B80E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8880C-0D84-4E52-A06E-27B28A2B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0708B-7B47-4E0E-8B58-6EDB4A68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D17B4-75D1-436C-BEF2-F53ABC9F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F76D9-E8F4-4812-9021-0851F603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C7820-67FE-46EE-BB52-14BAC1D0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A652A-4616-42E7-A4CB-A835FCB3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0577E-5188-4324-AA68-21A8D18E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863FC-2086-40BC-AFD4-9C6CCF06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81350-A684-4D6D-AE6E-A1AC79AD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1C3E-9B8E-49D9-8CCA-D31DB8A4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99839-26F8-4D77-99D5-BF041D54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50E0-F123-40E4-9886-91CA1E6E7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8DB4-ECFC-4ACC-A629-CD3A2A47D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reparing and Structuring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 Training Ev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6880" y="51577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Rainer Zach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03U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eople learn best by what they see and do and less well by what they only hear. 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best approach combines several sens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se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esentations for increasing knowledge;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- practical exercises for improving skills;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- role plays for influencing behaviour and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ttitude.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ow trainees to participat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ectures and presentation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cturing is one-way communication;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t transfers information to a large group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not load too much information into one sess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ectures and presentation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cturers should use visual aids that are specifically designed for a lectur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Visual and oral communication address complementary areas of the brain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"whole-brain learning"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Group work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roup work is a most effici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group possesses more knowledge than any individual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 group members should participate active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prevent a few people from dominating the group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Group work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re are many kinds of group work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 “Snowballing”, a group discussion begins in pairs of participant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r group rotation, a common method is called “the world café”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rainstorming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present a key question to the participan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eryone contributes ide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 ideas are valid; there are no "wrong" ide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rainstorming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variation of brainstorming is to collect ideas on meta card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roup cards into categorie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eryone participat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ase stud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ovide an opportunity to elaborate on real situa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present the cases in writing and/or visuall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ovide appropriate inform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hould not be overloaded with detail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rom goal to curriculum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method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material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urse organis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emonstrations and exercis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volve most of human sens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ost appreciated by traine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hould relate to the theoretical introduc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conduct trial runs before involving traine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eld visi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ow to demonstrate and practise techniques and experiences which are not available at the course venu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ery visit should contribute to the whole picture of the cours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bjectives for each visit must be specifi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visit the fields before going there with traine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ateri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ateri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upport communication, teaching and lear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rve as future reference material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mple notes, textbooks, audiovisuals, computer-assisted procedures and Internet-based simula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ateri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ood training materials are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developed for a specific purpos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(such as the components of the PGIS-TK)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argeted at specific audience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oriented towards the learning outcom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ateri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ood training materials are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esented in a simple, yet technically correct way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ested and evaluated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ttractive to user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ateri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not expect perfect materials right from the begin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materials evolve over tim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ritten materials and visual aids are most commonly us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ritten materials 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clude pamphlets, handouts, bulletins, textbooks, etc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sented in hard copy or electronic form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uthors should consider content, writing and formatting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Visual aids 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clude multimedia, transparencies, electronic presentations (PPTs), posters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ntain text, tables, graphics, drawings and photograph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hould be based on carefully prepared written documents, such as written training material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Visual aids 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mprove communic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nhance the impact of presenta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nsider recommendations for design, quantity of information, fonts, graphics, etc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training event should be based on a training needs assessment (TNA)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curriculum gives an overview of the training programme and helps in plann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s Unit describes training methods, materials and course organis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rse Organisation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rse organ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cludes planning, preparing, implementing, monitoring, evaluating and following-up on course content and logistics.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rse organ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course director may be responsible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r the overall course organisat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ne coordinator or committee may take care of content and another of logistic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work with checklists specifying responsibilities and schedu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rse 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ining needs assessment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urse announcement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Venu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urriculum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ogramm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iming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articipant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esource peopl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ining material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valuation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llow-up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Budge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rse 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 maintains contact with resource people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 should keep content lean:  KISS: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ep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hort and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mple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clude a little less than might be required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rse 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 principle, coordinators should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ioritise what trainees must, should or might learn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llow a logical organisation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ove from general to specific, simple to complex, known to unknow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ogistical arrang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retarial service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mmunication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vel arrangement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ccommodation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od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frastructur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ining faciliti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nsl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quipment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aterial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ocial activities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mergency provision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ogistical arrang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consider climate, vegetation season, cropping pattern and cultural and religious calendar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pportunities and facilities must allow practical work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Logistical arrang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urse duration should be shor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plan well in advance,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ut be prepared to plan on short notic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need time to obtain official permission and visas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rse organ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organise carefully, use common sense, avoid last-minute improvisation …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… but be prepared to do s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rom Goal to Curriculu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rom goal to curriculu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urse organiser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nalyse the background of the training event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ssess the initial situation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nalyse the root causes of problem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determine the goal for the expected situatio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rom goal to curriculu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curriculum should be based on a training needs assessmen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curriculum defines the knowledge, skills and attitudes (KSA) to be address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e curriculu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pected learning outcomes,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ntent,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ethods,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arning materials,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instrumen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arning outcomes should be SMART  = 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ecific,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asurable,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hievable,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levant,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me-boun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void vague formulations,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uch as “to know” or “to understand”;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etter use "to explain"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n example of an objectiv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fter completion of the PGIS Training-Kit, trainees will be able to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dentify opportunities and constraint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design PGIS interventions;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llaborate with local communitie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ake informed decision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Rainer Zachmann</dc:creator>
  <dc:description/>
  <cp:keywords>pgis training kit</cp:keywords>
  <dc:language>en-US</dc:language>
  <cp:lastModifiedBy>Rainer Zachmann</cp:lastModifiedBy>
  <dcterms:modified xsi:type="dcterms:W3CDTF">2010-06-29T16:22:11Z</dcterms:modified>
  <cp:revision>298</cp:revision>
  <dc:subject/>
  <dc:title>Presentation - Structuring the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