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46BE-D23D-4F97-A600-51F7A47AA9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the Handout for Trainee for this U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on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we have to prepare our training facilitie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on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to schedule training activitie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e Appendix 1 of the Handout for Train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e Appendix 2 of the Handout for Train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on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to manage timing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e Unit M03U05: Training Evalu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on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to apply training method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on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considerations for arrival and familiarization of participant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tional: Include Exercise No. 2 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C45A1-932B-42F9-87B3-2C8F779A4E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C879-95DB-4C08-850A-07752062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9222-D885-4926-88ED-BDE60E7A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DAC1F-D6FE-4A98-B159-79F795B919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A1311-9E6F-492A-BB6C-EDDDDB5C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5B1C8-8BFD-41E6-B45F-8079317A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655AA-FDF6-47BF-8F17-A924DA15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70C1E-85E3-452E-A102-36BE620F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9B7DD-8EC6-4F9C-8288-E3EC694D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18B40-ED3E-45D8-9081-AEFFD8CA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1F7DF-12B4-4655-B7B1-607A4367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DBA96-5192-4F97-8F41-56852C53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CB1F7-01C8-4800-809F-6C8DBEBC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36F3D-9AC4-4614-9BCF-A61ACFE9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4554E-556E-4AA4-A1E0-F32EBED1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21705-00BE-4ADA-BF53-33F478D7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27B83-CF3E-4A93-B018-55424BAB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4579-B1A4-4E82-88B2-FA5D782A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FCD4-3ED6-4A6C-8C7D-821FDC3A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D72E-3002-41A6-9C1E-D9BFFF3B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A2078-0372-4DA3-AE62-0B004F68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D0CE3-9621-497C-83D2-F58CFA0C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13946-3C8E-4522-8FAC-3088740C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2C7A-E900-460B-A421-5F1E9A94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C603-12D0-45E4-9313-C84D6384BD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E64A-5F38-45D0-B17C-5FAC514213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mplementing a Training Ev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6880" y="5157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3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environment should be pleasant, quiet and not allow distrac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nts and resource people should be kept togeth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entilation and good light conditions are need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rrange seating informal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void classroom seating in row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roup activities require plenty of roo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ganisers should provide materials for group work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nslation facilities may be requir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verhead transparencies are preferable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nder daylight condi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ideo/computer projectors (beamers) also work wel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lour slides require a darkened roo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acilities and equipment should be tes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retarial services, ICT facilities and Internet connection should be available during and beyond course working hou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involve trainees in scheduling and execution of activiti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ferably adapt logistical arrangements to course requirements,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ather than adapting the course schedule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o inconvenient local condi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introduce participants to the course objectives and programm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place the traditional course introduction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ith a participative discussion about expect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schedule initial time for a presentation of participants' work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n, move quickly to the course cont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rrival and familiarisa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facilities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cheduling training activit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ime management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pplying training methods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oretical components should be practically-orien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sentations should be combined with exercises and demonstra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schedule theory for the morning and practice for the afterno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Keep evenings free for social learning activities, such as group work and discuss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urse time should not be dedicated to reading assignment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source people should cover content during course tim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ganisers should keep weekends less intensive, but not abandon the traine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chedule course activities for Saturda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ffer sociocultural programmes for Friday evenings, Saturday afternoons and Sunday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urse work should not be interrupted with trave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ave less formal programmes, such as excursions, to the end of the cours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fter the course, trainees may be highly motiva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ganisers should help trainees reintegrate themselves into their home situ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nal group presentations get trainees reoriented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nage time strictly and intelligent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egin early (e.g. 08:00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uring the mornings, at least one break of 30 minutes is need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tention span of adults is 1½ hours. 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lunch break may take 1½ hou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fternoon sessions should finish not later than 17:00 hou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ime for social interaction and sports activities is usefu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introduce resource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keep trainees wait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egin each activity at the exact tim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nish at the planned tim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en the course is well-planned, implementation will be smooth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pleasant and quiet environment is essenti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ime should be managed strictly and intelligentl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facilitate rather than teach and trai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Handouts may be distributed one or several days before or at the end of a present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o not distribute handouts at the beginning of a presentation; because trainees will read instead of liste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should not take no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assure that handouts contain all relevant informa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monitor the activities continuous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should not abandon trainees and resource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ternative arrangements should be availab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should evaluate each activity immediately after comple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 day should begin with a briefing from evaluations of the previous da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pplying 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pplying 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allow participation;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acilitate rather than teach and trai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lect training methods according to the objectiv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mphasise skills and attitude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licit collective knowledge through brainstorming and group work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pplying 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rehearse their activities at the training si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nsure that all materials are availab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vise tim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actise using instruments, equipment, et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pplying 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read, explain and summarise visuals completel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not include information that they cannot explai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pplying 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face the audience;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ever speak towards the scree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uide the audience by uncovering portions of informa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se “builds” so that information appears one point at a tim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se pointers only when needed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ganisers should make sure that participants arrive easily and safe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amiliarise participants with the environmen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should feel well and comfortab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 registration, organiser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check personal data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ovide information about environment and faciliti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istribute the programme and material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ganisers should schedule arrival for Saturday, so that training can begin informally on Sunda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ow familiarisation among participan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should tour the faciliti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nts present themselves with personal inform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formation remains visible during the training ev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formal or informal opening ceremony may be arrang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ss releases and information about the course should be availab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Rainer Zachmann</dc:creator>
  <dc:description/>
  <cp:keywords>pgis training kit</cp:keywords>
  <dc:language>en-US</dc:language>
  <cp:lastModifiedBy>martens</cp:lastModifiedBy>
  <dcterms:modified xsi:type="dcterms:W3CDTF">2009-12-01T10:40:44Z</dcterms:modified>
  <cp:revision>324</cp:revision>
  <dc:subject/>
  <dc:title>Presentation - Implementing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