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930F-A8F2-442F-9BC9-E399EA46FA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using this presentation, study the Handout for Trainee for this Un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about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approaches of TNA can we apply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Write keywords onto a flipchart and then continue with the presen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ss with trainees about the uses and limitations of each TNA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ss with trainees about the uses and limitations of each TNA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ss with trainees about the uses and limitations of each TNA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ss with trainees about the uses and limitations of each TNA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ss with trainees about the uses and limitations of each TNA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ss with trainees about the uses and limitations of each TNA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rainees about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would you conduct a semi-structured interview regarding the: a) art of interviewing; and  b) content?"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 See Exercise No. 1. Write keywords onto a flipchart and then continue with the presen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se the Handout4T for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se the Handout4T for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is is the context of Unit M03U02; continue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is is the context of Unit M03U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he trainees about keywords related to this question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y do we need to assess training needs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Write keywords onto a flipchart 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D31D4-3BB4-493E-BD0C-607CDAC87E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2E456-CBD1-4756-A8A0-30DB970C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92A4E-2174-480D-B4B8-4B345AE9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9C2E4-7E2B-4D7C-83F4-7499AFAC88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C621C-67F1-4A90-8EF5-FFD5BD6D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6E7B2-8D88-41D2-9612-A284295C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01182-ADE5-4EED-901D-AD832402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8B07F-E8F3-4A4D-B83D-2362E868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45429-5FD2-4FC7-BA36-E0FE83BE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52902-1656-4C84-8841-7C998DB0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923CE-4EC8-4109-B1D1-136EC734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E4DD3-609B-473F-9D48-3C185B62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AAA6D-4F64-4D8B-BD37-153FD96C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C16C2-EAA3-4144-8D93-A82F81DE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F7EF0-9E37-4327-9000-30C8014B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AD357-C0BA-463C-BDA0-9C5FB579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8F709-EE3D-4833-B5D8-B2841B08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6442F-60D5-4239-8DCD-4A921916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A6B19-2AFE-4A4D-B38C-35D1E287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63748-9E7F-4C5E-A37B-AA78C735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0CD3D-B9BC-4B7C-AE65-9EFEB7BD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7A9BB-23AD-4649-B9A0-E126D196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6CC0B-5672-48ED-85A6-95C5A92E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AAD33-424B-407A-B3A0-6569EF51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D80F-C369-4590-9AFE-40F012392D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0DF6-6D2F-4190-800C-118B224A03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Needs Assessment</a:t>
            </a:r>
            <a:br>
              <a:rPr sz="4400"/>
            </a:b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(TNA)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6880" y="515772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By: Rainer Zach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Unit: M03U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What does TNA determine?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ether there is a real training ne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root causes of poor performanc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desired performance level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(i.e. the expected results of training)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What does TNA determine?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Baseline data for planning content and scope of trai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ossible support from stakeholders, concerned organisations and prospective participant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12960" y="2130120"/>
            <a:ext cx="5541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pproach of Training Needs Assessment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Relevanc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decide to what extent these steps are relevant for TNA: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dentify stakeholders with relevance to the training proces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sk about their expectations, concerns, suggestions, possible conflicts of interest, etc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dentify challenges that require training.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actors for TNA</a:t>
            </a:r>
            <a:br>
              <a:rPr sz="4000"/>
            </a:b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NA depends on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xpertise present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ime available and costs involved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reliability and importance of information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number and location of people involved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nfidentiality of data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ulture and social climate within an organisatio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Job analysi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about job frequency, importance and difficulti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stimate prioriti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nterviews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Yield in-depth information, background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nd suggestion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dividual interviewing is labour-intensiv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roups of relevant people may be interviewed togethe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ake sure to get viewpoints of everyone, not just of the most outspoken peopl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Questionnair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llect specific information from a large group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Questionnaires may not allow for free expressio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bservations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o assess skills, attitudes and behaviour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under real situation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bservations are time-consuming and labour-intensiv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kills and knowledge 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kills tests assess skill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appropriate performance may be due to lack of knowledge.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Knowledge tests complement skills test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y assess training needs?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pproach of TNA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mi-structured interview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erformance data review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dentify possible performance gaps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rough data review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sufficient performance may be confounded with external factors that cannot be solved through train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NA makes sure that challenges can be addressed by training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Non-training measures may be need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discuss steps with the institutions and people concern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2130120"/>
            <a:ext cx="7775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emi-structured Interviewing (SSI)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nterview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terviews are useful for gathering inform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But interviewing requires skills and techniqu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emi-structured interview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emi-structured interviewing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requires considerations on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e art of interviewing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ntent of the interview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guidelines for note taking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needs assessment (TNA)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ives guidance for a productive training eve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Unit M03U02 helps to plan and implement TN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NA clarifies whether training is the solution to a problem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rs decide how the factors described are relevant for TN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Why Assess Training Needs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Why assess training needs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ing on PGIS is diverse and complex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NA should be an open-ended, flexible and dynamic proces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training programme depends on the context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Why assess training needs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NA determines the current and desired performance; the difference, or gap, is the needed lear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NA includes the political, economic, social and cultural environment and the physical and human resources available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Why assess training needs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NA collects information on knowledge, skills and attitudes (KSA) needed for the job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articipatory involvement of trainees is necessary to ensure a sense of ownership commitment, and accomplishment of objectives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nclude relevant stakeholder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takeholders help identify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ources of information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dministrative and technical challenges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ossible obstacles and proposed solution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Giulia Pedone</dc:creator>
  <dc:description/>
  <cp:keywords>pgis training kit</cp:keywords>
  <dc:language>en-US</dc:language>
  <cp:lastModifiedBy>Rainer Zachmann</cp:lastModifiedBy>
  <dcterms:modified xsi:type="dcterms:W3CDTF">2009-11-27T17:03:57Z</dcterms:modified>
  <cp:revision>151</cp:revision>
  <dc:subject/>
  <dc:title>Presentation - T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