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E424-68F3-40F1-A651-608882E7A2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jor training methods, applications and condition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principal rules for written training materials and visual ai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go into details of writing training materials; refer the trainees to the handou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on "Simple Writing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 You may conduct th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 additional Exercise "M03U03 Exercise: Simple Writing and Editing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organising course content and logistic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the Handout for Trai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pplication For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Appendix 2 in the Handout for Trainee: Logistics Check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the components and characteristics for curriculum desig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raining Kit is a curricul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the handout related t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Writing Learning Outcomes”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A794-3765-4546-BCED-2D6CDC9092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8008-04AF-4BD0-890E-20344D8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5056-77F7-495E-A310-F0F35AC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A362-0353-40A7-84A6-5EA7999B5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64E50-23AC-4648-9554-72951F19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222C1-56AC-4E9A-8F23-CDD0DEF0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963F1-818B-43E5-A9BD-C2AC6388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F3229-0281-4CCA-8E32-E5CC8EDB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E89EB-7BFB-47CC-BCAB-0991D5C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87A1-4DB9-4A2E-9187-6975455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2DF39-5225-46EE-A143-4CD01C7F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FE26-EB54-4421-88E1-6604E91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B2E16-3A46-4E94-9D5B-A713479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FD8F-E7D3-43C8-BF6F-139AAE8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B1366-F1B6-424B-AF1D-5C172BB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C1CCA-B167-4365-98A5-CE0D3DE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FA38E-0C0B-4F82-8D49-A71AF934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307F-BA7A-4B41-B181-251D8F8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82E1-A984-4FF5-87E5-F301CC92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6316-7783-4A6C-AA9E-92477CB8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8D51-F553-4BC7-8FDD-F3FA6EE9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B264-A2D8-4218-BE3B-8D862E8C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3D0D-DFFA-490C-A70B-18CED82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ECC4-80CA-471F-A21B-316802D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EA0-1472-4BBC-A11F-AB7F733C7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F684-543B-470B-8144-858245685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paring and Structur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ople learn best by what they see and do and less well by what they only hear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best approach combines several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ations for increasing knowledge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practical exercises for improving skill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role plays for influencing behaviour an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itude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participa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ing is one-way communication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transfers information to a larg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load too much information into one s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ers should use visual aids that are specifically designed for a lectur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sual and oral communication address complementary areas of the brai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"whole-brain learning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work is a most effici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group possesses more knowledge than any individual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group members should participate activ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prevent a few people from dominating th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are many kinds of group work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“Snowballing”, a group discussion begins in pairs of participa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r group rotation, a common method is called “the world café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a key question to the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contributes ide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ideas are valid; there are no "wrong" id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variation of brainstorming is to collect ideas on meta car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cards into categori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participa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n opportunity to elaborate on real sit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the cases in writing and/or visual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ppropriate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not be overloaded with detai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rom goal to curriculum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ethod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emonstrations and exerci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volve most of human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st appreciated by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relate to the theoretical introdu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conduct trial runs before involving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eld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o demonstrate and practise techniques and experiences which are not available at the course venu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visit should contribute to the whole picture of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s for each visit must be specifi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visit the fields before going there with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pport communication, teaching an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rve as future reference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mple notes, textbooks, audiovisuals, computer-assisted procedures and Internet-based simul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veloped for a specific purpos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such as the components of the PGIS-TK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rgeted at specific audienc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riented towards the learning outcom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ed in a simple, yet technically correct way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sted and evaluated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ractive to use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expect perfect materials right from the begin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evolve over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ritten materials and visual aids are most commonly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ritten material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pamphlets, handouts, bulletins, textbook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ed in hard copy or electronic for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s should consider content, writing and formatt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multimedia, transparencies, electronic presentations (PPTs), poster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ain text, tables, graphics, drawings and photograph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be based on carefully prepared written documents, such as written training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rove communic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hance the impact of presen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sider recommendations for design, quantity of information, fonts, graphic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event should be based on a training needs assessment (TNA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gives an overview of the training programme and helps i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describes training methods, materials and course organis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s planning, preparing, implementing, monitoring, evaluating and following-up on course content and logistic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ourse director may be responsi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 the overall course organis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e coordinator or committee may take care of content and another of logistic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work with checklists specifying responsibilities and schedu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needs assess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urse announce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Venu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rriculum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gramm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rticipa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ource peopl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material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alu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-up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maintains contact with resource peo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should keep content lean:  KISS: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ep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ort and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a little less than might be requir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principle, coordinators should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oritise what trainees must, should or might lear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 a logical organis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ve from general to specific, simple to complex, known to unknow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retarial service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arrangeme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commod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rastruc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facilit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terial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cial activiti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mergency provis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consider climate, vegetation season, cropping pattern and cultural and religious calenda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portunities and facilities must allow practical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duration should be shor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lan well in advance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be prepared to plan on short no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need time to obtain official permission and visa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organise carefully, use common sense, avoid last-minute improvisation …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… but be prepared to do 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er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background of the training ev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sess the initial situ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root causes of problem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termine the goal for the expected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should be based on a training needs assess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defines the knowledge, skills and attitudes (KSA) to be addres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pected learning outcomes,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ent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material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nstru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outcomes should be SMART  = 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cific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sur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iev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evant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e-boun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vague formulation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ch as “to know” or “to understand”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tter use "to explain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n example of an 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completion of the PGIS Training-Kit, trainees will be able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opportunities and constrai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sign PGIS interventions;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llaborate with local commun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ke informed decision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29T16:22:11Z</dcterms:modified>
  <cp:revision>298</cp:revision>
  <dc:subject/>
  <dc:title>Presentation - Structuring th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