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04B-2546-4D7E-88CE-1E35B3A843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have to prepare our training facil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schedule training activ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1 of the Handout for Tra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2 of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manage timing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Unit M03U05: Training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apply training metho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arrival and familiarization of participan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: Include Exercise No. 2 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B6AF-1458-4EBA-AF9D-0F60CED8E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2CAA-E087-4908-9832-D1EDD54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92DB-E969-483E-A60A-7B80729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75C7-DB00-4006-93E9-5C4E6203F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9CB21-F58F-416F-B267-E15DC624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E1D84-26D1-4150-8213-EBB734A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DDDDF-E2FD-461A-84C9-867283E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1E2CC-E263-4246-8E8F-6406550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78F02-8601-4025-B244-EDBD8500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DA14F-1CE7-475D-B1C7-F00DD401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3752-3350-4876-A8F5-AFD60CA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8BD4-1441-44E0-A1A0-E2242A8D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A1A98-74B4-493B-958D-AB1D433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4285A-0896-4993-94B6-3A40227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B8E60-3238-4ED9-9DB0-FACABD1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CFAA8-D1B2-4A19-BCC5-3749ABDE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D0EBB-1E78-4185-BA2E-53A0343B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E7D2-2060-4D5E-B0D1-CC8A5D46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0AD5-3E74-4D6D-B2E2-A9A2E849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0027-5E82-4CBA-8C25-C0D01E16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93B2-C261-40FF-89E0-5D952019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11FE-6E15-4034-BE51-B45DA87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E172-623F-48DA-AD74-DEE09EF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8F6B-78A5-4BD5-8293-F3CBB687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411-238D-43AD-8168-5C42CB52E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C8D-8F4A-4627-87BF-399A158C7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mplementing 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environment should be pleasant, quiet and not allow distra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and resource people should be kept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ntilation and good light conditions are need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seating informal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classroom seating in row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activities require plenty of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provide materials for group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nslation facilities may b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verhead transparencies are prefera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daylight condi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deo/computer projectors (beamers) also work wel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our slides require a darkened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ies and equipment should be tes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retarial services, ICT facilities and Internet connection should be available during and beyond course working hou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volve trainees in scheduling and execution of activ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ferably adapt logistical arrangements to course requirements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ather than adapting the course schedu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inconvenient local condi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troduce participants to the course objectives and program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place the traditional course introduc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th a participative discussion about expec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schedule initial time for a presentation of participants'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n, move quickly to the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ival and familiaris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facilitie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ing training activit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managemen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lying training method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oretical components should be practically-orien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ations should be combined with exercises and demonstr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schedule theory for the morning and practice for the afterno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evenings free for social learning activities, such as group work and discuss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time should not be dedicated to reading assignme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should cover content during course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keep weekends less intensive, but not abandon the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e course activities for Satur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fer sociocultural programmes for Friday evenings, Saturday afternoons and Sunday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work should not be interrupted with trave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ve less formal programmes, such as excursions, to the end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trainees may be highly motiva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help trainees reintegrate themselves into their home sit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group presentations get trainees reorient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age time strictly and intelligent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rly (e.g. 08:00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uring the mornings, at least one break of 30 minutes is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span of adults is 1½ hours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lunch break may take 1½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noon sessions should finish not later than 17:00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for social interaction and sports activities is usefu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troduce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keep trainees wait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ch activity at the exact ti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ish at the planned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the course is well-planned, implementation will be smooth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pleasant and quiet environment is essenti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should be managed strictly and intelligent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andouts may be distributed one or several days before or at the end of a present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 not distribute handouts at the beginning of a presentation; because trainees will read instead of list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not take no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ssure that handouts contain all relevant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monitor the activities continu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should not abandon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ternative arrangements should b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evaluate each activity immediately after comple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day should begin with a briefing from evaluations of the previous 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llow participation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lect training methods according to the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mphasise skills and attitude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icit collective knowledge through brainstorming and group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hearse their activities at the training si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sure that all materials ar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vise tim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se using instruments, equipment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ad, explain and summarise visuals comple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include information that they cannot expl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e the audience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ver speak towards the scre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uide the audience by uncovering portions of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“builds” so that information appears one point at a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pointers only when need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make sure that participants arrive easily and saf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miliarise participants with the environ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feel well and comfort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registration, organise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check personal da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vide information about environment and facil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stribute the programme and material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schedule arrival for Saturday, so that training can begin informally on Sun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familiarisation among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tour the facil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present themselves with personal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formation remains visible during th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formal or informal opening ceremony may be arrang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s releases and information about the course should be availab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martens</cp:lastModifiedBy>
  <dcterms:modified xsi:type="dcterms:W3CDTF">2009-12-01T10:40:44Z</dcterms:modified>
  <cp:revision>324</cp:revision>
  <dc:subject/>
  <dc:title>Presentation - Implementing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