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3119-D1EB-42C5-8E80-9E3F361DF7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e for the trainer: a complete description on how to use a Democracy Wall is available in Module M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actise "dartboarding" for a few minu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ow to apply pre and post-test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ow would you conduct a partial test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is the function of the continuous activity evaluatio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mediatel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fter each activity; it takes a minute only.  "Name" is optional to allow for clarification of doub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backside offers space for "Overall comments of the day"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the day, coordinators should collect the evaluation forms and summarise the results on these summary for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are the components of a final questionnaire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k trainees to do a short exercise on the first qu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is the relevance of evaluatio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k the trainees to do a tentative Final Course Evalu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52BB-89A5-4AA9-B836-4F5FA7728A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FF05-359E-4905-A91E-4955D4D8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64BD-3FC0-4763-A5E8-79D7EF7C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D1F5-C56F-4978-9713-D3EB406C88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3158A-5E16-4153-B8AD-090387F9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8CA16-93F0-45EA-B2AF-B812A55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5FA12-A4F8-4399-AA33-8E0CC633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49F03-3091-4538-93A9-70FC8887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03300-0D98-46F9-8D36-5F287644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6A5D5-1632-4987-A027-0C015995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D4CE3-31E7-4074-991F-10490BC3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0BF37-DFB3-4834-9733-A0481D91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0A94D-476C-4122-8603-52EC445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43A85-A51D-4144-AC01-83E6E2E9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7FE64-480F-43C5-B3C3-976956FA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6082A-3906-4087-9BCB-81F338CB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623A5-9063-410E-A636-2970C845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1DF0-BBD4-4CED-A7AB-44166E4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A74F-AD9F-4646-8CAB-949C11D2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34DE-5FDB-46DC-A26B-578A5304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50B5-FC14-48D2-87BF-665CD068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CC1C-B161-4B70-BC9E-9708A81E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B39B-EB8C-4F7D-8B27-0B00CDD6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3B24-3436-45FB-BF9F-63057396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539B-03A5-4996-858A-4F84C1C76E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3F49-AA28-4ED5-9FF8-4A9923E2D4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worldagroforestrycentre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3 (= behaviour) follows the application after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4 (= results) assesses impact at trainees' organis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is Unit addresses Levels 1 and 2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vels 3 and 4 are follow-up activities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s an essential and integral par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f the training curriculum, not just the end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t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termine training need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pecify training objective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just training methods and material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lete unnecessary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ecute training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erify accomplishment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llow-up with trainee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duce training cos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ng whether objectives have been accomplished is as important as specifying training objectiv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wo types of evaluatio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ative evaluation to monitor training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mmative evaluation to measure accomplishment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eachers and organisers often evaluate informally and unconscious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jective tests are based on specific questions to be answer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ponse tests give freedom for subjective express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actical skills testing is important for PGI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al evaluations includ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nitoring course climate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- and post-test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test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inued activity evaluation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coordination and course material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course eval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levance of evalua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nitoring course climate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- and post-tes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s are not intended to grade people, but to monitor course progres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Monitoring Course Clima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Monitoring course clima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y methods exist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mocracy Wall”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Dartboard” is useful for monitoring participants’ feeling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G_1442B&amp;W" descr=""/>
          <p:cNvPicPr/>
          <p:nvPr/>
        </p:nvPicPr>
        <p:blipFill>
          <a:blip r:embed="rId1"/>
          <a:stretch/>
        </p:blipFill>
        <p:spPr>
          <a:xfrm>
            <a:off x="826920" y="592200"/>
            <a:ext cx="7488360" cy="4983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2960" y="5646960"/>
            <a:ext cx="76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ingual democracy wall deployed at the 2007 Web2forDev Conference in Rome, 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oto: Anja Barth, CT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Unit M10U01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art" descr=""/>
          <p:cNvPicPr/>
          <p:nvPr/>
        </p:nvPicPr>
        <p:blipFill>
          <a:blip r:embed="rId1"/>
          <a:stretch/>
        </p:blipFill>
        <p:spPr>
          <a:xfrm>
            <a:off x="826920" y="1255680"/>
            <a:ext cx="4608720" cy="44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5554800" y="3654360"/>
            <a:ext cx="2849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ylor, B. and Beniest, J.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in agrofore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A toolkit for trai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2.176; ISBN 92 9059 151 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ld Agroforestry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ed Nations A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 Box 30677, GPO 0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worldagroforestrycentre.o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re-test assesses trainees' initial knowled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naires may be us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are difficult to design, but analysis is easy and objecti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consist of a "stem" and several options for answe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stem should be a concise statemen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at leads directly into the op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in the stem as much information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 possible about the ite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ulate the stem concisely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ach option should be a grammatically correct completion of the ste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consist of a stem and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definitely wrong distracter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ne correct answer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(an)other definitely wrong distracter(s).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inuous activity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coordin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materia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course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: Multiple-choice questions ar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)  easy to develop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)  easy to answer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)  relatively objective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)  not widely applicable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nly one option should be the correct answer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rrect answers must not be self-evid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other options, i.e. distracters, should be plausible but definitely wro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length of options should not provid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clue to the answ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sk only relevant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void negatively formulated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range the answers in random ord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use multiple-choice questions when other evaluations are more appropria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present the pre-test at the beginning of the cour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be honest and not to gues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alyse the test immediat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iscuss results with trainees and resource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give the questionnaires bac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 the same questionnaire for the post-tes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ent the post-test one day before the course end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alyse the test overn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mpare pre- and post-test results and present them to trainees and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tests help ensure that resource people cover subject matter appropriate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use partial tests to grade traine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use the first 15 to 20 minutes of each day for the partial tes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four or five questions from topics of the previous da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open essay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design questions and expected answers (both!) in collaboration with resource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artial tests should only cover relevant course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trainees to use open books, training documents, etc. to place them in a real life situation where they may consult referenc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s an essential part of the training curriculu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in many aspects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shows whether objectives have been accomplish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nalyse answers immediately with instructo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turn tests to trainees and discuss resul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e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beginning of the course, explain how to use the eval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be critic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 morning, coordinators should distribute new evaluation form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evaluate immediat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end of each activity, write the title of the activity on a board to remind trainees to evalua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end of the day, coordinators should collect the evaluation form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mmarise results on the summary form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include trainees in processing the evalu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draw conclusions and report them back to the class the next mor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give the summaries to the resource people and discuss the resul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eep copies in the files for future plan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2720" y="981000"/>
            <a:ext cx="7991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0000" cy="497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42920" y="471600"/>
            <a:ext cx="6985080" cy="564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tools may range from objective tests to subjective assessme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ne of the evaluation procedures described are intended to grade trainees or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valuation of Course Coordination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and Course Material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valuation of course coordinatio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ource people evaluate the suppor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iven by course coordinato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dapt the sample to specific need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resource people to return the evaluation after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30480" y="652320"/>
            <a:ext cx="6696000" cy="532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valuation of course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source people evaluate materials included in the PGIS Training Kit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enever you use some of the PGIS materials (e.g. Unit Trainer Notes, Exercises, Handouts, PowerPoint Presentations, etc.), return your evaluation to the course coordinato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01680" y="530280"/>
            <a:ext cx="6697800" cy="577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assess the course’s overall acceptability, strengths and weaknesses and to provide sugges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dapt the sample to their nee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first question - general opinion on the course - is arranged so that ideal answers result in a diagonal pattern from top left to bottom r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428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First ques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2200" y="1563840"/>
            <a:ext cx="7921800" cy="431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 important aspect is the balance between theory and prac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usually criticise having too much theory and not enough prac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Question 7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862280"/>
            <a:ext cx="7991280" cy="379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estions like “What topics should have been extended?”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e not conclusiv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wish to extend almost everyth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better question would be “What topics should have been reduced or omitted?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ask “What topics have been most useful?”: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find almost everything most usefu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stead, ask “What topics have been least useful?”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may ask “What new topics should be included in the future?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give questionnaires to trainees several days before the course en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llect questionnaires the day before the course en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tract the most relevant conclusions overn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iscuss the conclusions with trainees the next mo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 the course, coordinators should summarise the questionnair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the summary in the final course repor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fer to the results when planning the next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Last question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1398600"/>
            <a:ext cx="7777440" cy="48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irkpatrick’s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vels of training evaluatio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1 = reac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2 =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3 = behaviou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4 = resul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1 (= reaction) measures participants’ satisfa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owest level of measurement, nonetheless import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cludes aspects before and during the cours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2 (= learning) measur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cquisition of new knowledge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mprovement of skill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hange in attitud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Rainer Zachmann</dc:creator>
  <dc:description/>
  <cp:keywords>pgis training kit</cp:keywords>
  <dc:language>en-US</dc:language>
  <cp:lastModifiedBy>Rainer Zachmann</cp:lastModifiedBy>
  <dcterms:modified xsi:type="dcterms:W3CDTF">2010-06-30T10:25:25Z</dcterms:modified>
  <cp:revision>455</cp:revision>
  <dc:subject/>
  <dc:title>Presentation - Training Eval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