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9185-27CD-4F69-A582-6EC2964394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using this presentation, study the Handout for Trainee for this U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e for the trainer: a complete description on how to use a Democracy Wall is available in Module M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actise "dartboarding" for a few minu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ow to apply pre and post-tests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inued on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ow would you conduct a partial test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inued on next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is the function of the continuous activity evaluatio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mediately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after each activity; it takes a minute only.  "Name" is optional to allow for clarification of doub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backside offers space for "Overall comments of the day"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the day, coordinators should collect the evaluation forms and summarise the results on these summary for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are the components of a final questionnaire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 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rainees to do a short exercise on the first qu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fore presenting this section, brainstorm with the trainees about keywords related to this questio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t is the relevance of evaluation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See Exercise No. 1.  Write keywords onto a flipchartand then continue with th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k the trainees to do a tentative Final Course Evalu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A234-942C-4CD2-9B65-90B4279CB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F4FE-3270-4FE5-894C-AF23B847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6FE5-B0D9-43DF-880A-EBA16CA3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82D6-9074-4137-8346-0B49661C50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6DDA1-2916-4B00-8B22-F3A84C93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42EBB-3227-4C54-A9A9-C74633A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7CA24-BAEE-4A50-ADA7-21672F95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11B2C-CC82-4D55-8CD3-342DF6CB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92B4B-2B86-469C-8BE6-FF6936CF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B1B9F-FD69-44E1-862E-E1ADA0AD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7B7E8-88EE-4701-B5D9-024C6FA9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26E0-64C1-4D15-85EF-C58038C9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A241C-F975-4C43-B97E-A3CCD12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B42B6-1B17-4A93-AF96-A8D57CC7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C0B77-DF22-4EFA-A5C4-3B69F4EF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C9800-9FDD-4286-87AB-FA928459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9B005-26D2-48B6-8A58-27C4EC8B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106F-05B6-4557-B881-6CE599CC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7F84-8461-4BE3-90A0-9171EC39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1843-AC57-4795-8ED3-F39FC6A1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7975-08D2-4AB1-A454-D818DA6B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8FFF-595F-4879-A7FB-7022E96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334C-A305-45A7-9B3B-E4C4D77D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3B17-E155-45B4-942F-5BE4A850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311E-3B1D-48A5-821B-1FAD2E873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6E76-C070-4B2E-BD62-D5AFE9963C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worldagroforestrycentre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raining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6880" y="515772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3U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3 (= behaviour) follows the application after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4 (= results) assesses impact at trainees' organis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is Unit addresses Levels 1 and 2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vels 3 and 4 are follow-up activities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s an essential and integral par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f the training curriculum, not just the end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t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termine training need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pecify training objective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djust training methods and material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lete unnecessary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ecute training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verify accomplishment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llow-up with trainees;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duce training cos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ng whether objectives have been accomplished is as important as specifying training objectiv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wo types of evaluatio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ative evaluation to monitor training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mmative evaluation to measure accomplishment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eachers and organisers often evaluate informally and unconscious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bjective tests are based on specific questions to be answer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ponse tests give freedom for subjective express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actical skills testing is important for PGI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al evaluations includ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nitoring course climate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- and post-test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test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inued activity evaluation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coordination and course materials;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course eval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levance of evaluation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onitoring course climate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- and post-tes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s are not intended to grade people, but to monitor course progres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 Course Clim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Monitoring course clima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y methods exist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mocracy Wall”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Dartboard” is useful for monitoring participants’ feelings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G_1442B&amp;W" descr=""/>
          <p:cNvPicPr/>
          <p:nvPr/>
        </p:nvPicPr>
        <p:blipFill>
          <a:blip r:embed="rId1"/>
          <a:stretch/>
        </p:blipFill>
        <p:spPr>
          <a:xfrm>
            <a:off x="826920" y="592200"/>
            <a:ext cx="7488360" cy="4983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2960" y="5646960"/>
            <a:ext cx="76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ingual democracy wall deployed at the 2007 Web2forDev Conference in Rome, 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oto: Anja Barth, C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Unit M10U01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art" descr=""/>
          <p:cNvPicPr/>
          <p:nvPr/>
        </p:nvPicPr>
        <p:blipFill>
          <a:blip r:embed="rId1"/>
          <a:stretch/>
        </p:blipFill>
        <p:spPr>
          <a:xfrm>
            <a:off x="826920" y="1255680"/>
            <a:ext cx="4608720" cy="445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5554800" y="3654360"/>
            <a:ext cx="2849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ylor, B. and Beniest, J.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 in agro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A toolkit for trai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2.176; ISBN 92 9059 151 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ld Agroforestry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ed Nations A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 Box 30677, GPO 0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irobi, Ke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worldagroforestrycentre.or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re-test assesses trainees' initial knowledg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naires may be us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are difficult to design, but analysis is easy and objectiv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consist of a "stem" and several options for answe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stem should be a concise statemen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at leads directly into the op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in the stem as much information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 possible about the item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rmulate the stem concisely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ach option should be a grammatically correct completion of the ste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ultiple-choice questions consist of a stem and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definitely wrong distracter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one correct answer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(an)other definitely wrong distracter(s).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ntinuous activity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coordin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of course materia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nal course evalu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ample: Multiple-choice questions are: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)  easy to develop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)  easy to answe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)  relatively objective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r" pos="744372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d)  not widely applicable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distract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nly one option should be the correct answer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rrect answers must not be self-evid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 other options, i.e. distracters, should be plausible but definitely wrong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length of options should not provide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clue to the answ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sk only relevant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void negatively formulated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range the answers in random orde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use multiple-choice questions when other evaluations are more appropria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present the pre-test at the beginning of the cou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be honest and not to gues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alyse the test immediat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iscuss results with trainees and resourc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give the questionnaires back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re- and post-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Use the same questionnaire for the post-tes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resent the post-test one day before the course end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alyse the test overn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mpare pre- and post-test results and present them to trainees and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al tests help ensure that resource people cover subject matter appropriatel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use partial tests to grade traine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use the first 15 to 20 minutes of each day for the partial tes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four or five questions from topics of the previous day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open essay question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design questions and expected answers (both!) in collaboration with resource peopl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partial tests should only cover relevant course conten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llow trainees to use open books, training documents, etc. to place them in a real life situation where they may consult referenc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is an essential part of the training curriculum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helps in many aspects of trai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shows whether objectives have been accomplish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Partial tes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nalyse answers immediately with instruc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turn tests to trainees and discuss resul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e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beginning of the course, explain how to use the evalu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be critic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ery morning, coordinators should distribute new evaluation form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evaluate immediate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end of each activity, write the title of the activity on a board to remind trainees to evalua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t the end of the day, coordinators should collect the evaluation form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ummarise results on the summary form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include trainees in processing the evalua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draw conclusions and report them back to the class the next mor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Continuous activity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give the summaries to the resource people and discuss the result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eep copies in the files for future plann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2720" y="981000"/>
            <a:ext cx="7991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0000" cy="497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42920" y="471600"/>
            <a:ext cx="6985080" cy="56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valuation tools may range from objective tests to subjective assessment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None of the evaluation procedures described are intended to grade trainees or resource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valuation of Course Coordination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and Course Material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valuation of course coordinatio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source people evaluate the support </a:t>
            </a:r>
            <a:br>
              <a:rPr sz="3200"/>
            </a:b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given by course coordinator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dapt the sample to specific need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resource people to return the evaluation after the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30480" y="652320"/>
            <a:ext cx="6696000" cy="532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valuation of course material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Resource people evaluate materials included in the PGIS Training Kit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enever you use some of the PGIS materials (e.g. Unit Trainer Notes, Exercises, Handouts, PowerPoint Presentations, etc.), return your evaluation to the course coordinato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01680" y="530280"/>
            <a:ext cx="6697800" cy="577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sk trainees to assess the course’s overall acceptability, strengths and weaknesses and to provide suggestion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adapt the sample to their nee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first question - general opinion on the course - is arranged so that ideal answers result in a diagonal pattern from top left to bottom r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428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First ques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2200" y="1563840"/>
            <a:ext cx="7921800" cy="431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n important aspect is the balance between theory and prac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usually criticise having too much theory and not enough practic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Question 7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862280"/>
            <a:ext cx="7991280" cy="37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Questions like “What topics should have been extended?”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re not conclusiv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wish to extend almost everyth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 better question would be “What topics should have been reduced or omitted?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not ask “What topics have been most useful?”:</a:t>
            </a:r>
            <a:r>
              <a:rPr b="0" i="1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rainees find almost everything most usefu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stead, ask “What topics have been least useful?”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may ask “What new topics should be included in the future?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ordinators should give questionnaires to trainees several days before the course en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ollect questionnaires the day before the course end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Extract the most relevant conclusions overnight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iscuss the conclusions with trainees the next mo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course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After the course, coordinators should summarise the questionnai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clude the summary in the final course report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Refer to the results when planning the next cours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3300"/>
                </a:solidFill>
                <a:latin typeface="Arial"/>
              </a:rPr>
              <a:t>Last question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9640" y="1398600"/>
            <a:ext cx="7777440" cy="48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Kirkpatrick’s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vels of training evaluation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1 = reac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2 =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3 = behaviou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vel 4 = result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1 (= reaction) measures participants’ satisfa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owest level of measurement, nonetheless import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cludes aspects before and during the cours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cc3300"/>
                </a:solidFill>
                <a:latin typeface="Arial"/>
              </a:rPr>
              <a:t>Relevance of evalu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vel 2 (= learning) measure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cquisition of new knowledge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mprovement of skill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hange in attitud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Rainer Zachmann</dc:creator>
  <dc:description/>
  <cp:keywords>pgis training kit</cp:keywords>
  <dc:language>en-US</dc:language>
  <cp:lastModifiedBy>Rainer Zachmann</cp:lastModifiedBy>
  <dcterms:modified xsi:type="dcterms:W3CDTF">2010-06-30T10:25:25Z</dcterms:modified>
  <cp:revision>455</cp:revision>
  <dc:subject/>
  <dc:title>Presentation - Training Eval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