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7EF3-9D02-4C2D-9A97-A9B9CEA0A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ased on mutual  trust gives communities the confidence to open up and participate meaningfully in the entire participatory mapping process. Facilitators are more often outsiders and so there is a need to establish good rapport with the different groups in the communi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more detailed description on the sequence of the steps, make reference and refer the participants to the handout on community ground prepa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y, particularly with marginalised groups (e.g. nomads, squatters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FBF2-873F-41EC-863F-165191E1C0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1024-64AF-41BB-95CC-250CAEA7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E87A-3A4A-49EC-9E12-9204F22C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BA65-725C-4F46-9684-78AF01CB2C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6E9FE-E8A3-4611-8BC7-3D324F52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79555-E947-4A69-B2DA-847EC12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38963-3463-43AB-97BE-47ACCF9D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F19AB-D837-436A-965C-4915AFE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98B74-0B91-4803-B05D-E70E0B6F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BD06F-E945-4F5F-9828-2ACCA81B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F6017-5B36-44D5-B476-4716449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D1C9-01A0-4049-8067-C7B05554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0C1A7-2B2A-46BE-9EEA-942DDE99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F8AF4-0CCB-483F-B581-DAD1556C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28653-FA82-483B-BE54-0D2A291A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0CB08-E937-46CD-809D-5E49A392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96D70-A71F-4AFA-9A62-480706D4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5276-CE22-46E9-8743-A228640A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3C83-4E59-418D-BD55-7BA97862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EB23-1AA0-444E-8392-EA20F619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2A5A8-8EDC-4E2A-821D-D027720B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C7B7-F1C6-4978-90E7-15C39D32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11A9-C22C-41A4-AB3C-F0FDCB9F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6CE2-6AB0-4BDA-9BC1-CE760C50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7728-A5B0-4D43-AF63-B1FB20699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061-A559-4B61-8B2E-9E2AFAD7D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mmunity Ground Preparation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tep-by-step Processes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9600" y="479736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By: Samuel Musembi Musy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4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reparing communities for feedback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gular community feedback during the participatory mapping process is importa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eedback may not be effective unless communities are involved in designing the feedback mechanism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eedback needs to take into consideration strengths and weaknesses of the different groups (e.g. literacy levels, language, timing and gender constraints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is ensures participation in validating the findings and sustains interest and enthusiasm  in the entire proces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Using participatory mapping finding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t is important to get the communities to start thinking about  the bigger change they want to see from the onse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t is important for the communities to visualise their  vision  of  change, the audience they want to influence and how the outcomes of the participatory mapping can contribute to the chang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s helps in developing action plans to ensure that the results of the participatory mapping have positive outcomes in their liv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tep-by-step proces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stablish contact and building rappor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amiliarise with community surrounding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community support structur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nage community relation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rrange community feedback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se participatory mapping finding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Building relationship with communities is key for a successful participatory proces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ime is of the essence to prepare communities for participation and get buy-in for participatory mapping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ime must be created to ensure that before the participatory mapping process begins, the communities are well-prepared, have a good understanding of the process and see its relevance to their lives.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ep-by-step proces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re is no universal or standardised blueprint for community ground preparatio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courage facilitators to use their own creativity and develop their own process gui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oposed generic sequenc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stablish initial contacts and build rapport with communiti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amiliarise with the community surrounding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dentify community support structur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anage community relations.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epare communities for feedback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Use participatory mapping finding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Establishing contacts and building rapport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uilding rapport between the “outsiders” and the “insiders” is essential for effective participatio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itial contacts could be made with community leaders who then would introduce the team to the wider community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team should share about the participatory mapping process and allow questions because this ensures buy-in by the community.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Familiarising with the community surrounding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ome activities that can help the team learn about the community include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aking transect walks or drives with local people to observe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participating in daily activities of the communities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listening to conversations in public places, conducting joint mapping or oral histories and drawing daily activity schedules and seasonal calendars with different groups;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taying overnight in the villages to listen to histories and folk tale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mmunity support structu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very community has an operating structure or structures; it is good to work through existing on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hare with leaders and the community about the participatory mapping initiative and allow them to reflect about whether the existing structures can support participation for all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gree on how the structures can be made more inclusive and participatory or find alternative ways for the marginalised to participat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naging community relation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ities are always willing to participate in processes if they are clear about the purpose and outcom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arify objectives and benefits of the exercise and avoid creating false expectation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Many communities are likely to be suspicious because they may have participated in projects that did not improve their situatio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arify what the participatory mapping initiative can and cannot off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9:11:14Z</dcterms:created>
  <dc:creator>martens</dc:creator>
  <dc:description/>
  <cp:keywords>pgis training kit</cp:keywords>
  <dc:language>en-US</dc:language>
  <cp:lastModifiedBy>martens</cp:lastModifiedBy>
  <dcterms:modified xsi:type="dcterms:W3CDTF">2009-11-09T14:05:05Z</dcterms:modified>
  <cp:revision>34</cp:revision>
  <dc:subject/>
  <dc:title>Presentation - Community Ground Preparation; Step by Step Proces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