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7"/>
          </p:nvPr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7f7f7f"/>
                </a:solidFill>
                <a:latin typeface="Times New Roman"/>
              </a:rPr>
              <a:t>Support the spread of “good practice” in generating, managing, analysing and communicating spatial inform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56372-4BE6-4939-9225-EC3369A93B1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1E8B5-115F-4058-822E-0CC9ECAD6B1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5390F-99FC-4450-AED2-AA883C0BBBE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ADFF8-D654-4CB2-B0B3-9AAA38BAAAA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DD5E4-2FFC-4EF0-A933-D00F2AB9E43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1A050-B855-474F-ABB3-82CC0F636C0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07094-B0CB-4655-AD8C-840D77C5276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C164B-562C-49FA-A42B-5EA4C248664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8FE12-F1B8-4AEF-AAE6-490CB7D804C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ose who control resources and decision making have power over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ose with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en people are denied access to important resources (e.g. land, water, forest and jobs), “power over”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rpetuates inequality, injustice and pover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5EC99-8C33-4F31-9156-88FB5567346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wer with” results in collective action to claim entitlements and rights and ensure duties are delive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 is represented in forming coalitions to advocate on issues identified through participatory mapp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C0F64-8649-4CB8-A660-5E3BC977FDE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veryone has the capability to participate and contribute in decisions that affect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ticipatory mapping draws on this expression of power and  affirms that communities can map, analyse and use the outcomes of mapping to influence chan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wer within” is the capacity to imagine and have hop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ticipatory mapping processes need to awaken “power within” and trigger passion and commitment to use the outcomes for collective ac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C50D4-8D69-4200-9866-C7C70CFCFF3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mpowerment aims at building confidence and eliminating barriers that underpin exclusion and powerlessn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 involves individual discovery resulting in commitment to pursue chan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58BFA0-5695-47A8-81D6-8D34D9628F4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9D8C84-C815-44F5-AB87-DDAC54A37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525F28-F986-4B7E-B8E7-5111B5137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4684CF-76DF-4B5C-9A5D-0CE436F98B3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B8E975-D66B-44E8-875F-12E384FD3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00CC29-C87D-430C-9D1B-6037255D3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EE9ED7-4A75-4043-905E-53185849E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09AA72-EF0A-4BFF-B7B9-C5305C70A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4CAA68-083D-4EB8-BA01-CF81400D5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B2535E-D57F-47F0-A2AC-974328CD2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DBC6BA-EC21-45A4-AB49-A9D762815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A0C416-FDEA-485F-9A57-34E2D34C1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FD32E2-EFE8-4DFA-BBB9-13AE7F72E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EDE9B2-1C82-43AD-800E-8CEC12FA4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768F79-E678-4079-840B-99BA97ACC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756595-107C-4B44-A5FE-98C6C8940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50A253-B638-4D24-9AD0-ED5B07B2F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FEA946-D4E5-4E15-A58A-4B65DC33F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7A67C9-0E0E-44D0-B2E0-9BB54091E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93AF0B-574E-45BF-BD9E-ED7E58B25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D576BF-AEAA-4EE0-9056-E48BC9E84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A7E81B-5F23-4649-BC5A-69B1ED825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B337D-A326-40E6-A6F1-1E45E3017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FB06CB-2E79-4AB3-BE3A-6992476E9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096FD-EE09-46FC-BBED-18713E88102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7"/>
          <p:cNvSpPr/>
          <p:nvPr/>
        </p:nvSpPr>
        <p:spPr>
          <a:xfrm>
            <a:off x="971640" y="282600"/>
            <a:ext cx="72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660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0" descr="cc_license_by-nc-sa"/>
          <p:cNvPicPr/>
          <p:nvPr/>
        </p:nvPicPr>
        <p:blipFill>
          <a:blip r:embed="rId2"/>
          <a:stretch/>
        </p:blipFill>
        <p:spPr>
          <a:xfrm>
            <a:off x="4145040" y="6381720"/>
            <a:ext cx="838080" cy="295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AFDC3-8A26-4776-988C-00708A033BD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Power and Empowermen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Prerequisite to Participation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3350520" y="4869000"/>
            <a:ext cx="224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69696"/>
                </a:solidFill>
                <a:latin typeface="Arial"/>
              </a:rPr>
              <a:t>By: Samuel Musyo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617400" y="6281640"/>
            <a:ext cx="20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Unit: M04U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6" descr="cc_license_by-nc-sa"/>
          <p:cNvPicPr/>
          <p:nvPr/>
        </p:nvPicPr>
        <p:blipFill>
          <a:blip r:embed="rId1"/>
          <a:stretch/>
        </p:blipFill>
        <p:spPr>
          <a:xfrm>
            <a:off x="4151160" y="6375240"/>
            <a:ext cx="838440" cy="2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3300"/>
                </a:solidFill>
                <a:latin typeface="Arial"/>
              </a:rPr>
              <a:t>The conflicts and risks of empowerment</a:t>
            </a:r>
            <a:br>
              <a:rPr sz="4000"/>
            </a:b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Empowerment involves individual discovery and the commitment to pursue</a:t>
            </a: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 change; this </a:t>
            </a: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leads to questioning our identities, roles, vision for change and the world around us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Fear, discomfort and anger among those involved and the larger community could easily occur as a result of this questioning.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Some people could easily withdraw, even if the process holds promises for long-term change.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There could be calls for developing new leadership to spearhead change.</a:t>
            </a: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3300"/>
                </a:solidFill>
                <a:latin typeface="Arial"/>
              </a:rPr>
              <a:t>The conflicts and risks of empowerment</a:t>
            </a:r>
            <a:r>
              <a:rPr b="1" lang="en-GB" sz="3600" spc="-1" strike="noStrike">
                <a:solidFill>
                  <a:srgbClr val="cc3300"/>
                </a:solidFill>
                <a:latin typeface="Arial"/>
              </a:rPr>
              <a:t> </a:t>
            </a:r>
            <a:br>
              <a:rPr sz="4000"/>
            </a:br>
            <a:endParaRPr b="0" lang="en-US" sz="3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As a political change process, it involves the powerless challenging the powerful: it can put those involved in  danger.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Include those from the dominant class and ensure their buy-in so they do not feel threatened; ensure that they do not hijack the process and exclude the weaker groups.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Ensure that all the groups reflect on their power/powerlessness: exercising power rightly can contribute to a just  society and realising  rights for all.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Presentation outline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Understanding power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expressions of power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what is empowerment?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the conflicts and risks of empowerment</a:t>
            </a: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We need to appreciate power as an important factor in participatory processe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We need to  reflect on our own power and how  to create opportunities for empowerment and participation by different groups.</a:t>
            </a: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Understanding power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Mostly understood negatively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control and oppression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Power from a positive point of view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a force that enables/facilitates processes that have positive outcomes in the lives of people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Understanding power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Essential part of community participatory processes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The most sensitive and difficult topic to address in any participatory process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Essential for genuine participation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Creates opportunities for addressing underlying causes of injustices</a:t>
            </a: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Expressions of power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Power over: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repression, force, coercion, discrimination, corruption and abuse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3300"/>
                </a:solidFill>
                <a:latin typeface="Arial"/>
              </a:rPr>
              <a:t>Expression of power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0920" y="1746360"/>
            <a:ext cx="7961400" cy="403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Power with: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builds on  collective strength, mutual support, solidarity and collaboration to</a:t>
            </a:r>
            <a:r>
              <a:rPr b="0" i="1" lang="en-GB" sz="28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multiply individual talents and knowledge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Expressions of power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Power to: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refers to the unique capabilities and potential of every person to shape his or her life and world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Power within: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individuals’ and communities’ sense of self-worth and dignity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What is empowerment?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Empowerment is a strategy</a:t>
            </a:r>
            <a:r>
              <a:rPr b="1" lang="en-GB" sz="32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and a goal of participatory processe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Participatory mapping should aim to  strengthen and build people’s abilities to make choices and take actions on their own with self-confidence and to change the status quo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7T09:11:14Z</dcterms:created>
  <dc:creator>martens</dc:creator>
  <dc:description/>
  <cp:keywords>pgis training kit</cp:keywords>
  <dc:language>en-US</dc:language>
  <cp:lastModifiedBy>martens</cp:lastModifiedBy>
  <dcterms:modified xsi:type="dcterms:W3CDTF">2010-01-13T14:00:51Z</dcterms:modified>
  <cp:revision>33</cp:revision>
  <dc:subject/>
  <dc:title>Presentation - Power and Empowerme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proval Level">
    <vt:lpwstr/>
  </property>
  <property fmtid="{D5CDD505-2E9C-101B-9397-08002B2CF9AE}" pid="3" name="Assigned To">
    <vt:lpwstr/>
  </property>
  <property fmtid="{D5CDD505-2E9C-101B-9397-08002B2CF9AE}" pid="4" name="Categories">
    <vt:lpwstr/>
  </property>
  <property fmtid="{D5CDD505-2E9C-101B-9397-08002B2CF9AE}" pid="5" name="ContentType">
    <vt:lpwstr>Presentation</vt:lpwstr>
  </property>
  <property fmtid="{D5CDD505-2E9C-101B-9397-08002B2CF9AE}" pid="6" name="Keywords">
    <vt:lpwstr>pgis, training kit</vt:lpwstr>
  </property>
  <property fmtid="{D5CDD505-2E9C-101B-9397-08002B2CF9AE}" pid="7" name="Slides">
    <vt:lpwstr>1</vt:lpwstr>
  </property>
  <property fmtid="{D5CDD505-2E9C-101B-9397-08002B2CF9AE}" pid="8" name="Subject">
    <vt:lpwstr/>
  </property>
  <property fmtid="{D5CDD505-2E9C-101B-9397-08002B2CF9AE}" pid="9" name="_Author">
    <vt:lpwstr>Giacomo Rambaldi</vt:lpwstr>
  </property>
  <property fmtid="{D5CDD505-2E9C-101B-9397-08002B2CF9AE}" pid="10" name="_Category">
    <vt:lpwstr/>
  </property>
  <property fmtid="{D5CDD505-2E9C-101B-9397-08002B2CF9AE}" pid="11" name="_Comments">
    <vt:lpwstr/>
  </property>
</Properties>
</file>