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6CCA-6839-4799-A413-E8E5440D6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y, place or locality: A</a:t>
            </a:r>
            <a:r>
              <a:rPr b="1" lang="en-US" sz="1200" spc="-1" strike="noStrike">
                <a:solidFill>
                  <a:srgbClr val="000000"/>
                </a:solidFill>
                <a:latin typeface="Arial"/>
              </a:rPr>
              <a:t> </a:t>
            </a:r>
            <a:r>
              <a:rPr b="0" lang="en-US" sz="1200" spc="-1" strike="noStrike">
                <a:solidFill>
                  <a:srgbClr val="000000"/>
                </a:solidFill>
                <a:latin typeface="Arial"/>
              </a:rPr>
              <a:t>community can be seen as where people share something in common (e.g. village, river, forest, school, health centre, etc.) and this shared element is understood geograph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r>
              <a:rPr b="1" lang="en-US" sz="1200" spc="-1" strike="noStrike">
                <a:solidFill>
                  <a:srgbClr val="000000"/>
                </a:solidFill>
                <a:latin typeface="Arial"/>
              </a:rPr>
              <a:t> </a:t>
            </a:r>
            <a:r>
              <a:rPr b="0" lang="en-US" sz="1200" spc="-1" strike="noStrike">
                <a:solidFill>
                  <a:srgbClr val="000000"/>
                </a:solidFill>
                <a:latin typeface="Arial"/>
              </a:rPr>
              <a:t>In interest or “elective” communities, people share a common characteristic other than place. They are linked together by factors such as religious beliefs or occupation. In this way, we may talk about the “pastoralist community”, the “farming community” and the “Christian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cultural: A community may be brought together by a shared origin and/or identity (e.g. tribe and race) and shared socio-economic practices (e.g. agrarian, nomadic pastor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a:t>
            </a:r>
            <a:r>
              <a:rPr b="1" lang="en-US" sz="1200" spc="-1" strike="noStrike">
                <a:solidFill>
                  <a:srgbClr val="000000"/>
                </a:solidFill>
                <a:latin typeface="Arial"/>
              </a:rPr>
              <a:t> </a:t>
            </a:r>
            <a:r>
              <a:rPr b="0" lang="en-US" sz="1200" spc="-1" strike="noStrike">
                <a:solidFill>
                  <a:srgbClr val="000000"/>
                </a:solidFill>
                <a:latin typeface="Arial"/>
              </a:rPr>
              <a:t>A community may be formed by shared language or dialect (e.g. the Swahili-speaking community, the French-speaking communit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you could first ask participants to share some  assumptions people make about participation. If they mention some of the ones in your slides, acknowledge them but also allow new ones to emerge. Make the session more intera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unity  is harmonious, but there are always internal differences, tensions and struggles caused by factors such as gender, age, class, ethnicity and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unity is homogenous,  but they are characterised by unequal power relations between different groups (e.g. women, youth, children, landless and landlords) with different  power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unity is inclusive and willing to participate, but powerful and articulate members of the community are the most favoured in participatory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ory mapping, because of its focus on natural resources, land use and access to and control of resources, could enlist different and even hostile reactions which could make those who feel threatened (e.g. the landless) withdraw or remain pass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ful  (e.g. landlords) could easily dominate the entire mapping process and even influence the purpose for which the map is to be used, while disregarding the welfare of the marginal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important to find out and understand the community power dynamics either through informal discussions or observation of community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re not to be answered but rather are pointers or food for thought for the participants to pon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s a rich concept that means different things to different people and organisations  in different settings. For some, it is a matter of principle, for others it is a practice and for  others, it is an end in itself. All these interpretations have mer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er book, </a:t>
            </a:r>
            <a:r>
              <a:rPr b="0" lang="en-GB" sz="1200" spc="-1" strike="noStrike">
                <a:solidFill>
                  <a:srgbClr val="000000"/>
                </a:solidFill>
                <a:latin typeface="Arial"/>
              </a:rPr>
              <a:t>Beneficiaries, Consumers, Citizen: Perspectives on Participation for Poverty Reduction, Andrea Cornwall </a:t>
            </a:r>
            <a:r>
              <a:rPr b="0" lang="en-US" sz="1200" spc="-1" strike="noStrike">
                <a:solidFill>
                  <a:srgbClr val="000000"/>
                </a:solidFill>
                <a:latin typeface="Arial"/>
              </a:rPr>
              <a:t>reflects on these three definitions. See additional readings on these concep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participation: External agents listen to views and define problems an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information giving: People answer questions posed by extractive external agents using long questionnaire surveys. Findings of the process are  neither shared nor checked for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by consultation: People are consulted by external agents; however, problems and solutions are decided upon without their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for material incentives: Local people provide resources (e.g. labour) in return for food, cash or other material incen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participation: Groups are formed to meet predetermined objectives of an external agent. The groups tend to be dependent on external initiators and may become self-depen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participation: Joint analysis is conducted, which leads to action plans and the formation of new local groups or the strengthening of existing ones. The groups take control over local decisions and have a stake in maintaining structures and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mobilisation: Participation occurs by taking initiatives independent of external institutions. Such self-initiated mobilisations and collective action may or may not challenge inequitable distributions of wealth or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2A294-EDC8-4227-89E8-BCBC108B1E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4F48ED3-D097-4150-BFEC-A5DD78F0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63ADD006-C122-40FD-A1E9-8CC639A2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2769A85-AA90-467C-AEE3-82EC2BAEDF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EDEA8A7-4FF6-432E-863D-7673CBA9B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8A58791F-1CAF-474B-8639-8BF1FF5FE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5DEAF95-FDF3-4D09-B2C4-665C76AFF8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4C610BD-8B3B-47B1-8AA9-9A9415526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FD8DB95-04FA-41DD-8EA6-67580A6DA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FB34FEF-EB76-48BE-8BE2-C9E54D93C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86C8984-F254-463C-B02B-A261788E5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sldNum" idx="2"/>
          </p:nvPr>
        </p:nvSpPr>
        <p:spPr/>
        <p:txBody>
          <a:bodyPr/>
          <a:p>
            <a:fld id="{99D97CE6-CAC1-4F70-9341-4565649DB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873A428-0A00-41A6-9812-EFD25479D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9069925-1418-4548-B347-5D82EDAB8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D7C148D-B857-40EC-9E3A-4E3AEA8D9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E54E081-C017-4F8D-A5EA-52E5D5FD91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5BF401B-69B5-41C9-BBFD-97D5EA61E8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3AEC358-CC38-420D-A7FD-A787F27B9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1297FC0-560F-4B4B-A736-22DC55D9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1B8E4E71-638E-42B0-AF56-1BD059FB3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sldNum" idx="2"/>
          </p:nvPr>
        </p:nvSpPr>
        <p:spPr/>
        <p:txBody>
          <a:bodyPr/>
          <a:p>
            <a:fld id="{70D08B48-245E-4ACE-9CCD-83ED95B20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38151A0-6B84-4314-8EA5-19FA9FA4E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B9F3216-F155-423D-92D7-5241F95FB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F23ECBB-489F-4AE7-82BC-18062BD9601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B2C5-EA3A-41BA-8960-D0E308230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00D9-942D-489B-B86D-907F0DF27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a:hlinkClick r:id="rId2"/>
          </p:cNvPr>
          <p:cNvPicPr/>
          <p:nvPr/>
        </p:nvPicPr>
        <p:blipFill>
          <a:blip r:embed="rId3"/>
          <a:stretch/>
        </p:blipFill>
        <p:spPr>
          <a:xfrm>
            <a:off x="4145040" y="6381720"/>
            <a:ext cx="838080" cy="2952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ird Outline Level</a:t>
            </a:r>
            <a:endParaRPr b="0" lang="en-US" sz="2400" spc="-1" strike="noStrike">
              <a:solidFill>
                <a:srgbClr val="5f5f5f"/>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yth of Community </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6576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ng Community and Participation</a:t>
            </a:r>
            <a:endParaRPr b="0" lang="en-US" sz="3200" spc="-1" strike="noStrike">
              <a:solidFill>
                <a:srgbClr val="969696"/>
              </a:solidFill>
              <a:latin typeface="Arial"/>
            </a:endParaRPr>
          </a:p>
        </p:txBody>
      </p:sp>
      <p:sp>
        <p:nvSpPr>
          <p:cNvPr id="92" name=""/>
          <p:cNvSpPr/>
          <p:nvPr/>
        </p:nvSpPr>
        <p:spPr>
          <a:xfrm>
            <a:off x="3355200" y="518148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Samuel M Musyoki</a:t>
            </a:r>
            <a:endParaRPr b="0" lang="en-US" sz="1800" spc="-1" strike="noStrike">
              <a:solidFill>
                <a:srgbClr val="000000"/>
              </a:solidFill>
              <a:latin typeface="Arial"/>
            </a:endParaRPr>
          </a:p>
        </p:txBody>
      </p:sp>
      <p:sp>
        <p:nvSpPr>
          <p:cNvPr id="93" name=""/>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4U01</a:t>
            </a:r>
            <a:endParaRPr b="0" lang="en-US" sz="1800" spc="-1" strike="noStrike">
              <a:solidFill>
                <a:srgbClr val="000000"/>
              </a:solidFill>
              <a:latin typeface="Arial"/>
            </a:endParaRPr>
          </a:p>
        </p:txBody>
      </p:sp>
      <p:pic>
        <p:nvPicPr>
          <p:cNvPr id="94" name="" descr="">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utline of the presentatio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roduc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complexit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nings of particip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How we understand and frame “community” and  “participation” highly influence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 </a:t>
            </a:r>
            <a:r>
              <a:rPr b="0" lang="en-GB" sz="2800" spc="-1" strike="noStrike">
                <a:solidFill>
                  <a:srgbClr val="5f5f5f"/>
                </a:solidFill>
                <a:latin typeface="Arial"/>
              </a:rPr>
              <a:t>how we prepare and engage the communities to participate in the participatory mapping process;  </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hom we  include or exclude  in the entire proces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ur appreciation of the power dynamic, which is key for participation.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munity complexities</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community is a group of interacting people with comm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o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teres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thno-cultural/religious affin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anguag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munity complexities</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ssumptions are that a community i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armoniou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omogenou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nclusiv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willing to participate.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Community complexities</a:t>
            </a:r>
            <a:endParaRPr b="0" lang="en-US" sz="40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Participatory mapping coul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nlist different and hostile reactions from different communit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be easily dominated by the most powerfu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quire prior knowledge about community power dynamics and relations  that could hinder participation.</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munity complexitie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who within the communit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decides who should or should not participat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participates and wh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left out and w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needs to be done to ensure equal opportunities and support for all to participat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anings of participation</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organised efforts</a:t>
            </a:r>
            <a:r>
              <a:rPr b="0" lang="en-US" sz="2400" spc="-1" strike="noStrike" u="sng">
                <a:solidFill>
                  <a:srgbClr val="5f5f5f"/>
                </a:solidFill>
                <a:uFillTx/>
                <a:latin typeface="Arial"/>
              </a:rPr>
              <a:t> </a:t>
            </a:r>
            <a:r>
              <a:rPr b="0" lang="en-US" sz="2400" spc="-1" strike="noStrike">
                <a:solidFill>
                  <a:srgbClr val="5f5f5f"/>
                </a:solidFill>
                <a:latin typeface="Arial"/>
              </a:rPr>
              <a:t>to increase control over resources and regulative institutions on the part of the groups and movements excluded from such controls (UNRISD,1979)</a:t>
            </a:r>
            <a:endParaRPr b="0" lang="en-US" sz="2400" spc="-1" strike="noStrike">
              <a:solidFill>
                <a:srgbClr val="5f5f5f"/>
              </a:solidFill>
              <a:latin typeface="Arial"/>
            </a:endParaRPr>
          </a:p>
          <a:p>
            <a:pPr marL="343080" indent="-343080">
              <a:lnSpc>
                <a:spcPct val="90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 process through which stakeholders influence and share control over development initiatives and the decisions and the resources which affect them (WB Participation Learning Group 1995)</a:t>
            </a:r>
            <a:endParaRPr b="0" lang="en-US" sz="2400" spc="-1" strike="noStrike">
              <a:solidFill>
                <a:srgbClr val="5f5f5f"/>
              </a:solidFill>
              <a:latin typeface="Arial"/>
            </a:endParaRPr>
          </a:p>
          <a:p>
            <a:pPr marL="343080" indent="-343080">
              <a:lnSpc>
                <a:spcPct val="90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Enabling people to realise their rights to participate in, and access information relating to, decision making which affects their lives (DFID, Realising Human Rights for Poor People, 2000)</a:t>
            </a:r>
            <a:endParaRPr b="0" lang="en-US" sz="2400" spc="-1" strike="noStrike">
              <a:solidFill>
                <a:srgbClr val="5f5f5f"/>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anings of participatio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ologi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assive participatio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articipation in information giv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articipation by consultatio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articipation for material incentive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unctional participatio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teractive participation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lf-mobilisation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21:39:21Z</dcterms:created>
  <dc:creator>smusyoki</dc:creator>
  <dc:description/>
  <cp:keywords>pgis training kit</cp:keywords>
  <dc:language>en-US</dc:language>
  <cp:lastModifiedBy>martens</cp:lastModifiedBy>
  <dcterms:modified xsi:type="dcterms:W3CDTF">2009-11-09T13:58:52Z</dcterms:modified>
  <cp:revision>47</cp:revision>
  <dc:subject/>
  <dc:title>Presentation -Myth of Commun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