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2C8A-2993-414A-8BD6-BAD96110E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ased on mutual  trust gives communities the confidence to open up and participate meaningfully in the entire participatory mapping process. Facilitators are more often outsiders and so there is a need to establish good rapport with the different groups in the commun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more detailed description on the sequence of the steps, make reference and refer the participants to the handout on community ground prepa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y, particularly with marginalised groups (e.g. nomads, squatter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09AD-5A34-4559-A715-1E9DEF171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CBC6-15E7-4AA4-BB45-D9A0C7A7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2C87-EFEA-4ABE-AB2D-F7F0E9A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6CCE-D581-45D4-AAAD-17D8CF277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EAD71-9FE1-4011-85B9-B04F3C19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5F18A-3FA2-4DE7-92F9-6026CD6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D10EB-440E-409C-9910-12726B8C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AEACD-BF9C-4F11-8C9A-16E50E50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6951-12CB-4E3D-9D27-4467B4FE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2B46F-ADE1-4B38-B4F8-7E9CFD74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92FA-15FF-495C-9A24-E3F31EF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646A-642D-49AE-8F3F-95CD670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BBD09-55F2-43FD-A138-2FEDBA7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A5453-A0F4-47DE-B263-F66C248D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81BB5-B627-48F2-88C5-20F1F8B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A57FE-7FAB-4F1B-87C3-251CB950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C0415-5E13-4F0D-8862-E03D5DF7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0690-254B-479D-A2F8-77229849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D90E-2825-4D76-8473-679CB4F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7EE8-3D7A-4CC6-BD2C-86AF5CA0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F376-CACD-43EE-B2D5-A27CFB7D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E18F-E8E1-40A5-9784-3C52744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D93B-1CC0-4134-84FF-DA8AFE7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791B-662A-4994-9EC4-E4B1DF4C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294-A726-47C6-8AE0-8D64F0C2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67A2-C310-4217-B965-0AF065D64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munity Ground Preparation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tep-by-step Processe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9600" y="47973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Samuel Musembi Musy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4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eparing communities for feedback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gular community feedback during the participatory mapping process is importa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edback may not be effective unless communities are involved in designing the feedback mechanism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edback needs to take into consideration strengths and weaknesses of the different groups (e.g. literacy levels, language, timing and gender constraint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is ensures participation in validating the findings and sustains interest and enthusiasm  in the entire proces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Using participatory mapping finding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t is important to get the communities to start thinking about  the bigger change they want to see from the onse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t is important for the communities to visualise their  vision  of  change, the audience they want to influence and how the outcomes of the participatory mapping can contribute to the chang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s helps in developing action plans to ensure that the results of the participatory mapping have positive outcomes in their liv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ep-by-step proces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stablish contact and building rappor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miliarise with community surroundin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community support structu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nage community rela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rrange community feedback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e participatory mapping findin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uilding relationship with communities is key for a successful participatory proces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e is of the essence to prepare communities for participation and get buy-in for participatory mapp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ime must be created to ensure that before the participatory mapping process begins, the communities are well-prepared, have a good understanding of the process and see its relevance to their lives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ep-by-step proces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is no universal or standardised blueprint for community ground prepar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courage facilitators to use their own creativity and develop their own process gui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oposed generic sequenc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stablish initial contacts and build rapport with communiti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amiliarise with the community surrounding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dentify community support structur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anage community relations.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epare communities for feedback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se participatory mapping finding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stablishing contacts and building rapport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uilding rapport between the “outsiders” and the “insiders” is essential for effective particip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itial contacts could be made with community leaders who then would introduce the team to the wider community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team should share about the participatory mapping process and allow questions because this ensures buy-in by the community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Familiarising with the community surrounding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me activities that can help the team learn about the community include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aking transect walks or drives with local people to observe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participating in daily activities of the communities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listening to conversations in public places, conducting joint mapping or oral histories and drawing daily activity schedules and seasonal calendars with different groups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taying overnight in the villages to listen to histories and folk tale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mmunity support structu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ery community has an operating structure or structures; it is good to work through existing 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hare with leaders and the community about the participatory mapping initiative and allow them to reflect about whether the existing structures can support participation for al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gree on how the structures can be made more inclusive and participatory or find alternative ways for the marginalised to participa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naging community rel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ties are always willing to participate in processes if they are clear about the purpose and outcom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arify objectives and benefits of the exercise and avoid creating false expecta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ny communities are likely to be suspicious because they may have participated in projects that did not improve their situ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arify what the participatory mapping initiative can and cannot off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9:11:14Z</dcterms:created>
  <dc:creator>martens</dc:creator>
  <dc:description/>
  <cp:keywords>pgis training kit</cp:keywords>
  <dc:language>en-US</dc:language>
  <cp:lastModifiedBy>martens</cp:lastModifiedBy>
  <dcterms:modified xsi:type="dcterms:W3CDTF">2009-11-09T14:05:05Z</dcterms:modified>
  <cp:revision>34</cp:revision>
  <dc:subject/>
  <dc:title>Presentation - Community Ground Preparation; Step by Step Proces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