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0C77-C158-4751-80FA-E477419B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ased on mutual  trust gives communities the confidence to open up and participate meaningfully in the entire participatory mapping process. Facilitators are more often outsiders and so there is a need to establish good rapport with the different groups in the commun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more detailed description on the sequence of the steps, make reference and refer the participants to the handout on community ground prepa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y, particularly with marginalised groups (e.g. nomads, squatter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55BD-1A36-4E0E-ADB2-A8213B96F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66D2-6D12-4CD7-ADEF-72F01B7E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F2FB-7F89-4E4C-864F-CA16FF5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508F-2419-4E78-A923-CC0CAA7CF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59C0-F398-45C7-A9AF-16B20C31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282E3-3D04-41F0-9B8A-027A911A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9E7BF-5320-422F-BC78-0C2EDFE7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3A4BE-EEBC-44F5-B80F-12507F92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555E4-1F7E-48A0-9545-98186933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58F63-4F36-41AD-A8F4-E06B48A0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DFF25-BA68-4FF4-9B2D-5C25F88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3543-3884-4A5E-AB8A-C950978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5E761-CC53-4E2D-9B9C-B53C9DF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8C65E-FC79-4120-8CF5-9B611AA2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95664-F0B9-486D-AB33-7F1E180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523CD-EFFF-4F0C-A825-683B1174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1EF30-D445-4D70-9174-0CEB9BC3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3F53-89E0-4A7E-920E-05D81F0F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7C68-0398-4D22-817B-B0B054C3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76C7-3013-4A90-AF2C-37A764AA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C8E9-96B2-4286-A2D3-C8DD0959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F1BC-453F-4747-940E-171C0DF0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EFF0-B547-430C-B79F-1CF9CD4F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6BDD-3AA2-43F6-ADFD-B8F9121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492-7568-4161-A4DD-07FF92055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D764-0710-4809-8D3C-E9924A521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munity Ground Preparation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tep-by-step Processe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9600" y="47973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Samuel Musembi Musy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4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eparing communities for feedback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gular community feedback during the participatory mapping process is importa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edback may not be effective unless communities are involved in designing the feedback mechanism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edback needs to take into consideration strengths and weaknesses of the different groups (e.g. literacy levels, language, timing and gender constraint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is ensures participation in validating the findings and sustains interest and enthusiasm  in the entire proces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Using participatory mapping finding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t is important to get the communities to start thinking about  the bigger change they want to see from the onse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t is important for the communities to visualise their  vision  of  change, the audience they want to influence and how the outcomes of the participatory mapping can contribute to the chang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s helps in developing action plans to ensure that the results of the participatory mapping have positive outcomes in their liv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ep-by-step proces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stablish contact and building rappor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miliarise with community surroundin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community support structu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nage community rela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rrange community feedback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e participatory mapping findin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uilding relationship with communities is key for a successful participatory proces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e is of the essence to prepare communities for participation and get buy-in for participatory mapp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ime must be created to ensure that before the participatory mapping process begins, the communities are well-prepared, have a good understanding of the process and see its relevance to their lives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ep-by-step proces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is no universal or standardised blueprint for community ground prepar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courage facilitators to use their own creativity and develop their own process gui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oposed generic sequenc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stablish initial contacts and build rapport with communiti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amiliarise with the community surrounding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dentify community support structur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anage community relations.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epare communities for feedback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se participatory mapping finding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stablishing contacts and building rapport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uilding rapport between the “outsiders” and the “insiders” is essential for effective particip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itial contacts could be made with community leaders who then would introduce the team to the wider community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team should share about the participatory mapping process and allow questions because this ensures buy-in by the community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Familiarising with the community surrounding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me activities that can help the team learn about the community include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aking transect walks or drives with local people to observe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participating in daily activities of the communities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listening to conversations in public places, conducting joint mapping or oral histories and drawing daily activity schedules and seasonal calendars with different groups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taying overnight in the villages to listen to histories and folk tale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mmunity support structu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ery community has an operating structure or structures; it is good to work through existing 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hare with leaders and the community about the participatory mapping initiative and allow them to reflect about whether the existing structures can support participation for al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gree on how the structures can be made more inclusive and participatory or find alternative ways for the marginalised to participa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naging community rel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ties are always willing to participate in processes if they are clear about the purpose and outcom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arify objectives and benefits of the exercise and avoid creating false expecta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ny communities are likely to be suspicious because they may have participated in projects that did not improve their situ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arify what the participatory mapping initiative can and cannot off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9:11:14Z</dcterms:created>
  <dc:creator>martens</dc:creator>
  <dc:description/>
  <cp:keywords>pgis training kit</cp:keywords>
  <dc:language>en-US</dc:language>
  <cp:lastModifiedBy>martens</cp:lastModifiedBy>
  <dcterms:modified xsi:type="dcterms:W3CDTF">2009-11-09T14:05:05Z</dcterms:modified>
  <cp:revision>34</cp:revision>
  <dc:subject/>
  <dc:title>Presentation - Community Ground Preparation; Step by Step Proces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