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4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8" name="PlaceHolder 5"/>
          <p:cNvSpPr>
            <a:spLocks noGrp="1"/>
          </p:cNvSpPr>
          <p:nvPr>
            <p:ph type="ftr" idx="3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7f7f7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4D62-7633-431F-84D6-0E735E3B2B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FA5A-45E4-4E19-8725-53F74FF0C0A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F222-48E6-4D8F-A624-2E201C7916A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C2035-E84D-4442-B220-1828F5E3B63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CA51-BEA3-497E-A1EE-F927FE6CC7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B10C-8B15-4677-925B-A7405B4C25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2B55-8CC8-4BDA-979C-D767493092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F564-14F2-4ADD-9BA3-40D21CA873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exam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ho live in or near the relevant forests, people who live further away but who use these forests, forest officials, timber company managers, environmentalists, politicians, public servants, national citizens, consumers, forest authorities, central government agencies, local government agencies, national NGOs, academics, researchers and don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nsider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interests in forests are legitim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role of a stakeholder power analysis might be to examine the legitimacy of their clai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9B5C-CE4D-4750-876D-CA7B2CD579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ers connected with an issue, a project or intervention (e.g. participatory mapping) in one way or another</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ests and expectations of  people, groups or organisations significant to the issue, project or intervention (e.g. participatory mapping)</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80C7-CD16-4BE8-B0A6-0843309DA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04U03 Handout 4T for a detailed description of these ste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CC0B-D5D9-4717-B45A-F9E367A9FB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0493-800D-4FE2-AE19-AD0B3E01217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rther information and tips for responses to these questions, refer to the handout and exercise on stakeholder and power analys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E27AFF-4DC7-43AC-92B8-9EDE6D1E6A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8FE9601F-754A-4188-B7A1-EDF0F7A2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35DC3F7-9CAC-47CE-B37A-D699716C9B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66028F-D243-4C31-9685-65085CAD38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4F307DA-59B6-4CCF-B6C3-C64182D5BB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418E05-A764-46C9-8DD2-1611C6F8F3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0E1F59-B9C1-431D-BC65-421F26312AF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31A9C5-5DCF-437E-B45A-C8C547923C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41EA75-7932-4F7C-9B3B-D196A1D9DCA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2C06F89-1E2E-4F8C-964B-F647EA3C513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72103E-A65F-498B-B96A-C8C7CAD42EE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E4BFE1F-32BB-432E-B6AE-C7A496B6AA6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C833863E-BA2E-4E68-8025-BD47EF803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AFA8C4-1AB8-451B-B3D2-99EC3B5324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03F006-6040-4D25-9235-AEDFDB216BF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3685797-54AB-4AD1-9C55-DF78ECAEE2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0A7C561-4C5F-405D-890E-25E9E4673B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A95FF35-CA6A-4F4B-A6FC-32B2D640C5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2CD0A60-3764-4673-BBB4-FF15095F9E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0ED07CC-635B-4AD2-88C9-4340BD0992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AFFBD3-EBEB-47F5-92A7-AAD1717BAA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89A2B8B-F526-4700-9D2F-3D7C6379B0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5872F58-C9C4-4642-8E83-EB574849618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A080270F-4C48-4A4D-9901-4171DBA61E9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BD675E9-7E4F-4E03-84E1-2515B1995B1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8C70266-F5B5-4659-9E5B-D8421FE9BD3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8A4A8D1-3F9C-4F58-B7F1-B2EAA78F08E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E8AF294-3DDA-447F-95DF-A5EE88D47E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D15CA37-6089-4A37-BF94-DC55947603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DF1FA23-1DFB-4631-AE9D-427FE03BD6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5299915-3A29-4436-89AB-DCF43C16D7C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F86942-F667-4F32-A80D-5AEDCCE888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03BBFF-3F83-4C84-BB46-2594B73146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5B1B00-FCB4-4051-9F47-DFEC3C43E4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DB4B1221-BB92-4EC7-A601-32B31EB31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BC56046-1977-4E87-AC26-E62C5750A60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30178FF-3EFE-419D-A1DF-536853A297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52280C9-F739-4360-98E4-55F5D3044FA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21331DE-14D8-4B3D-9D2C-A13F1693195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8899966-C9A3-497E-BCE3-D820B9004C3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83BDEB1-5B15-4A04-A22D-5143B26542B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D75F944-2CCA-45A8-9F1C-A6C488268D7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4D9B5A4-E358-4F70-AB1E-013E1CE6FDA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A6B52B6-5AC7-40C9-B634-94D7280BD51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B325C62-44B7-428B-97D6-0106FFD8FBE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80E16E8-CF4E-4522-999E-E661457E8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8AD865-6DC8-4465-BD3C-FAD86FA7A14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90DCB56-F2BA-4A16-876D-3A84D9771CF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38FDDBD-8922-44FE-9162-1491E756BC9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845E01A-E18C-4714-964F-B405C052510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3CE21E5-651B-4446-BA27-B48267602CB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444E705-73D0-494B-AD18-4502177B9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6257FCF3-9776-428D-B2DE-DF90B6616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BA5D5E3-02C0-4829-9558-48345CE8B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90C9B806-255A-47B0-8DAE-2B73C31E0D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B588E0A-E455-449C-8953-9E93173914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0B8EFDBA-A558-4B10-9A40-84ED302F0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E89818B-DD84-4B1B-A1BC-E3A5FB2D6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1DB8BED-D9D4-427B-8F47-C4CD8B3D5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DE2B94D-ADB9-4806-916E-582A26338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B4FC5CB-2688-4436-862B-5B40B8B717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52BCF59A-3334-4FE1-BEEB-6C71D3E84A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A07A0AF-5F74-4497-8296-A50BFBBA221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FE6F45-563B-4ED1-B65F-5A1EA9C305F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423968-25B2-4EC3-ABD4-10865963C8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2ACDEB-53F9-4CDD-AC30-2B15453C85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B2B1E2-3059-4001-B6F6-5AF9B6FEDF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BE451E3-2D04-4228-BF0D-3E0B4EB63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CE7A29-2ECC-4DF4-B33E-953E30307F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0C7591-70E8-4273-8174-FB30E20A45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6F53FC2-A381-43A7-8C2F-718E53812C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9CA573-C8A3-4AE1-A402-C9A289ED199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4FAA6A-CEB7-45CE-9433-5F99582B4A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6949578-8D10-4096-A620-C6C4C93103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810F6C3-3AF9-4A10-867F-C79DB7C6094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F90400D-64CB-4414-94FD-798D459751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A8AB76-E27F-4B7B-8874-90DC89E870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40C2AD-0024-40AB-AE74-58C7102967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5508CCD-233B-48F3-AB82-C4D2CAAD6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63FA08-BC60-44FB-BA53-74BC905840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F6BC26-F44F-429A-BB9B-CC1F9D24913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3E08D1-FB50-47C6-ACA4-A1BB9B42D0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1EB399-AD99-45D5-B6B2-C5E38711BA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1AF3EB-4227-4538-9BC6-305EBDE87E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62E646-02CA-4418-A177-F4D8618AD2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0E48C9-9172-4C67-B718-EAB72D1AC2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460190-2E83-402C-9237-B55FFD61CCF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A27BA8-2B1C-4BFE-B996-42D446761FA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AF7D39-A512-4A87-A9C7-627F54D8355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519E05A-E433-40C1-9562-F67EB0F90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0679B8-4C13-4D4E-8AF7-5059EACE35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BD5A758-9865-44FA-B586-5261FAF9D6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65199E-2934-4160-BF11-C65CA85A89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1BFD11-C25E-4CC8-9D7D-D7525714EB6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02D3C8-AE68-4788-B20D-53ADF631E34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C8AB1E-6FD8-472A-B2B8-963117F837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85E47E-612A-42CB-B0B8-BEDA94A4FCA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3B88C3-B32D-4DD0-9DA9-DBA25C8F67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386FB6-3852-440D-B724-BC32296F6BC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C3B9C23-D4C8-47E5-9805-E4F771E8F73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FC4758D7-FE56-47AA-B57F-218B75E72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2430820-890A-4C22-877C-7DC97E7EE54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75B08F-3763-4AFF-9D7D-1B9DD125C36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18282C-8083-457C-97E5-DB338A7C797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260494-A339-42D2-956B-4E839F311B7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813452-E8D5-4ADA-BEBA-E6C7F5847A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75ADAD9-1E1E-4435-8D38-A8FFED86777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43ED78-4930-4820-BB0C-249B11E80BC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C3F892-E08B-43CF-8DD3-C63159A592E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3E549F-DB7B-4B95-A199-21E7CEF774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ECC5064-D24E-4CF3-920D-40BF865290F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1A89467-DAD3-4189-A273-76BF06534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516125D-2E67-47F5-943E-377DEB31210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B965BED-5B6C-4BBB-8057-3B86D569EF1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2CE30F3-E8CB-4D74-BD2B-D6FE6B5F54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F00109B-3722-41E4-8475-677D60D43E8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2DA1A4-53FE-460E-AF57-ACF24EE9AF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4EAA1E4-57AE-441C-A464-9996DBF5F84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2B526E-6A55-4D58-BEBA-6DF80B1DEBF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9BD2D3-EADA-494C-B564-6968565A09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708056-51CC-4446-A023-77B9C4494AE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7B05B2-E4CA-4161-84BC-A8683BA9E9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5531B87-C72C-488D-A860-EFF840F2A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8AEDF85-411A-4204-972A-54186FF65B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97922D-3181-404E-BF79-53C1B7EA2D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2C1D40-1966-4C8D-805A-59053AC1A9E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3A54E67-B468-4198-8B92-5157819EFCF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4A3DE39-61B6-49D2-87E4-9887D7C818B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D60296B-B0D9-4525-A453-0CF8CE56ACD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EE24CD-E581-42BD-B649-1BBC839044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617548-57C7-43EF-B04D-95D85FEDAC1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467BBAB-E5C3-452B-9285-241B9887FC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EA763C0-3D49-4496-B862-339C35DB30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AB41962-DFC9-4B28-B320-8F8471F9C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AF80F9D-7639-4F91-BAFB-B39DAE74624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316576D-B880-4FF0-BB17-8869088C90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C89A89-440B-4FE4-89CD-1E7406F5FB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6F9E6B-5127-4B95-B8E6-B6C34F6348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14128EA-AD8B-4B03-8B59-EA259C2DDFA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89FA08B-4858-4F25-B348-0C93A2BD8DD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9C11793-6DA8-43B3-A357-F44030C3637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661491D-7B37-4DFD-A152-93DBF28B981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283AE8-8487-4DE4-9EA7-24C5846472B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879CC7F-D424-4BDE-A4B7-A722C9B3138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F9B8-C266-438F-9C26-C9F3AB62F7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37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37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C585-8BCE-4F9D-8134-81498A581E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13"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415"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B8A1-AF60-4D04-8AAA-25F41CF540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4" name="PlaceHolder 3"/>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4"/>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456" name="PlaceHolder 5"/>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CB02-3BC3-4AC4-8E19-DB37F6240F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4C16-8491-4B23-92D8-023F5511FD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85"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87"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77EF9-5751-47BD-A4EC-23E1D9EBC06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26"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128"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DA54-E1AB-4933-B87F-6BF1176AB80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6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16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6673-7B1C-4681-BE36-1655D8E97B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08"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10"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DF46-33F2-44A8-9408-565D0CFFB25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49"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51"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AB86-B714-4774-B539-FC65138D83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90"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292"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253D-AD6B-4B90-AAE3-F6F61DC2C8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331"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pport the spread of “good practice” in generating, managing, analysing and communicating spatial information</a:t>
            </a:r>
            <a:endParaRPr b="0" lang="en-US" sz="2400" spc="-1" strike="noStrike">
              <a:solidFill>
                <a:srgbClr val="000000"/>
              </a:solidFill>
              <a:latin typeface="Times New Roman"/>
            </a:endParaRPr>
          </a:p>
        </p:txBody>
      </p:sp>
      <p:sp>
        <p:nvSpPr>
          <p:cNvPr id="333"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EE3F-2A2C-4FA6-99E9-181238F05F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akeholder Power Analysis</a:t>
            </a:r>
            <a:endParaRPr b="0" lang="en-US" sz="4400" spc="-1" strike="noStrike">
              <a:solidFill>
                <a:srgbClr val="cc3300"/>
              </a:solidFill>
              <a:latin typeface="Arial"/>
            </a:endParaRPr>
          </a:p>
        </p:txBody>
      </p:sp>
      <p:sp>
        <p:nvSpPr>
          <p:cNvPr id="50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articipatory Mapping</a:t>
            </a:r>
            <a:endParaRPr b="0" lang="en-US" sz="3200" spc="-1" strike="noStrike">
              <a:solidFill>
                <a:srgbClr val="5f5f5f"/>
              </a:solidFill>
              <a:latin typeface="Arial"/>
            </a:endParaRPr>
          </a:p>
        </p:txBody>
      </p:sp>
      <p:sp>
        <p:nvSpPr>
          <p:cNvPr id="502" name="Rectangle 4"/>
          <p:cNvSpPr/>
          <p:nvPr/>
        </p:nvSpPr>
        <p:spPr>
          <a:xfrm>
            <a:off x="2919600" y="5157720"/>
            <a:ext cx="32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Samuel Musembi Musyoki</a:t>
            </a:r>
            <a:endParaRPr b="0" lang="en-US" sz="1800" spc="-1" strike="noStrike">
              <a:solidFill>
                <a:srgbClr val="000000"/>
              </a:solidFill>
              <a:latin typeface="Arial"/>
            </a:endParaRPr>
          </a:p>
        </p:txBody>
      </p:sp>
      <p:sp>
        <p:nvSpPr>
          <p:cNvPr id="50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4U03</a:t>
            </a:r>
            <a:endParaRPr b="0" lang="en-US" sz="1800" spc="-1" strike="noStrike">
              <a:solidFill>
                <a:srgbClr val="000000"/>
              </a:solidFill>
              <a:latin typeface="Arial"/>
            </a:endParaRPr>
          </a:p>
        </p:txBody>
      </p:sp>
      <p:pic>
        <p:nvPicPr>
          <p:cNvPr id="50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likely to resent this mapping process and mobilise resistance against it and against what needs to be done? </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responsible for the plans intended to come out of this participatory mapping process?</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has resources, skills or key information needed for this mapping initiative?</a:t>
            </a:r>
            <a:endParaRPr b="0" lang="en-US" sz="3200" spc="-1" strike="noStrike">
              <a:solidFill>
                <a:srgbClr val="5f5f5f"/>
              </a:solidFill>
              <a:latin typeface="Arial"/>
            </a:endParaRPr>
          </a:p>
          <a:p>
            <a:pPr marL="343080"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se behavior has to change for the success of the participatory mapping initiative?</a:t>
            </a:r>
            <a:endParaRPr b="0" lang="en-US" sz="3200" spc="-1" strike="noStrike">
              <a:solidFill>
                <a:srgbClr val="5f5f5f"/>
              </a:solidFill>
              <a:latin typeface="Arial"/>
            </a:endParaRPr>
          </a:p>
          <a:p>
            <a:pPr marL="343080" indent="-3430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will need to be done to ensure support and participation by all?</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utline of the presentation</a:t>
            </a:r>
            <a:endParaRPr b="0" lang="en-US" sz="4400" spc="-1" strike="noStrike">
              <a:solidFill>
                <a:srgbClr val="cc33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takeholder power analysis and its u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oing stakeholder power analysis: a stepwise approach</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ommunities have many diverse stakeholders with interests and abilities to influence the process and decis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 nature and level of their engagement depends on whether they perceive the process as threatening or supportiv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Stakeholder power analysis and its uses</a:t>
            </a:r>
            <a:endParaRPr b="0" lang="en-US" sz="4400" spc="-1" strike="noStrike">
              <a:solidFill>
                <a:srgbClr val="cc3300"/>
              </a:solidFill>
              <a:latin typeface="Arial"/>
            </a:endParaRPr>
          </a:p>
        </p:txBody>
      </p:sp>
      <p:sp>
        <p:nvSpPr>
          <p:cNvPr id="510" name="PlaceHolder 2"/>
          <p:cNvSpPr>
            <a:spLocks noGrp="1"/>
          </p:cNvSpPr>
          <p:nvPr>
            <p:ph/>
          </p:nvPr>
        </p:nvSpPr>
        <p:spPr>
          <a:xfrm>
            <a:off x="468000" y="1628640"/>
            <a:ext cx="8435880" cy="4896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takeholders are individuals, groups, organisations or agencies that will affect, or will be affected by, the participatory mapping project and its outcom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akeholder power analysis and its uses</a:t>
            </a:r>
            <a:endParaRPr b="0" lang="en-US" sz="4400" spc="-1" strike="noStrike">
              <a:solidFill>
                <a:srgbClr val="cc3300"/>
              </a:solidFill>
              <a:latin typeface="Arial"/>
            </a:endParaRPr>
          </a:p>
        </p:txBody>
      </p:sp>
      <p:sp>
        <p:nvSpPr>
          <p:cNvPr id="512" name="PlaceHolder 2"/>
          <p:cNvSpPr>
            <a:spLocks noGrp="1"/>
          </p:cNvSpPr>
          <p:nvPr>
            <p:ph/>
          </p:nvPr>
        </p:nvSpPr>
        <p:spPr>
          <a:xfrm>
            <a:off x="539640" y="1962000"/>
            <a:ext cx="8436240" cy="4896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ome exampl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Some considerat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Arial"/>
              </a:rPr>
              <a:t>The stakeholder power analysis</a:t>
            </a:r>
            <a:endParaRPr b="0" lang="en-US" sz="4400" spc="-1" strike="noStrike">
              <a:solidFill>
                <a:srgbClr val="cc33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tool used to give an overview of all players connected to an intervention. </a:t>
            </a:r>
            <a:endParaRPr b="0" lang="en-US" sz="3200" spc="-1" strike="noStrike">
              <a:solidFill>
                <a:srgbClr val="5f5f5f"/>
              </a:solidFill>
              <a:latin typeface="Arial"/>
            </a:endParaRPr>
          </a:p>
          <a:p>
            <a:pPr marL="343080" indent="-34308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It identifies, analyses and takes into account  their interests and expectations</a:t>
            </a:r>
            <a:r>
              <a:rPr b="1" lang="en-GB" sz="3200" spc="-1" strike="noStrike" u="sng">
                <a:solidFill>
                  <a:srgbClr val="5f5f5f"/>
                </a:solidFill>
                <a:uFillTx/>
                <a:latin typeface="Arial"/>
              </a:rPr>
              <a:t> </a:t>
            </a:r>
            <a:r>
              <a:rPr b="0" lang="en-GB" sz="3200" spc="-1" strike="noStrike">
                <a:solidFill>
                  <a:srgbClr val="5f5f5f"/>
                </a:solidFill>
                <a:latin typeface="Arial"/>
              </a:rPr>
              <a:t>related to the intervention.</a:t>
            </a:r>
            <a:endParaRPr b="0" lang="en-US" sz="3200" spc="-1" strike="noStrike">
              <a:solidFill>
                <a:srgbClr val="5f5f5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13"/>
                                        </p:tgtEl>
                                        <p:attrNameLst>
                                          <p:attrName>style.visibility</p:attrName>
                                        </p:attrNameLst>
                                      </p:cBhvr>
                                      <p:to>
                                        <p:strVal val="visible"/>
                                      </p:to>
                                    </p:set>
                                    <p:animEffect filter="fade" transition="in">
                                      <p:cBhvr additive="repl">
                                        <p:cTn id="7" dur="2000"/>
                                        <p:tgtEl>
                                          <p:spTgt spid="5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14">
                                            <p:txEl>
                                              <p:pRg st="0" end="0"/>
                                            </p:txEl>
                                          </p:spTgt>
                                        </p:tgtEl>
                                        <p:attrNameLst>
                                          <p:attrName>style.visibility</p:attrName>
                                        </p:attrNameLst>
                                      </p:cBhvr>
                                      <p:to>
                                        <p:strVal val="visible"/>
                                      </p:to>
                                    </p:set>
                                    <p:animEffect filter="fade" transition="in">
                                      <p:cBhvr additive="repl">
                                        <p:cTn id="12" dur="2000"/>
                                        <p:tgtEl>
                                          <p:spTgt spid="51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14">
                                            <p:txEl>
                                              <p:pRg st="1" end="1"/>
                                            </p:txEl>
                                          </p:spTgt>
                                        </p:tgtEl>
                                        <p:attrNameLst>
                                          <p:attrName>style.visibility</p:attrName>
                                        </p:attrNameLst>
                                      </p:cBhvr>
                                      <p:to>
                                        <p:strVal val="visible"/>
                                      </p:to>
                                    </p:set>
                                    <p:animEffect filter="fade" transition="in">
                                      <p:cBhvr additive="repl">
                                        <p:cTn id="17" dur="2000"/>
                                        <p:tgtEl>
                                          <p:spTgt spid="5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16" name="PlaceHolder 2"/>
          <p:cNvSpPr>
            <a:spLocks noGrp="1"/>
          </p:cNvSpPr>
          <p:nvPr>
            <p:ph/>
          </p:nvPr>
        </p:nvSpPr>
        <p:spPr>
          <a:xfrm>
            <a:off x="468360" y="1700280"/>
            <a:ext cx="8229600" cy="4525920"/>
          </a:xfrm>
          <a:prstGeom prst="rect">
            <a:avLst/>
          </a:prstGeom>
          <a:noFill/>
          <a:ln w="0">
            <a:noFill/>
          </a:ln>
        </p:spPr>
        <p:txBody>
          <a:bodyPr anchor="t">
            <a:normAutofit/>
          </a:bodyPr>
          <a:p>
            <a:pPr marL="609480" indent="-60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stepwise approach:</a:t>
            </a:r>
            <a:endParaRPr b="0" lang="en-US" sz="32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evelop purpose and procedures of analysis and initial understanding of the system</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dentify key stakeholders</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nalyse stakeholders’ interests, characteristics and circumstances</a:t>
            </a: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18" name="PlaceHolder 2"/>
          <p:cNvSpPr>
            <a:spLocks noGrp="1"/>
          </p:cNvSpPr>
          <p:nvPr>
            <p:ph/>
          </p:nvPr>
        </p:nvSpPr>
        <p:spPr>
          <a:xfrm>
            <a:off x="468360" y="1700280"/>
            <a:ext cx="8229600" cy="4525920"/>
          </a:xfrm>
          <a:prstGeom prst="rect">
            <a:avLst/>
          </a:prstGeom>
          <a:noFill/>
          <a:ln w="0">
            <a:noFill/>
          </a:ln>
        </p:spPr>
        <p:txBody>
          <a:bodyPr anchor="t">
            <a:normAutofit/>
          </a:bodyPr>
          <a:p>
            <a:pPr marL="609480" indent="-60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A stepwise approach:</a:t>
            </a:r>
            <a:endParaRPr b="0" lang="en-US" sz="32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dentify patterns and contexts of interaction between stakeholders</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ssess stakeholder power and potential</a:t>
            </a:r>
            <a:r>
              <a:rPr b="0" lang="en-US" sz="2800" spc="-1" strike="noStrike">
                <a:solidFill>
                  <a:srgbClr val="5f5f5f"/>
                </a:solidFill>
                <a:latin typeface="Arial"/>
              </a:rPr>
              <a:t>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Assess options and use the findings to make progress</a:t>
            </a:r>
            <a:r>
              <a:rPr b="0" lang="en-US" sz="2800" spc="-1" strike="noStrike">
                <a:solidFill>
                  <a:srgbClr val="5f5f5f"/>
                </a:solidFill>
                <a:latin typeface="Arial"/>
              </a:rPr>
              <a:t> </a:t>
            </a:r>
            <a:endParaRPr b="0" lang="en-US" sz="2800" spc="-1" strike="noStrike">
              <a:solidFill>
                <a:srgbClr val="5f5f5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5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ing stakeholder power analysis</a:t>
            </a:r>
            <a:endParaRPr b="0" lang="en-US" sz="4400" spc="-1" strike="noStrike">
              <a:solidFill>
                <a:srgbClr val="cc3300"/>
              </a:solidFill>
              <a:latin typeface="Arial"/>
            </a:endParaRPr>
          </a:p>
        </p:txBody>
      </p:sp>
      <p:sp>
        <p:nvSpPr>
          <p:cNvPr id="520" name="PlaceHolder 2"/>
          <p:cNvSpPr>
            <a:spLocks noGrp="1"/>
          </p:cNvSpPr>
          <p:nvPr>
            <p:ph/>
          </p:nvPr>
        </p:nvSpPr>
        <p:spPr>
          <a:xfrm>
            <a:off x="395280" y="1341360"/>
            <a:ext cx="8291520" cy="4525920"/>
          </a:xfrm>
          <a:prstGeom prst="rect">
            <a:avLst/>
          </a:prstGeom>
          <a:noFill/>
          <a:ln w="0">
            <a:noFill/>
          </a:ln>
        </p:spPr>
        <p:txBody>
          <a:bodyPr anchor="t">
            <a:normAutofit fontScale="98000"/>
          </a:bodyPr>
          <a:p>
            <a:pPr marL="335880" indent="0">
              <a:lnSpc>
                <a:spcPct val="85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are potential constituencies of this participatory mapping initiative?</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might be adversely affected by the process and its outcomes?</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has existing rights (e.g. sacred places, water springs, grazing land, etc.)?</a:t>
            </a:r>
            <a:endParaRPr b="0" lang="en-US" sz="3200" spc="-1" strike="noStrike">
              <a:solidFill>
                <a:srgbClr val="5f5f5f"/>
              </a:solidFill>
              <a:latin typeface="Arial"/>
            </a:endParaRPr>
          </a:p>
          <a:p>
            <a:pPr marL="335880" indent="-335880">
              <a:lnSpc>
                <a:spcPct val="8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o is likely to be voiceless during and after the process?</a:t>
            </a:r>
            <a:endParaRPr b="0" lang="en-US" sz="3200" spc="-1" strike="noStrike">
              <a:solidFill>
                <a:srgbClr val="5f5f5f"/>
              </a:solidFill>
              <a:latin typeface="Arial"/>
            </a:endParaRPr>
          </a:p>
          <a:p>
            <a:pPr marL="335880"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9:11:14Z</dcterms:created>
  <dc:creator>martens</dc:creator>
  <dc:description/>
  <cp:keywords>pgis training kit</cp:keywords>
  <dc:language>en-US</dc:language>
  <cp:lastModifiedBy>martens</cp:lastModifiedBy>
  <dcterms:modified xsi:type="dcterms:W3CDTF">2010-01-13T14:03:16Z</dcterms:modified>
  <cp:revision>37</cp:revision>
  <dc:subject/>
  <dc:title>Presentation - Stakeholder Power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