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7f7f7f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7952-CAFA-4CC5-91CB-3922FA80C6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8958-B9C4-4783-BBBB-69792EC0B2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E956-3505-4336-9817-EE69AA741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CF2C-C07D-43D5-A8C9-578B6FA9D4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A313-82E6-4242-8FE7-780908955B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D4DF-CE69-4748-A285-E58F001A39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29AA-8D3E-4D57-AE40-39EFD33749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3D77-D86A-4812-A106-2F62CFE3C6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24C6-0422-4C60-8272-D4A68D945D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se who control resources and decision making have power over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se with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people are denied access to important resources (e.g. land, water, forest and jobs), “power over”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petuates inequality, injustice and pove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DF27-408D-437A-96CD-9531A7DDD3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 with” results in collective action to claim entitlements and rights and ensure duties are deli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represented in forming coalitions to advocate on issues identified through participatory map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2B9B-0927-454F-824B-5DA9BDEFF6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ryone has the capability to participate and contribute in decisions that affec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ory mapping draws on this expression of power and  affirms that communities can map, analyse and use the outcomes of mapping to influence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 within” is the capacity to imagine and have h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ory mapping processes need to awaken “power within” and trigger passion and commitment to use the outcomes for collective 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A958-17DF-4C52-A46E-964D9F75A9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owerment aims at building confidence and eliminating barriers that underpin exclusion and powerless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nvolves individual discovery resulting in commitment to pursue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A040-A720-498D-B49F-B1E9470778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4A66-DA63-41AC-A225-0DC2A08E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FCC02-A43D-49F6-B70E-DAE9D4A8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96A0-B686-4620-AC00-58FEA3A7E2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CB084-7A5D-48F1-B23A-FB5E8ADD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A9609-9B20-4529-863A-03FA03A1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5DA96-70E1-481A-8814-8D17409F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B8049-4AF3-4BB8-A4F8-CF2D11C1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479D5-BA1C-4160-9C87-1176FE79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9C21D-3255-4BAC-92D5-A838697B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331A4-B5C5-4F9C-A39C-78C17336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CDAFB-2A12-4E4F-8766-32F9348B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1EE4F-FBCA-44DB-821C-31483DE0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29D65-761C-4B5C-94CB-20ECE99E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C2456-AC57-4F5B-A9E2-962764BC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26A62-773B-4F78-AE74-9F97217A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63D6F-8C44-4901-81ED-0A24BB31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A4E5D-2DAB-4244-9351-F80B3945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EEC7F-5892-451D-B12C-B33BB0E3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174B3-30EE-4904-8703-6D9B9C3E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A0748-B3E0-47B1-9114-F0041193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C621-928E-4D29-B5C6-191833F6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715C0-A01A-42DC-B62D-14BF2920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36CF-35C0-4F76-B832-736499DD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BE51-64FE-43E8-8D96-DD089DF6F1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7BF4-4E53-4369-97F9-3E0A949586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ower and Empowerm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Prerequisite to Particip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350520" y="486900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Samuel Musyo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: M04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The conflicts and risks of empowerment</a:t>
            </a:r>
            <a:br>
              <a:rPr sz="4000"/>
            </a:b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mpowerment involves individual discovery and the commitment to pursue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change; this 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ads to questioning our identities, roles, vision for change and the world around u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Fear, discomfort and anger among those involved and the larger community could easily occur as a result of this questioning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ome people could easily withdraw, even if the process holds promises for long-term change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here could be calls for developing new leadership to spearhead change.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The conflicts and risks of empowerment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s a political change process, it involves the powerless challenging the powerful: it can put those involved in  danger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clude those from the dominant class and ensure their buy-in so they do not feel threatened; ensure that they do not hijack the process and exclude the weaker group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nsure that all the groups reflect on their power/powerlessness: exercising power rightly can contribute to a just  society and realising  rights for all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Understanding powe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xpressions of pow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what is empowerment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the conflicts and risks of empowerment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e need to appreciate power as an important factor in participatory process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e need to  reflect on our own power and how  to create opportunities for empowerment and participation by different groups.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nderstanding powe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stly understood negatively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ontrol and oppress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wer from a positive point of view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 force that enables/facilitates processes that have positive outcomes in the lives of peopl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nderstanding powe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ssential part of community participatory process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most sensitive and difficult topic to address in any participatory proces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ssential for genuine particip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reates opportunities for addressing underlying causes of injustices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xpressions of powe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wer over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repression, force, coercion, discrimination, corruption and abus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Expression of powe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746360"/>
            <a:ext cx="7961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wer with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builds on  collective strength, mutual support, solidarity and collaboration to</a:t>
            </a:r>
            <a:r>
              <a:rPr b="0" i="1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ultiply individual talents and knowledg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Expressions of power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wer to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refers to the unique capabilities and potential of every person to shape his or her life and worl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wer within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dividuals’ and communities’ sense of self-worth and digni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What is empowerment?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mpowerment is a strategy</a:t>
            </a:r>
            <a:r>
              <a:rPr b="1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nd a goal of participatory process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articipatory mapping should aim to  strengthen and build people’s abilities to make choices and take actions on their own with self-confidence and to change the status quo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9:11:14Z</dcterms:created>
  <dc:creator>martens</dc:creator>
  <dc:description/>
  <cp:keywords>pgis training kit</cp:keywords>
  <dc:language>en-US</dc:language>
  <cp:lastModifiedBy>martens</cp:lastModifiedBy>
  <dcterms:modified xsi:type="dcterms:W3CDTF">2010-01-13T14:00:51Z</dcterms:modified>
  <cp:revision>33</cp:revision>
  <dc:subject/>
  <dc:title>Presentation - Power and Empower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