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 type="ftr" idx="26"/>
          </p:nvPr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Times New Roman"/>
              </a:rPr>
              <a:t>Support the spread of “good practice” in generating, managing, analysing and communicating spatial inform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279C7-1ABE-4857-A1B8-478A4C3EB0A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FA66F-B323-4A17-B7D9-E17DEC7041F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See Handout for Trainee: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gal and Political Framework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F89C9-89CA-48B1-8050-D7FCF048F48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ED3C1-0F24-4EA6-A78B-52E2E7B54E5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48415-2E51-4BBF-A0AF-858D657E20D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694CB-E2D4-4F0B-B25F-248EB9964A8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F5022-E992-4622-B1C8-7C9D288DC7D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1CE8C-E6B5-4881-B2BE-ACF4872A28E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843DC-9DB1-4FF8-BEB0-8EC76CE99AF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D532D-7256-4516-A3C9-D7C5E0AD47B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C1564-D94E-400B-B0A4-8B015EE21DB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more information see Module M12, “Introduction to GIS for the Purpose of Practising PGIS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B5E3E-2133-461C-9DAD-E7470FE3C3C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onduct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ercise No. 1: Participants’ experiences with participatory mapp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B8663-13DE-46D0-97B2-F0ACB57B3E7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B2577-72A6-474F-BE78-FCB1588CD22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FC1A1-0D5D-47A2-B8B0-5D79AC86969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F44BA-23F8-4EBE-8EEA-EF858E9ECD1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E5403-2758-4DBD-9E04-F266091E23B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EB324-4950-4E7F-8E10-39D84DF995D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7AAC-8EA7-41DC-9C92-415CD53DE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D473-E8F9-4798-83D0-F8AF13405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8226208-3148-48A5-90C0-599A435B8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0725911-17FD-453C-9DF5-F60A8BC86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58EE694-16FB-441E-91B8-0D80BABBC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FE7139F-E54D-4BFD-93DF-FE803B615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F208E5B-585A-485F-9014-CA841C6B9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FB26DA5-9A99-4502-A022-AF604F345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7559AB9-6B03-454D-B5CF-176F1FB27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C9E3382-31A0-4C6C-9000-E3DA98A22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14E52C4-269B-42C0-926B-A73608050ED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75F8066-7EBE-4E45-B288-03CE9A7D321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ED75-C58F-49FE-BDDE-C0BF3D500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93A0EE9-E24E-49F1-8DDE-976D5AB37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F159A09-88BB-4A73-8530-43861FBA2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76CF75A-A67D-4F53-9D0A-F6F211E15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DE7C83D-F4D6-4FF1-A0C5-6B1E91D79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76DC38B-88BF-486C-8C27-5AB471D28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9DC4CEC-8D21-4546-913A-2D018CFA4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8305583-FED1-4193-B88B-FAF0AADAE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8028EFA-52BF-45AB-924F-1D5C1BC21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D5DCCA6-A62D-4B4F-A836-C5CCCB061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C8F3D52-A161-4F32-942D-6EDCAD886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CEDE-1D9D-46F0-8882-E2422F547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135090F-57E0-4A9D-B189-A20421CDFA3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E0169A-1BBC-421F-854A-BBB332EDD54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EC9CA0-47EB-4433-B88D-494699C1A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80CF53-BE60-4EA0-975B-1AFF9E494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331EB3-C0CE-4492-8AAB-F1EA44503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70AF19-BBE4-4A11-8E94-316BBA456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1C9501-5FFB-4464-988A-D8C479800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66CABA-666D-4600-AD68-4A681064A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A1010A-920C-42F8-8434-7EC1FBA7C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0F5C65-3E2C-4B98-A993-F4790AFCA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334508-359B-4561-9E85-9FD018C0F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05AE88-556E-498B-90FF-A54632829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63B8F3-2B9D-47FC-AB14-8D7C0FAA6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86B65B-7F2C-4509-A2E9-71F9F22D03E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F24994-EFD9-43D2-89AC-6E3BF15ED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FD4F2A-9FA2-4BE4-8DB9-8547C84F5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2B61F1-9293-403B-81C9-D28ACE659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04628F-76DC-4BB2-A13F-8417497F3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BE8C9A-2DC4-4108-817F-DB81903B0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889B0F-8992-4C4E-8472-FE0294B98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7643-E9DE-4DA5-BA98-31245B985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325B86-88E7-4CED-947A-530308550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F7E04A-56D1-42F7-81B7-6D309BE87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90B777-1D4D-4F45-A172-7A3B8767B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3F8391-6CBD-45CD-A3BA-5249279C2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E3514F-90FB-4EA0-8456-422B20243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FAF217-4848-4F83-8C80-70AB69ABE3B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A0387B-F69D-486D-8687-885FFFAA0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929096-009B-4F7C-ADC0-51745D7C9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A28CB6-7C01-46A4-84FC-8FDF3B947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81B446-B865-4316-B0EE-D5DC3CD12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3772-0459-41F5-B644-48862BCF6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59AB87-3CD9-46E9-81D2-C0D49D736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0E1F37-5A02-4A5F-9A59-B030A67F1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BEFF8A-DFCC-4F31-91E9-DEE90B1AE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FBAFB3-A616-491C-8953-B7800305D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7EAD9C-7A8B-4FA7-A250-2C3C986C8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01788C-5A08-4344-B287-249DB928B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24CB3F-F180-447F-BA62-E70C774344F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182103F-15E9-4D75-A397-930888C1749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03FE7A3-E216-4ED6-8AE0-2C28B448C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6B5E16C-3025-446E-9E3F-7955E8692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4F5E-256C-4B2F-A8FE-220DCEE90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2EE691E-4E9D-42D4-ACAA-0B57280DB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DC1C290-161D-42C4-905E-D8C6033AF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8CDE836-3691-405C-B106-D9F40FD42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A48A5CC-0436-4229-A969-F7E6519F9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FFA5C7D-D05E-4CC4-939E-025359E72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1F5F9DB-954C-4A98-96AC-B59477A43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E2E4C18-A935-4EBF-9E83-ED73D9847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E83EA35-EF16-459D-82A1-2ED7ECE48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F03E793-6068-42D7-92C1-21C829CF800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60123F-9778-4BDA-9F5B-BC27A33C561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9493-7787-4CF1-9C7A-6D5589A41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6E1B1D-E580-4290-8579-B2B206185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8AC7E4-0DCF-4F93-A325-3D8370623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7DA034-F43F-49AD-B513-8D2FEA71C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AE7A41-A3E7-4A61-82CE-9225500C6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63CC68-3585-4171-B134-BC8A96AF5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0E540B-398F-4D2B-B4F0-05B4EF465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0BA3C9-6F7E-4D33-98D2-3BA1255D3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D9A3E7-9F9A-4727-BC74-EFC221915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B0A51C-525C-434C-8BA3-AD85D6318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3203CB-845A-491D-8BCF-2CAD1AF54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BB6A-1ACD-4A82-8FD4-1DF48B6F4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060FEE-0462-40D2-8DDD-CFE20BC8BBD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1CEED4-F684-4E4B-A0B0-24498AB8E9A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B06A1D-B6E9-45BA-A051-F0C1FFC4F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037F1C-883A-4455-9B8E-8E887BA05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D1491E-BE3D-46EC-9EB6-B2ABD44A2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7AEF14-828F-441C-BE5B-CD8622F24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D44B56-BEF5-419A-8E4F-1701A83A2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C02EFB-5B99-49D2-A9D5-E0EB3C997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BA91A3-B9FC-4D46-9D1C-205196C49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9FAE89-8722-4A9D-B3D5-22FD93740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70F5-0FED-4B4D-A0B5-C0A76988D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77AF09-6215-4D6A-835C-A73020518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A900F6-EBD6-4BF6-A62F-E439C2A4D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B9C413-4D9D-43AE-98E2-542F1CADAA1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A427D51-D3CF-4B46-A822-EEAD0AB23B2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0130A05-64A3-4583-AE63-484DF0E6E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8BF2644-D0FB-4E1A-88BA-DCE6B557B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052EBD1-3CD7-4087-8D78-C1D1F1EA1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A34FE85-6C7B-4D50-997E-F370C29A5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787503B-0235-4A2B-B0EF-3DE39B49F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33FBAEB-D9FE-4359-8BFC-9F2255098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DDBA-13BE-4055-B0C6-E369232B6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5F10851-3E43-4ABE-8418-4BEA1072A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FB390D5-348D-4419-866B-5D4179EF3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C5FC5F5-0234-479F-AE96-240F5BF65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8E4F98B-4C56-4387-8825-E3BBAEB61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DC2BC17-0187-4E33-B45F-825475FE1B1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C41BB1-41FC-4DEF-B873-EF2C4541C68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F48FB3-8206-49AC-8A7F-DC7A84A95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B5F5D8-0632-4D37-B6BE-1559631F6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83356B-BF3E-4F4A-9A33-764F5E00A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0380A4-81C6-47FE-8EF3-70E74D1AD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F98E-A17F-41D2-A4A0-941127F14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D009AA-2626-42D3-BA76-3ED3660FA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EAD984-51F6-4A4B-873D-246DE874E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DB501B-7FA0-4BE5-B6DA-87F892B33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C0EE94-2353-47FB-A2DB-917175CEB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A13DFF-B99C-4F64-B3F7-61F4FAA46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218DEA-137D-49DE-93F0-7DD8353DE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243B27-5505-42F6-A69C-DB81BACFAD2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8FF46D9-F779-483C-B4ED-87845F2C500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F0348ED-ECBC-49A7-ACB7-B18015EB6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1407658-7C91-44AD-A39A-8503EEB1A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creativecommons.org/licenses/by-nc-sa/3.0/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966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6600"/>
                </a:solidFill>
                <a:latin typeface="Times New Roman"/>
              </a:rPr>
              <a:t>Support the spread of “good practice” in generating, managing, analysing and communicating spatial inform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76130-4A0B-4271-BD5C-67A8F036E7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sldNum" idx="2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DF80E-B89E-4BDB-AB23-0A901541D2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2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C4A5E-CEB0-449E-A1AC-C46357E014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7"/>
          <p:cNvSpPr/>
          <p:nvPr/>
        </p:nvSpPr>
        <p:spPr>
          <a:xfrm>
            <a:off x="971640" y="282600"/>
            <a:ext cx="72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0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0" descr="cc_license_by-nc-sa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145040" y="6381720"/>
            <a:ext cx="838080" cy="2952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CD850-BAFC-4683-A45E-026DEF4193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05521-D2D7-4E11-9FD1-0F8A2DFD0A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EE8D0-C7F5-429E-A323-2D11A3AF8C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A0650-84C8-4363-A204-03CF868A87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4C3E6-051A-48FE-813C-01CF55C226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sldNum" idx="1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8C2A2-57F8-4A97-BE5D-BAC3983A18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1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D052D-4097-4762-9313-7737D75E15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sldNum" idx="2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4BCC8-4755-44C6-82FC-16322E078C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creativecommons.org/licenses/by-nc-sa/3.0/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3300"/>
                </a:solidFill>
                <a:latin typeface="Arial"/>
              </a:rPr>
              <a:t>Legal and Political Framework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52" name="Rectangle 4"/>
          <p:cNvSpPr/>
          <p:nvPr/>
        </p:nvSpPr>
        <p:spPr>
          <a:xfrm>
            <a:off x="2561040" y="4941720"/>
            <a:ext cx="422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Arial"/>
              </a:rPr>
              <a:t>By: Michael McCall and Janik Gran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5"/>
          <p:cNvSpPr/>
          <p:nvPr/>
        </p:nvSpPr>
        <p:spPr>
          <a:xfrm>
            <a:off x="617400" y="6281640"/>
            <a:ext cx="20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Arial"/>
              </a:rPr>
              <a:t>Unit: M05U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4" name="Picture 6" descr="cc_license_by-nc-s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151160" y="6375240"/>
            <a:ext cx="838440" cy="2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Policy instrument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Communicative instruments educate people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Incentive instruments persuade people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Regulatory instruments control people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9152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Land and resources rights and entitlement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A common purpose of PGIS is to map land and resource claims.</a:t>
            </a:r>
            <a:r>
              <a:rPr b="0" lang="de-DE" sz="32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63600" indent="-36360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Control over land and resources has many functions</a:t>
            </a:r>
            <a:r>
              <a:rPr b="0" lang="de-DE" sz="3200" spc="-1" strike="noStrike">
                <a:solidFill>
                  <a:srgbClr val="5f5f5f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access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withdrawal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management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exclusion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alienation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9152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Land and resources rights and entitlement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A key factor is land and resource tenure policy and legislation: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private property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communal property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state property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open access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07552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cc33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graphicFrame>
        <p:nvGraphicFramePr>
          <p:cNvPr id="478" name=""/>
          <p:cNvGraphicFramePr/>
          <p:nvPr/>
        </p:nvGraphicFramePr>
        <p:xfrm>
          <a:off x="250920" y="1484280"/>
          <a:ext cx="8605800" cy="4735440"/>
        </p:xfrm>
        <a:graphic>
          <a:graphicData uri="http://schemas.openxmlformats.org/drawingml/2006/table">
            <a:tbl>
              <a:tblPr/>
              <a:tblGrid>
                <a:gridCol w="3887640"/>
                <a:gridCol w="471816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Customary land tenure system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e.g. Aboriginal Austral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f5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Market-oriented land ten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e.g. Australian cadastral system</a:t>
                      </a:r>
                      <a:r>
                        <a:rPr b="1" lang="en-GB" sz="18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f53">
                        <a:alpha val="50000"/>
                      </a:srgbClr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Spiritual physical connection to la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Land as a marketable commod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Communal ownership; stewardshi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Exclusive ownership; registered la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Land transferred through inherita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Transfer of land by sale, lease, inheritanc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Evidence of tenure via song, dance, stories, pictures, ceremonie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Written records by Certificate of Title; long-term storage in database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Boundaries are “limits of influence” topography, sacred space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Boundaries are geodetic, demarcated by monuments; state regulation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Overlapping rights and responsibilities; negotiated with neighbouring peop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Rights on neighbouring lands restricted and controlled by the 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Soft boundaries; temporary/seasonally flexible boundar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Hard boundaries; mostly fixed boundar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Rich meanings – holist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GIS cannot handle; maybe PGIS c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Precise meaning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GIS handles cadastral systems we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9" name="Rectangle 35"/>
          <p:cNvSpPr/>
          <p:nvPr/>
        </p:nvSpPr>
        <p:spPr>
          <a:xfrm>
            <a:off x="395280" y="189000"/>
            <a:ext cx="815832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Land tenure: </a:t>
            </a:r>
            <a:br>
              <a:rPr sz="4400"/>
            </a:b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ommunal vs. private proper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9152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Land and resources rights and entitlement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3880" indent="-3538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Participatory mapping is the mapping of activities by local people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53880" indent="-3538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e people’s relationship to land and land resources is a key factor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53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9152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Land and resources rights and entitlement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Are the land and resource titles of the </a:t>
            </a: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country supported by legislation and the </a:t>
            </a: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courts?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Are they backed up by law enforcement </a:t>
            </a: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agencies?</a:t>
            </a:r>
            <a:r>
              <a:rPr b="0" lang="de-DE" sz="32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Status of indigenous and local people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Local and indigenous communities often make claims by customary rather than by modern law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A significant enabling or disabling factor is the legal status of the indigenous people and other local communitie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Are they recognised as a distinct community?</a:t>
            </a:r>
            <a:r>
              <a:rPr b="0" lang="de-DE" sz="32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Recognition of community-based mapping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Outside authorities and decision makers must recognise the validity and legitimacy of maps made by local people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Maps made by communities can include abstract conceptualisations</a:t>
            </a:r>
            <a:r>
              <a:rPr b="0" lang="de-DE" sz="3200" spc="-1" strike="noStrike">
                <a:solidFill>
                  <a:srgbClr val="5f5f5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Recognition of community-based mapping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Authorities should accept visible spatial information (e.g. names, toponyms, boundaries, area and management systems)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Authorities should accept alternatives to standard surveying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Examples of community-based mapping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Examples illustrate the benefits of transitioning from sketch mapping to adopting GIS in order to practise PGI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GIS provides the accuracy required for court procedure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The government won't recognise anyone without a map …”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A map is likely to enhance a court’s understanding…”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9152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onten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2876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63600" indent="-363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International conventions and policies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63600" indent="-363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Policy instruments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63600" indent="-363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Land and resource rights and entitlements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63600" indent="-363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tatus of indigenous and local people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63600" indent="-363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Recognition of community-based mapping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63600" indent="-363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Examples of community-based mapping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s Unit focuses on “external”, macro-scale factors which affect the initiation, implementation and follow-up of processes involving participatory mapping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International conventions and policie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International conventions might affect national legislation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Local communities may be able to call upon them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International frameworks and commitments are significant for a number of reason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International conventions and policie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Examples: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UN conventions on indigenous peoples and intellectual property rights, including indigenous knowledge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policies of bilateral and multilateral donors, which may be significant in a specific country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International conventions and policie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International legislation that supports participatory mapping may address: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respect for communal property;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respect for political rights of indigenous, underprivileged and marginalised people;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international intercommunity networking for support;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opportunities to appeal to external international authorities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Policy instrument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Policy instruments are the economic, social or political mechanisms used to influence a target group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Policy instrument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Policies refer to “why” questions.</a:t>
            </a:r>
            <a:r>
              <a:rPr b="0" lang="de-DE" sz="32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Policy instruments refer to “what” questions.</a:t>
            </a:r>
            <a:r>
              <a:rPr b="0" lang="de-DE" sz="32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Implementation of policy instruments refers to “how” questions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Policy instrument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 key characteristics influence policy instruments: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key actors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goals and purposes of key actors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information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power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8T18:10:19Z</dcterms:created>
  <dc:creator> Michael McCall, Janik Granados</dc:creator>
  <dc:description/>
  <cp:keywords>pgis training kit</cp:keywords>
  <dc:language>en-US</dc:language>
  <cp:lastModifiedBy>BS</cp:lastModifiedBy>
  <dcterms:modified xsi:type="dcterms:W3CDTF">2010-06-01T21:53:54Z</dcterms:modified>
  <cp:revision>235</cp:revision>
  <dc:subject>Module05 - Enabling and Disabling Environments </dc:subject>
  <dc:title>Presentation - Legal and Political Framework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proval Level">
    <vt:lpwstr/>
  </property>
  <property fmtid="{D5CDD505-2E9C-101B-9397-08002B2CF9AE}" pid="3" name="Assigned To">
    <vt:lpwstr/>
  </property>
  <property fmtid="{D5CDD505-2E9C-101B-9397-08002B2CF9AE}" pid="4" name="Categories">
    <vt:lpwstr/>
  </property>
  <property fmtid="{D5CDD505-2E9C-101B-9397-08002B2CF9AE}" pid="5" name="ContentType">
    <vt:lpwstr>Presentation</vt:lpwstr>
  </property>
  <property fmtid="{D5CDD505-2E9C-101B-9397-08002B2CF9AE}" pid="6" name="Keywords">
    <vt:lpwstr>pgis, training kit</vt:lpwstr>
  </property>
  <property fmtid="{D5CDD505-2E9C-101B-9397-08002B2CF9AE}" pid="7" name="Slides">
    <vt:lpwstr>1</vt:lpwstr>
  </property>
  <property fmtid="{D5CDD505-2E9C-101B-9397-08002B2CF9AE}" pid="8" name="Subject">
    <vt:lpwstr/>
  </property>
  <property fmtid="{D5CDD505-2E9C-101B-9397-08002B2CF9AE}" pid="9" name="_Author">
    <vt:lpwstr>Giacomo Rambaldi</vt:lpwstr>
  </property>
  <property fmtid="{D5CDD505-2E9C-101B-9397-08002B2CF9AE}" pid="10" name="_Category">
    <vt:lpwstr/>
  </property>
  <property fmtid="{D5CDD505-2E9C-101B-9397-08002B2CF9AE}" pid="11" name="_Comments">
    <vt:lpwstr/>
  </property>
</Properties>
</file>