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2B2E-4805-4B8F-AC26-7D702666D9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E684-7F47-449A-B32F-AA989437B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for the presenter: Before delivering this presentation, read the Handout for Trainee: “Action Planning in Response to Enabling and Disabling Factors”, read the Example (handout) and get familiar with Exercise No. 1: SWOT Analysis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5131-CBFF-402A-A14E-1EBC13A19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EF4C-AB4B-4230-BD76-E6E15BC55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OT = strengths, weaknesses, opportunities, threa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6E2E-AF4D-4ADE-B2A3-9FDCA90EA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413-648E-4B6A-9669-05ECF6A68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9F6-D908-433D-AD1C-FCEEB1D0E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E253-6245-477B-B2FE-5D961AB4A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8A0-93B7-44DD-830D-110CE4500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2BD-DB5C-4FC9-B044-AC9B6B6C0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D38B-58C3-421C-844C-E7585072C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56FE-0124-4A30-B58B-B2D518F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A0BE-495B-4E67-9480-31FBF61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A0B6-F652-4332-A043-807A404A6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BE54E-438A-4F05-936D-7413BE660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42C0-0FD3-427C-B322-43FBD5D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AD0C-0B05-4576-9CF4-AF7B78ED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AE271-205C-4C29-87D8-B0186A11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64A3C-7656-4E6E-976A-FECE3986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4852A-6626-4242-BB68-5FB8F8F8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9CDC-2B13-4034-8448-FBC1B3D0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59EA-E654-4E3B-9908-14C7E468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975D7-D2EA-4521-9E4B-332081D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A502-7CB9-42FC-B97C-91D111F4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B4FD-B901-4267-ABF8-F6C02994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E019C-35D7-439B-A9E0-BB71E4A3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914AC-5389-4DD9-9B4D-A450BA046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BD33-E290-4E51-AC18-12398BE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3A58-835E-4838-BEFD-1634B2D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7906-C375-4228-8484-E67BC8C2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D7C8-A155-4960-89AE-0F740587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FEAA-201D-48E9-BE9E-2EEF3D0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379F-CA68-452C-8B98-B87842E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59F5-154E-4F0E-AD4B-F7994B2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CFF2-156A-4FCC-B43B-257AF6E6A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C268-4016-4CE2-A3DE-DD15DAA4F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Action Planning in Response to Enabling and Disabling Factor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415240" y="501336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Giacomo Rambaldi and M.K. Mc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5U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</a:t>
            </a: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ction planning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with SWOT analysi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SWOT analysi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introduces the SWOT analysis and its use in identifying and evaluating strengths, weaknesses, opportunities and threats within the context of an intervention having a participatory GIS compon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is useful for action planning in response to the identification and analysis of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ction planning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with 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analysis is a method for assessing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ation of mapping initiatives requires identifying and assessing enabling and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ome factors may be “killing factors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plementers should build on positive factors and address negative fa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Picture 25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4906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tretch/>
        </p:blipFill>
        <p:spPr>
          <a:xfrm>
            <a:off x="2106720" y="1428840"/>
            <a:ext cx="4906800" cy="484020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le 10"/>
          <p:cNvSpPr/>
          <p:nvPr/>
        </p:nvSpPr>
        <p:spPr>
          <a:xfrm>
            <a:off x="3857760" y="3714840"/>
            <a:ext cx="1928520" cy="71424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rengths and weaknesses refer to the </a:t>
            </a:r>
            <a:r>
              <a:rPr b="0" i="1" lang="en-GB" sz="3200" spc="-1" strike="noStrike">
                <a:solidFill>
                  <a:srgbClr val="5f5f5f"/>
                </a:solidFill>
                <a:latin typeface="Arial"/>
              </a:rPr>
              <a:t>actual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sit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pportunities and threats assess possible </a:t>
            </a:r>
            <a:r>
              <a:rPr b="0" i="1" lang="en-GB" sz="3200" spc="-1" strike="noStrike">
                <a:solidFill>
                  <a:srgbClr val="5f5f5f"/>
                </a:solidFill>
                <a:latin typeface="Arial"/>
              </a:rPr>
              <a:t>future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scen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trengths enhance performan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aknesses constrain performan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pportunities are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avourable condi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reats are negative scenari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SWOT analy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WOT analysis can be undertaken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ppraise and select which idea/project is most suitable for implement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lan strategies and action about how to implement a projec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ess how an existing activity could be improve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Giacomo Rambaldi</dc:creator>
  <dc:description/>
  <cp:keywords>pgis training kit</cp:keywords>
  <dc:language>en-US</dc:language>
  <cp:lastModifiedBy>martens</cp:lastModifiedBy>
  <dcterms:modified xsi:type="dcterms:W3CDTF">2010-08-25T11:53:44Z</dcterms:modified>
  <cp:revision>227</cp:revision>
  <dc:subject>M05 - Enabling and Disabling Environments </dc:subject>
  <dc:title>Presentation - Action Planning in Response to Enabling and Disabling Factor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