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0" y="9431280"/>
            <a:ext cx="679752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E0183-B2FF-4DE9-88F0-1E4BB9AEF3E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0BF99-904E-41D9-BA10-FDA9B98F9A7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e Handout for Traine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ificance of Enabling and Disabling Factors for Participatory Mapp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54FBB-A5C8-4AD2-9E5C-515F15690C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56D2A-CE20-4FA6-A082-DEBF1C85540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B9607-E3CB-453D-A316-E560A3DA8ED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6D5F9-3E1B-48E3-B7DD-2F37E070863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D426-6E8C-491B-908B-1265B17F9C3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AD13A-762E-424F-949F-B56E2A172B6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B28AC-D665-4414-9100-3BEE8B48501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EE965-1093-4E01-A242-A75186CA124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7DBA1-3CEB-4D97-9D1E-ED10691C913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1A0E-0395-4844-B0DE-441DC682A7F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Exercise No. 1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s and actors in participatory mapping.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BC43-5322-4E3A-B384-6972E8D201B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24CF8-75EC-4522-983D-D1D3A4298D9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2: Constraints to participatory planning and managemen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6AAC-0D60-43CF-9A13-126FB78B3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5EF7-F75D-4172-A619-BE08B39A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EAF4-E1FF-462E-9518-0EECED7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534E-FD38-4E76-B511-1E181270B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72655-938C-4F58-9FF7-AE77146D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98266-BA49-4290-B283-F799D3A6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047A7-5C37-47F9-AB50-F27142E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EB6F2-98B9-4F6D-B488-79B3184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5DA05-84AC-4B67-B003-4AF5D983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323C0-CE53-4CC3-8FB2-01CE25F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70AB8-E280-4684-A38A-82D073B2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E467-7755-4A1C-8A55-29F270C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FA81-052F-47E4-9D5E-11CB858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AFC97-BE83-4D98-8A35-854A3CDA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E4E94-F554-4033-8340-097A5F4A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69923-50C8-4D7E-B192-7E7770EB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CF539-C68A-428F-9D87-890F8A85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480B6-E5DD-45F7-A42F-565D1F3F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6774D-BCE7-4EBE-ADE9-34CB9417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6B42F-5633-4F5F-BA58-C9F06242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7EA12-C9EA-4DAA-BFF4-2F0649A9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54709-8B71-4BD5-8223-645FA3B2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98E0-27EB-4043-BBC8-2FA4480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F6766-B362-4080-BA80-4E92116A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FA205-8A38-4C18-AB7C-AF57CD4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08D23-0F87-49BD-923F-E863C23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B8AD7-A3CA-4878-82FF-88E4BC0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F5E68-944C-422C-B6F3-60A41BFA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CFD32-EC45-4922-A0F7-1AC92501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A71D1-595A-4636-A98D-9696E181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D3F5-14F0-40FE-A873-D0CFAB20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483F-8619-495D-AA08-A25DB8B8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0825-4F36-4888-9C6B-D3DC44CA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A7C8-AA69-43BF-AB94-779A4B74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717F-AC98-4B33-8381-2B007FB9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19A5-ABCD-469D-8EC8-EF42345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C887-A6A6-41A0-AB31-9A21E583E3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62AB-19D4-4D34-AC71-2CD33888D5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6D3-DA61-43EC-89A2-DEE7CB6507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gnificance of Enabling and Disabling Factors for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363680" y="514368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ichael McCall , Giacomo Rambaldi and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5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ternal and internal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ternal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national and national polic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olicies towards intellectual property righ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ustomary versus legislated law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tatus of protected area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ttitudes of government official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nguage barrie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ternal and internal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l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lationships between the community and external agents, government and institu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munity internal struc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munity organisations’ capacity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iteracy, education levels, gender, age, class and caste struc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Determining enabling and 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abling factors support community-based mapp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abling factors hinder, reduce or block activ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Determining enabling and 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abling factors tend to receive more attention because they require more analysis and smarter approach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abling and disabling factors can be of a legal-political, economic or social-cultural nature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n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learly defined and shared purpo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munity cohesion and experie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leadership and governa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chnical competencies and human attitud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spatial knowledg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-3344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upporting policy, legal environments and civil societ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ws countering community-based mapp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cial structural problems in the commun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istrust of local spatial knowledge (LSK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ests in maintaining the status qu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ck of clear purpose and a shared vi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ck of technical compete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ack of financial resour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rastructural constrain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sabling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ddressing disabling factors means resolving or mitigating th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factors may be “killing factors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chnology intermediaries need to assist local communit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method for action planning is the SWOT analysi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After completing this Module, you will be able to: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cuss the significance of enabling and disabling factors for participatory mapping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cuss the relevance of legal and political framework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plain the role of social, economic, cultural and institutional factors at the local and community level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escribe action planning in response to enabling and disabling factor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his Module has four Un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1 –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gnificance of enabling and disabling factors for participatory mappi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2 – Legal and political framework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3 – Social, economic, cultural and institutional factors at the local and community level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nit M05U04 –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tion planning in response to enabling and disabling f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ntent of Unit M05U01</a:t>
            </a: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uccess in participatory mapp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ternal and internal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etermining enabling and disabling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abling facto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isabling factors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roduction to Unit M05U01</a:t>
            </a:r>
            <a:r>
              <a:rPr b="0" lang="es-E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rticipatory mapping depends on social, economic, political and institutional factors that are external or internal, enabling or disabl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disabling factors tend to receive more attention than enabling factors because they require more analysis and smarter approaches.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uccess in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iteria for successful participatory mapping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atisfy the majority of 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upport the disadvantaged 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o not cause unwarranted harm to any actor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reate and support autonomous initiat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63560" indent="-363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hieve the intended resul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uccess in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basic condition in participatory mapping is “clarity of purpose” – clear agreement about the purpose(s) of the activity and long-term vision and commitment so that the purposes become transpar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uccess in participatory 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uccess can only be measured in the long ter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cases of community-based interventions may have unexpected outcom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hanges may result in benefits for some, may have no effect at all, or may have a negative impact on other people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ternal and internal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xternal factors refer to the broader environm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l factors pertain to an organisation, a community, a group of people or staff engaged in a project. 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Mike McCall and Janik Granados</dc:creator>
  <dc:description/>
  <cp:keywords>pgis training kit</cp:keywords>
  <dc:language>en-US</dc:language>
  <cp:lastModifiedBy>martens</cp:lastModifiedBy>
  <dcterms:modified xsi:type="dcterms:W3CDTF">2010-08-25T10:06:50Z</dcterms:modified>
  <cp:revision>358</cp:revision>
  <dc:subject>M05- Enabling and disabling environments</dc:subject>
  <dc:title>Presentation - Significance of Enabling and Disabling Factors for Participatory Mapp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4D39534AF3E24D47AB55289290746C79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