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upport the spread of good practice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7345-1356-4BE9-9176-8D7B874461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E61C-0DD6-4BC3-88EE-2BC327BB83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delivering this presentation, study the Handout for Trainee: Social, Economic, Cultural and Institutional Factors at the Local and Community Leve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CDF6-8D55-4DF4-9823-724DCF9892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C05B-C588-49EF-B1BA-3929373F5D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4BE3B-E37F-4BCE-86E5-242DBEE4D69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4D03-1D46-4BA2-9BC2-C3193EC096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rcise No. 4: Gendered mapping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16AA-3EF4-4337-A4EB-D8D9CABAFC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45F8-38E6-41E5-940E-03588064F4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1AFD-699B-447E-915A-FC437BEE62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rcise No. 1: Identifying types of constraints in community-based activities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FF48-073A-45FE-9232-6F94DE2FCA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A8D2-457F-459C-AF61-20B17CB2FB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C536-BD5F-44A8-B58F-5EEC50DBDA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CB2D-BBBC-4062-8406-6954785783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rcise No. 2: Attitudes towards local and indigenous spatial knowledg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3E9C-2D2D-463D-B70A-7C5D0525AB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6AA6-50F9-42A0-8494-24334BF1F4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F2AB-F567-49FB-AD25-D01D24DC2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2B45-7BE8-4443-9E36-B46E2B36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05D808-AE57-4220-B326-CD8ACD47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A77841-BE3F-40FE-812A-5DA764D6D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1C8041-B47D-4EE7-B182-932991A39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0315B7-FCC2-4614-A3CA-CE318D28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15803E-E855-46FF-AB7D-2779E674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1C4812-A62B-450E-9633-8BE14347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DAEDDF-6602-4968-887A-BD735A44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0FB007-1DD3-48BE-BF08-FCD496A6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BB9756-B2D0-485B-96CF-597760A4A3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6648-93C7-4C60-B5CA-0AE5170B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D609-7537-4786-9687-8F6351B2B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3D7D7-1C4C-4F10-9C11-E52160A5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64B68-ACC9-4FFE-A8E0-DFAD7EEB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5AD0E-4E90-47C0-91F6-E19316A3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0D516-260B-4D79-B841-1D2D3ADF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B6F74-8E8D-403A-8FB8-E613D449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B30B6-0C9B-4AD8-8DFB-4A01ED37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60651-C355-4BC8-9D39-7F663754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B388-D881-43E6-AFA2-9208CB3B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C2787-4CA1-4B94-B386-28E255F2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FDDEC-46BF-4942-999E-B79F8D24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49C2C-BEED-4F7B-8215-6276C171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19FAD-F53D-4613-9A5E-B9CAA56A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33816-B869-4688-BC60-E629F9FC6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E570D8-2BF9-4C0A-9D8F-E78D2186B1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1306B2-43E1-4BC5-9224-CA6CB213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2FC684-86AA-4E4A-A175-C8ED5DA9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C18E7E-CE25-4ED0-ADE4-A4822A6C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6C2FCD-711D-4BB3-BFF2-53A246F4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F8C2-9E91-441D-B9D6-4E885782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E4A11B-5036-4DD9-9705-394A8091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29CBC8-771A-4920-B615-BE019453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76243D-477A-409F-9B21-0AA45B52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F155A1-D3C2-40D1-9900-76F334FA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1F6DA7-F8B6-423B-93E5-F481D918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05F072-13BB-4876-B27D-6C122E62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AA4C4E-FE80-4790-BB7E-7E1E1077BB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B7AD55-DFB9-4695-8D95-E2F5ABA1F1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6A9ACF-E6E8-4825-A39F-8FEAC470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6A8BDE-84DE-4909-ADC5-089598EF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DF58-AF15-49E4-B92E-1E55B52B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E67A6F-81CB-485C-8D13-8F45F23C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7589C0-7F91-463D-A6B0-94AB71202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8DFC28-1722-47E9-B52B-93DCF342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37C380-8418-46FA-82ED-E4490FA8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977DED-E0B1-442E-98D2-D9412CDE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E17783-E4C4-47A8-A33C-625812AD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E1D420-289E-491C-BA9B-951B1392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A384E0-82BD-4C72-8F9B-D484750C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667D57-372E-403F-BF14-CBD14B1F6D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5907E-8E0E-4022-BE27-5380DCF209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329A-F2AA-43ED-891C-3350E608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4F8A3-89ED-48B8-9375-2957E406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9DFFA-52E8-4349-960D-FD85DDFA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23456-0672-41ED-9047-E27FEE06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0CD3D-79E6-4FBC-9D18-293EDE053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D5801-825A-41AA-9B80-5F5FC9852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96814-AD8A-45DC-A712-CBA262F1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108B1-D89F-4745-AE52-03DB853F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A0A59-C9C1-4EA5-AB66-69830AF4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4B0ED-E0B0-49D9-A19A-FE53A0E7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79607-20B1-4991-AFEE-DAB54CA5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7FF6-9F01-49B8-BC33-2C795FD5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B7484-EA15-406D-82A6-233A0CC32F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8B8A4B-6250-48DC-AC10-11806C572C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9018E0-6E16-4029-86EE-F45BEF74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35564E-A053-4F74-9D67-D90C2F9C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B9523B-1896-42B9-A9A8-24B12F2F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903649-16CD-42E9-9F47-3E466F80B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89D984-ADB1-48D4-A5F2-C3188D18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D7F6DB-2B20-4B1F-9D87-8216FEC6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5E9EC1-DD49-4943-8126-C4B68D11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F5D095-4B59-46A5-A13D-9067D35B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37A2-AA67-44EB-ACA4-2709D203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C08C0F-D894-4F53-9C69-84D852CF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31B745-DE1D-4D5B-8C10-05B3E94A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5EF6CD-0419-4603-8B58-AC56E1FAAD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C30C32-5CCA-4B69-864A-6E9C9AA388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37DDAA-0030-41D6-AA3E-40006553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7E5F43-8FC1-4047-BD67-BACC68FA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9809F5-097A-4AD0-897B-68FDCB44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35EDF8-3E57-49D8-AED5-904C794A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5F298B-69DC-4DE4-BA98-CA7682D3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037952-ACC1-4F2C-976B-351FC26F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6868-689E-4C11-82D3-A452CF47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605E18-3F1C-461E-8EB6-BF9F4F72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34D0C4-B3B7-4794-8584-C9C16B6B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F6D2B3-FE36-426F-9051-A060A2C5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D53DE4-8633-44A3-A559-2428C345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B3CB6E-9BE8-4330-BCA1-AA535887C3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67BA7-4018-45F8-98B0-BB1BBAE2A9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11A25-36F7-4EDB-B5EC-A97ACF25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D6843-4B00-4986-B83C-802CF2D0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E3706-FBCC-401C-BFE4-A570578E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0CD9A-E507-46E7-B9F0-D24D360F2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E654-DD05-4972-99B5-7075AE04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AE335-27DA-4070-99FE-8D6747CA4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1DD54-9F96-45D3-ADA4-2F7EB33C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D1260-10F4-4E7F-B43B-0EAE42BF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FC214-C20A-4C92-882F-AED3C6A7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4ECE2-5CA3-42FB-8B73-E2F4DDB9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43389-B5EA-4AB2-BB6B-910C8E86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E832D-FD7C-4F43-B2BE-BF31843E3B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938DC4-7578-4667-8164-E72E81B556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C16742-A954-468F-B04B-A4D388B1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690EF1-AF77-4DB0-B181-B2659602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0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2FD1-589C-4344-84C1-AD2427E07D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cc_license_by-nc-s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3D3D-54BE-4712-9929-63C7D8C668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2236-78C4-4C6D-B1DA-A23B5CD87C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1211-E9C8-459D-B5C4-D5DCDFF72D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23FB-C203-4DBA-95F9-5E2DCC512C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4F2D-DD18-4F14-BB74-5981BD8B83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B561-D4D8-4A54-8BE6-C279D0655F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9279-B133-4C4A-8FF6-12E6AEC36C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1153-A435-4674-9941-EC075F0993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Social, Economic, Cultural and Institutional Factors at Local and Community Levels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2632320" y="5157720"/>
            <a:ext cx="42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By: Michael McCall and Janik Gran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Unit: M05U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6" descr="cc_license_by-nc-s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Governan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Governance concepts are relevant in assessing the potential of communiti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accountability of the governing to the governed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legitimacy of the governing over the governed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competence of the governing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echnical and financial </a:t>
            </a:r>
            <a:br>
              <a:rPr sz="4400"/>
            </a:b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actor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oes the community have the ability to manage and maintain a GIS?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anageability has a number of factor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easibility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user-friendliness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ost effectivenes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need to regularly update data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nclusiveness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"/>
              </a:rPr>
              <a:t>Cultural and social factors</a:t>
            </a:r>
            <a:endParaRPr b="0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ultural and social factors disable or enable community processes. Who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determines the purpose of mapping?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decides on priorities</a:t>
            </a: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selects the information to be included?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works on the mapping process</a:t>
            </a: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represents the community</a:t>
            </a: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s involved in using the maps?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and rights and entitle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Ownership means a variety of conditions: statutory ownership, usufructure, shared use, common property, spiritual links.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articipatory mapping is 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timately bound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with the official (legal) and unofficial (social-cultural) positions on rights and entitlements to land and resourc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and rights and entitle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egal-legislative position of the people who are engaged in PGIS practice, especially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national and international status of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ndigenous peoples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national position of women and childre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Gendered and children’s map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omen’s access to participatory spatial planning is important in PGIS practic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omen have specialised local technical and management knowledg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re are many positive experiences from training children to work with participatory mapping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untering negative factor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pportunities to overcome disabling factor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dentify the influential members of the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ommunity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Explore and give value to the extraordinary strengths and functionalities of PGI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untering negative factor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Why is PGIS special?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PGIS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elicits, represents and validates LSK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ntegrates LSK with external knowledge;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provides information with spatial specificity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works with visual images - “spatial narratives”;</a:t>
            </a: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nvolves multiple sources and processes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s capacity-enhancing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legitimises endogenous knowledge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Cont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201680"/>
            <a:ext cx="843588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Local spatial knowledge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ommunity resourc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Governanc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echnical and financial factors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ultural and social factor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Land rights and entitlements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Gendered and children’s map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ountering negative factor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ocal factors and situations may affect participatory mapping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factors may be enabling or disabling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s Unit categorises the types of enabling and disabling factors, explores their relative significance and examines the feasibility of tackling disabling factor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Local spatial knowledge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 central component in community-based mapping is local spatial knowledge (LSK).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SK is a vital resourc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 basic principle of PGIS is that it values LSK as valid, reliable, accurate and complementary to scientific knowledge. 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Local spatial knowledge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SK is local – there is a close and long relationship between people and land resourc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SK is owned by the local communit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lassification in LSK is more based on functionality and purpose than on “scientific” knowledg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SK is holistic and combinational natur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Local spatial knowledge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pecific local spatial “technical” knowledge is similar to ordinary “scientific” knowledg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ocal knowledge representing viewpoints of local actors is different from the dominant “official” view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piritual or mystical spatial knowledge is more restricted to particular peopl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Local spatial knowledge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SK is unevenly distributed and transmitt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SK changes because of changes in climate, ecosystems, etc.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SK may go unrecorde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SK may be privileged and controlled within rural societies. 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Community resourc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ternal structures, resources and strengths of communities vary enormousl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he following questions can be used to assess efficiency and effectiveness of people and institutions in a community. 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Community resourc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s the community a learning organisation?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oes the community have a common purpose and cohesion? 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hat are the policies and practices towards including the peripheral members?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hat evidence is there of transparency and trust?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hat are the capabilities of key individuals?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8:10:19Z</dcterms:created>
  <dc:creator> Michael McCall and Janik Granados</dc:creator>
  <dc:description/>
  <cp:keywords>pgis training kit</cp:keywords>
  <dc:language>en-US</dc:language>
  <cp:lastModifiedBy>Rainer Zachmann</cp:lastModifiedBy>
  <dcterms:modified xsi:type="dcterms:W3CDTF">2010-06-04T12:05:56Z</dcterms:modified>
  <cp:revision>277</cp:revision>
  <dc:subject>M05 - Enabling and Disabling Environments </dc:subject>
  <dc:title>Presentation - Social, economic, cultural and institutional factors at local and community lev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