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431280"/>
            <a:ext cx="679752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679F6-A6BC-4321-A0A8-434A14524D2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0C155-7ADE-49E2-9CBF-60F88D3493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e Handout for Traine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ificance of Enabling and Disabling Factors for Participatory Mapp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115A-AF22-4971-944E-8029D46BC49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AECF-5202-4724-9C61-D4A63854451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CFBC-A176-46A8-A0DB-710C6BD1371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A6A12-BDE3-4E87-9708-80C621FE855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9CC3B-2AF4-4609-ACC7-0654C54C96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B7BB-A060-464C-9EE8-1943EDBD9F6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3D7A-C69F-4B38-9F81-42749F82D44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C306-F3C2-461C-A44C-2801D8D3895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BCA9C-26ED-4354-94B0-BD41B5BAF95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543F7-584F-4B92-BDE6-7EC56346CC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Exercise No. 1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s and actors in participatory mapping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7B2C5-6EE6-4566-9907-38F44B9B5BB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9E8A7-F4FF-4A77-87CE-8AAEEFE4CC7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2: Constraints to participatory planning and manage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4306-09BE-4215-B621-E5EB51293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E8C0-0981-4E3C-A864-578C96A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030B-CD10-4935-B45D-D16A83E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7AE3-9362-4C20-9647-17D996698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47AFA-2A9D-456E-A4CA-B1ADAD8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B28E-E65A-42E4-8C8D-58DDA74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2829-CF93-41EB-BB90-6621FBB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442A4-4D26-4CDA-890E-17E7C17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DA03-5F34-47DC-9CCC-C47D58EF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FC993-E7A8-4EC6-B7E0-493463E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8B0A1-5634-4AD8-A4DE-4FAACBE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7E4F-CB01-4449-940E-262A085F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7A39A-F416-49E0-B953-FB699DD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2CEB2-5949-45EC-B5C5-E211FB7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DB5A9-7F2F-448D-A5EE-200AFC2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62D14-2400-471F-AD70-6EC4241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C5D53-169C-4BD9-B973-9B9179F5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3BDF8-2B67-4F2D-83F2-EA1ADE55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9F3F0-8556-4AA5-B624-5851435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3FDB0-7DB0-44FA-BC78-F3EF15AE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113DB-AB1B-44C4-A850-ACE8AF6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3871A-91A8-4232-AF1D-4344456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6546-CD97-414B-B30B-FC52D9F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388EB-124D-4D5E-A2DF-17C80E3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3EF23-82A0-492C-AA67-1EFD323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0A60A-E78A-4613-8F82-359AE7D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2D64B-CBCD-48E3-AFAD-5E45D35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948EF-58DD-45FB-BD3D-97970C5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B86BF-294F-4F62-A4EF-7B950D3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FD5E7-7DE2-4084-858C-DD78B639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FEE2-F1F1-4478-BAA9-2F0A1D25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E88B-B4B0-4E12-BADC-95D89A53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70ED-3DD9-410A-BA05-AAF8CF5E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33E0-00DF-4E40-939B-290978C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2655-71D9-4E1B-9E74-2AEA80D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3CDA-7212-4A00-B8A8-8ED5F28F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5D8-B63B-4204-BDF6-B32E19F41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2AB1-3F73-4328-825D-B6E47281E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12C-1D40-447B-9B70-39EEDAF44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gnificance of Enabling and Disabling Factors for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363680" y="514368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ichael McCall , Giacomo Rambaldi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tional and national polic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olicies towards intellectual property righ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ustomary versus legislated law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tatus of protected area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ttitudes of government official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nguage barrie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lationships between the community and external agents, government and institu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munity internal struc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munity organisations’ capacity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iteracy, education levels, gender, age, class and caste struc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etermining enabling and 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factors support community-based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 hinder, reduce or block activ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etermining enabling and 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 tend to receive more attention because they require more analysis and smarter approach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and disabling factors can be of a legal-political, economic or social-cultural natur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n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learly defined and shared purpo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munity cohesion and experie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leadership and governa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chnical competencies and human attitud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spatial knowledg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pporting policy, legal environments and civil socie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ws countering community-based mapp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cial structural problems in the commun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istrust of local spatial knowledge (LSK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ests in maintaining the status qu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clear purpose and a shared vi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technical compete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financial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rastructural constrain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ddressing disabling factors means resolving or mitigating th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factors may be “killing factor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chnology intermediaries need to assist local commun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method for action planning is the SWOT analys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After completing this Module, you will be able to: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 the significance of enabling and disabling factors for participatory mapp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 the relevance of legal and political framework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plain the role of social, economic, cultural and institutional factors at the local and community leve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scribe action planning in response to enabling and disabling factor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is Module has four Un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1 –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gnificance of enabling and disabling factors for participatory mapp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2 – Legal and political framework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3 – Social, economic, cultural and institutional factors at the local and community level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4 –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tion planning in response to enabling and disabling f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 of Unit M05U01</a:t>
            </a: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ccess in participatory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and in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termining enabling and disabling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 to Unit M05U01</a:t>
            </a: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ticipatory mapping depends on social, economic, political and institutional factors that are external or internal, enabling or disabl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disabling factors tend to receive more attention than enabling factors because they require more analysis and smarter approaches.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iteria for successful participatory mapping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atisfy the majority of 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upport the disadvantaged 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 not cause unwarranted harm to any actor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reate and support autonomous initiat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hieve the intended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basic condition in participatory mapping is “clarity of purpose” – clear agreement about the purpose(s) of the activity and long-term vision and commitment so that the purposes become transpar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ccess can only be measured in the long ter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cases of community-based interventions may have unexpected outcom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hanges may result in benefits for some, may have no effect at all, or may have a negative impact on other peopl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factors refer to the broader environm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factors pertain to an organisation, a community, a group of people or staff engaged in a project. 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Mike McCall and Janik Granados</dc:creator>
  <dc:description/>
  <cp:keywords>pgis training kit</cp:keywords>
  <dc:language>en-US</dc:language>
  <cp:lastModifiedBy>martens</cp:lastModifiedBy>
  <dcterms:modified xsi:type="dcterms:W3CDTF">2010-08-25T10:06:50Z</dcterms:modified>
  <cp:revision>358</cp:revision>
  <dc:subject>M05- Enabling and disabling environments</dc:subject>
  <dc:title>Presentation - Significance of Enabling and Disabling Factors for Participatory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4D39534AF3E24D47AB55289290746C79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