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21B5-1397-4548-8F93-41E762B5FB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0B9-DA00-4DFB-9EFD-BF0CDAECD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e Handout for Traine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al and Political Frame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D38-DB98-4E4E-B94F-45C7BEEA0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73C-A10C-46E4-AA6D-5FE2A3EF2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501-9B25-4C54-9EA3-56249D90A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CEB-20E8-4A08-A89C-FD04CD7C1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8783-02CB-4BDF-99D2-33219FB40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915-A18B-44B5-99E9-71BFA8E70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77C-415B-4605-884C-97EEE7768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DD5-342D-4567-8AB6-0C9138300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E64F-5F55-4ACD-9B1C-02C9F51F4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see Module M12, “Introduction to GIS for the Purpose of Practising PGI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EC11-9972-4E69-A6F2-1695FE90C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1: Participants’ experiences with participatory ma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9BF-0F0D-4BA1-80A8-3E42D8B5F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F45A-09E7-404F-BEF7-A1771862C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6FAC-BB32-41FB-B184-B098DA20A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294-0C87-48F6-9C64-69573E6E8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7A8-AD38-4061-937D-8955B370F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41F3-C9BD-453A-856D-12D83073C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F1B-0EA7-4D12-9A55-186F6662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E67-9306-47E4-8615-C4FA751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C7D8D-16D2-425C-8CBA-B52A19AB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61A8E-EA3F-4063-B56F-C63B81A3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EC16E-64B5-4485-BEF4-7FC675C1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82B04-65C7-43C1-A23D-B97FE6F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9D490-E296-4CB2-8EB9-61D7A22E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76F0A-E393-4048-BE3D-63146E83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5B2F1-AEA7-44C0-AC92-BDCD476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498F0-1425-4F68-AD58-5B97F31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CEF17-6C8E-43BE-8580-D911C2369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3C945-11BB-45D8-81E1-D9A0D633C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E72-F297-4759-A3B9-640626A2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DCB63-FBEC-4410-86F5-9BCFC705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AA215-4AE7-4B84-BBC3-28F321E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EA4FC0-8B32-4393-A7DC-C96777A3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2CFD93-7786-47D2-9E79-F69B3A7F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9D7E7-7C01-41C6-ACD4-70335ED1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74091F-5728-4BD0-9FC4-D3C6283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E70C7-D10C-4308-AF61-670A5A9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65544C-F923-482F-88A3-7F82F15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7A0D0-3A30-4E71-A445-96FA69AA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88AD81-445A-45C6-AB1D-D4F60DC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D22-9B8E-4179-ADFE-36FD8487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EB63C0-605A-4C53-B219-949A1A6B6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B7C51-0EA8-4044-ADD2-A731FAB9B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6355-50A8-4C96-8256-136027A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C1A2-5532-48EC-AA37-56E058FC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D194-19D0-4CFD-B50E-1705359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9039-4EBC-4BD1-B507-ED6FAE3F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C116-194B-49E7-BA26-3D8AEBAC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8570-BB22-49FC-A1F6-2E933986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D1AF-132C-43EF-8D69-19279BA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983E-FB30-4773-879F-9513DEC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7EEA-802F-4BC4-8AA3-1859860A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2D48-EF25-491C-B33C-A93D2A12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5E88-05FC-4623-B663-ED1565A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04A25-64D4-4C01-8958-B192D3037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FC463-9E6D-4B96-AFA9-0B18635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0F03-D992-46E2-955E-D86D4B77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515D8-E24A-44DB-990D-6E168AA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9EDB-F743-4888-9ADD-51EEE9D0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CC64-C58D-4EA4-A7D1-AB095ED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E3B4-33D3-493E-9F13-1D11E4F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AB8-E0C2-4FDD-B001-37195505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46996-A75D-4998-94EE-3A581F5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2C8F7-DAE0-44D7-A7FD-1CFFB80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C80F-0405-4F8A-834B-3EA3999A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1CD0-591A-4355-BC8C-5E1652AF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92820-1FDE-4550-8344-05464C29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E526C-49F3-4344-A722-55DAC4C1D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B42DC-EC47-4254-AFB6-4836F84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3E14A-87B8-4F8C-BE39-7B3C692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D712F-04E4-4BA5-848E-1CEA63F9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B5B86-CB09-4797-8B36-3CCAEE98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C9C-F2BC-48E0-BCCC-2CC4A3F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0BC36-C27A-4F73-BB8A-32EF3CE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DA1FC-DE5A-4CCF-9CFD-1998D5A2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EEE15-52AF-4E5D-B7DB-45AC4AE8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B97F1-4503-42FB-946B-E28D0C59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866C8-61BB-4667-AC0F-2A03566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A8017-C29B-4DA8-B5B5-981DD91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06EFB-F880-4447-8B2F-E527CC22CB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F7940-9BA7-4836-B4A5-8C1B05852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D613B-AC33-42FD-A3D5-58A39F0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6C565-650E-4BC8-9076-62E3633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017-7490-4635-96EA-3898AC9B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90CCC-B333-4AC9-A4E1-3A7C0105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FF499-7E3A-4359-8A85-F0EA2B26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77230-9AC7-48B7-A1E8-42A1E33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C88C1-D299-4F8A-8C2F-575DEB1B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080A7-CC63-4FFA-A519-A722708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341E7-893B-43DC-8A25-5F942B6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47AF3-09A9-4411-91F2-3BD18A04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71183-7E6F-4513-B4FE-B352373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63A0B-99B7-465D-BBC4-8344BAB8B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59D4-E652-41F9-B575-EB2B13F28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C25-4418-4E5B-A5DA-CA1D082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D297-1C1D-4AB4-B068-E6CB587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20AF-6029-4460-B3F0-47C9185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9AD6-1C21-4E2F-AD3D-E201BB47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16E2-4420-4F68-B36C-794D6943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6D4E-F9DA-45D7-AAF0-C0C0AC7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0481-0D59-48AF-BA3A-10446D6F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BCF3-2CB6-45D2-A78F-2C485AF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3AD5-CD0C-4132-A047-E93B9C0D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FC71-0B48-4A93-831C-8251F6B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1D8B-27CB-4501-BFFE-AF5C930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DCF-97B1-4CC7-B42F-0437B58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9738-5FA1-4297-979C-CA02BC53B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57F4B-A0EC-4DB4-9893-7D904D505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83F0A-4504-44AB-8308-C437ECA8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D0F4D-687D-4AF9-ADD4-5DBFAE8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544D0-F814-424F-984A-84A682B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A9143-A78D-47C2-A093-B8B4D1E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9914D-6C8C-4EDC-9989-F6824B4E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8C58F-048D-4EC1-B379-C66207E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3A168-4481-4027-8495-1185B81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63108-1E58-42DD-9C4C-5A088EF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EEC-40FD-4093-AAF6-94B26EE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665F1-3ECE-4B3C-918A-DD786F6C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F5A4D-62C3-4F06-8F0D-689BA34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D2CF8-5614-4BB3-8D79-B5E9F5D37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5D1AB-0EE7-4B59-B801-3369C861A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9FCD2-5B32-49EB-863D-79A49A3C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109FD-C7E5-4512-B33D-242EA08C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73F56-882C-4D0E-A0D6-842E029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57CF2-7BC1-4B3B-8D05-A2E4D01A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7689E-1A96-4421-A1B3-C4581222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B9E61A-4755-4A37-8F77-EF51A0D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ABB-D010-48DB-8F7F-52A0DA1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D8B2F-0330-4965-9B00-DB6B2C1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36FD0-BF35-4C37-806D-B19DB51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BC868-A800-48DB-AF08-22D20337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4D947A-C9BD-4FB0-9A51-A20CE59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06D20-00D4-45CB-A491-8F7823C1A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50619-04D7-42EB-8AC7-FCA2414DA8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DFCA1-80D3-40BF-9898-7CE5D6AA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9439-17AA-4967-8CCA-545D67E7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9AB19-5868-4803-85B0-0519D371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EACF7-2372-49DA-995E-4FBF1E2E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EF1-5661-46AD-B5B4-493F072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13FD-9118-4B6A-B876-09DA7566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CE90-BAEE-44CA-AB8C-A0071E7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3E207-86CA-48C5-8259-5E13E7C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0C39-E124-49E9-9A4B-C7AA7769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9521-B124-423C-9909-30E92DD4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AD24-972A-436C-8319-4BB9976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4E58-60AC-4C89-9D79-5D07B759B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E7984-DD12-48BD-BF7E-6DC54EF2D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8ADE3-99C3-43E1-B108-7C7D5FE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4FE22-6794-4C28-9FAF-CA0DE94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183D-2ABD-4C22-BED7-CDCA1BFB2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0ABE-6E03-46A5-8267-655A156B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92B-F3BB-4D7E-B8AE-52C9DF77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D4C-AABF-4AB0-93C5-3D1B89A6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D62B-7B27-41C1-BCB6-161BBC8F7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E97-04FB-47B9-B318-AF2C0BE9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D69-08EA-4DB3-B4CE-F0376E7E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8AC-1ADC-4204-8D8F-DA0A4AC55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DB16-2E75-42A1-9E2A-EC7031AE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7682-EA63-4F8A-B574-1CFE1A63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572-5A08-46AC-9B3D-92EA410F8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egal and Political Frame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1040" y="494172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Michael McCall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municative instruments educat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centive instruments persuad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gulatory instruments contro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common purpose of PGIS is to map land and resource claim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ntrol over land and resources has many function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ithdrawa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lien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key factor is land and resource tenure policy and legislati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al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tate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pen ac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484280"/>
          <a:ext cx="8605800" cy="473544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ustomary land tenure syste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.g. Aboriginal 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Market-oriented land ten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.g. Australian cadastral system</a:t>
                      </a: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piritual physical connection to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and as a marketable commo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mmunal ownership; steward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xclusive ownership; registered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and transferred through inheri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 of land by sale, lease, inherit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e of tenure via song, dance, stories, pictures, ceremon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Written records by Certificate of Title; long-term storage in databas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undaries are “limits of influence” topography, sacred spa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undaries are geodetic, demarcated by monuments; state regul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verlapping rights and responsibilities; negotiated with neighbouring peo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ights on neighbouring lands restricted and controlled by the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oft boundaries; temporary/seasonally flexible bound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Hard boundaries; mostly fixed bound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ich meanings – hol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IS cannot handle; maybe PGIS 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ecise meaning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IS handles cadastral system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395280" y="189000"/>
            <a:ext cx="8158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tenure: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mmunal vs. private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ping is the mapping of activities by loca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eople’s relationship to land and land resources is a key fact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 land and resource titles of the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ntry supported by legislation and the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t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y backed up by law enforcement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cies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tus of indigenous and local peop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and indigenous communities often make claims by customary rather than by modern law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significant enabling or disabling factor is the legal status of the indigenous people and other local commun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y recognised as a distinct community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ognition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utside authorities and decision makers must recognise the validity and legitimacy of maps made by loca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made by communities can include abstract conceptualisation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ognition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ities should accept visible spatial information (e.g. names, toponyms, boundaries, area and management systems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ities should accept alternatives to standard survey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amples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 illustrate the benefits of transitioning from sketch mapping to adopting GIS in order to practise PGI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S provides the accuracy required for court procedu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government won't recognise anyone without a map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map is likely to enhance a court’s understanding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conventions and polic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licy instru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and and resource rights and entitle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tus of indigenous and local peopl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cognition of community-base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 of community-base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focuses on “external”, macro-scale factors which affect the initiation, implementation and follow-up of processes involving participatory mapp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conventions might affect national legisl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cal communities may be able to call upon th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frameworks and commitments are significant for a number of reas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N conventions on indigenous peoples and intellectual property rights, including indigenous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licies of bilateral and multilateral donors, which may be significant in a specific countr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tional legislation that supports participatory mapping may addres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ect for communal property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ect for political rights of indigenous, underprivileged and marginalised people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tional intercommunity networking for suppor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pportunities to appeal to external international authoriti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licy instruments are the economic, social or political mechanisms used to influence a target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licies refer to “why” question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licy instruments refer to “what” question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ation of policy instruments refers to “how”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 key characteristics influence policy instrumen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ey 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oals and purposes of key 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BS</cp:lastModifiedBy>
  <dcterms:modified xsi:type="dcterms:W3CDTF">2010-06-01T21:53:54Z</dcterms:modified>
  <cp:revision>235</cp:revision>
  <dc:subject>Module05 - Enabling and Disabling Environments </dc:subject>
  <dc:title>Presentation - Legal and Political Frame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