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upport the spread of good practice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5629-1B1D-45EB-A009-3D7C645E57A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819D-7C52-4C4D-A24A-1D09D057B4B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delivering this presentation, study the Handout for Trainee: Social, Economic, Cultural and Institutional Factors at the Local and Community Leve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85E9-8D1C-4EDA-AE9F-81FD9287C5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9E8B-9948-4E21-817E-D7398C8171B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7A2AE-F88C-4A3D-9571-0773ABF0475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6577-BB96-432E-8666-FEDF0DA380D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rcise No. 4: Gendered mapping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0A1E-E49E-48DD-80B9-2080483432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B957E-BA01-4F89-8CAB-A7ACA1EB92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03D7E-0FD7-45BD-B03C-273B9EE6595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rcise No. 1: Identifying types of constraints in community-based activities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138C-0025-4252-B398-761D5DCBB0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D9180-7ECF-4D0B-8F77-D5B5BF46DB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D62C-D0D3-4AF5-8107-CB5E2BDFF45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1F36-FCC8-4D7E-9035-11F52D75BF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rcise No. 2: Attitudes towards local and indigenous spatial knowledg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37FB-6F75-469C-96B3-AA54475F94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3060-A03B-4C1C-98A2-724DBD50C75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7E5-8D43-4FDA-88B0-0941E9466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54EB-0889-4885-A499-3CA6FCC93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684673-8AFE-4628-B604-90E805F8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61B723-8DC2-47E9-B9F4-F0D9624DA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F85B4-F771-4EFB-90BD-8AFE20E16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AA2117-678C-4D27-BE5F-DA65452B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AF8F03A-169A-424F-9AD5-AF2ABE69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E96822-EE15-434E-B583-503A1377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8C5C8B-0BE9-4F78-83DE-0ADBBEE5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0A6D6E-8A49-41DF-9B59-AFC1AD24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1F0A8A-9950-4D1A-8085-81A24A62AF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8ADE-DB2A-4DD5-B326-563BD150A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9AE7-6ED2-4BBF-9E25-530F6BE9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F320C-3C84-462F-BC91-42D00B6B6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883EF-6121-472E-BA35-529418B0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B1463-0677-4E48-A7ED-4630C0D68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BF082-46E5-4FD8-94FE-0A18D64DB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2C247-855C-4806-99F5-C338CAD5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4F31F-A00D-4DCE-906D-C990E9B06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6F7BF4-5FC0-4283-AE97-FE101C50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0815-3CB9-4EB5-9B99-4A82C8C8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33605-1F8B-4DA9-80D2-1391730B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3DC109-2263-4254-9772-7AF15C3F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35DECF-FF88-469D-A43A-F7B141DE0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19133-7501-4F38-9BED-67D50D5F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3C654-D4E6-4FD2-93DB-A5159EBA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2043E-B198-42DB-94B3-E8220DE21A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02BC38-C49A-40EA-A0CE-FE3FCA7C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808D87-4757-4972-A1D9-BB306CEF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AA8F33-CF7A-476F-8D1F-EB0DEEA4F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4767BA-4571-47F7-87DA-D55D0957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1C6B-9FC0-4E07-AF93-E09BDC17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3D6DBF-B2BA-4E83-9EE1-407A1C89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CB7BA-25E1-46F8-AC1B-0366D9C8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CA0FB-FD5A-4EA6-9B77-5DF10900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1CE5F9-B2AB-4D09-848A-3EF947E7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3499D-3C23-410C-B0E6-7311A89D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62C7DD-DF9F-48AF-8A22-9FBA6E85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3FCE8-C132-4D13-9FAE-7DF8416FE2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9EBA55-BA21-454E-9702-581B044F0B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91F030-3143-4D67-9D52-A0B09AD7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E9D2E3-987D-4266-BE78-DEAFF952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FBC4-F9BE-4CC5-8653-0B7009925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2E89F8-8463-4638-AE25-2A73F035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B585F7-295C-4E36-B71A-B33756010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D776D0-E0AC-4367-80FC-CDDDD116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80C4A-87C4-475B-8E42-48C94525C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EEA8FD-98C7-4D62-89E2-4F11FB8AB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76581C-F6F9-491E-892B-62F6936A5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692E45-B970-4B28-8C26-06A7FBA9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10B9D4-A460-42DE-99D6-CFF5E738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AD9AF5-0F57-43FF-84A8-48BD7069BE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60129-08A0-41C4-9E12-CD85E2A719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2BBD-93A3-4EB6-90A8-EEA5E9D3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C88DFD-29A7-4F73-A4A6-62705C6E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7F9D7-1F1A-4C51-9B58-35A3A8737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9916E-DD26-4F89-8C92-8D48860A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FF4BA-7AC0-409B-A18E-782B1DC73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6B6BE-7216-4BBE-AFC7-207524E04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5C7C1-C3ED-4137-8E1E-4B7E3AA1C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91521-080D-4E64-877B-8A54E629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5FA14-F6DE-41E5-B70C-E277AFC2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9B4AA-F356-4914-8A1C-A92A173E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58A51-5DC4-4397-B747-321754C8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3A18-2FC6-4987-B73B-41E3535C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8F67C-2062-4D83-9AE2-871A28A6DC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CA1855-7D5B-4B0A-8B30-D6824F3865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AE429E-9887-414D-A0DD-89BF050B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48E176-6EF8-466D-93CF-7F8B6ADF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FD814F-3227-4475-A616-E89BBC2A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7B26B8-7FA0-4794-A0A6-ADA473C2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8E00CD-69A1-4FE6-94C1-B2DF5B95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B15ADE-77D3-4211-94AE-92192E0A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F43020-89B7-4A32-9292-E49C2422D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2527D0-2522-4CF7-87F0-2DFA539F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F74C-A052-48F6-95A6-5AC9D28B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15D340-5463-4A01-AF80-9720ED918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24D8C5-1E05-4368-B78C-784DC85D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95D29-6F9A-4C46-84B1-E05B950980A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F16DDD-3DC3-49DB-8214-81C3F1F21A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827DD7-114B-482D-9D0F-710B4EB15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E9CBF2-42B0-4021-8BFC-4907EBE4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1C252F-57D2-4AF4-81C5-0A13596C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33A99E-DCE4-4B79-8611-029B5D73F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5E7C3F-A731-49E2-86A3-3AB899721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EEEA0D-9BA5-444B-A3AD-553638E4B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04AC-E961-4E7D-8B4B-8E46FD67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4B1FA6-B920-4EA8-A320-BF020B51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55DCF0-E873-4833-8D56-3C4FCBC6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11E9BFB-3941-4346-9BD7-8543246D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4939B7-0C11-4B11-8C37-D1F05691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816EB5-FD31-41FD-B96E-A27AB9C3D1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0352E-2113-420D-9FB8-139DCE6AB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F477E8-0AD2-404C-B300-09E5F548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478194-6E78-4839-AE05-51BDB623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E7E99-4D63-488A-8923-4F8150D3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E299D-E9E9-4778-AEC0-CA428D13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3241-EB3F-429B-ACE6-B6FFE8B66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9B3EC-EEA8-4D92-B266-C91BFEAA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78700-FBC1-4175-9FB0-CAE03DDB8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33CB6-34B8-412B-8A9F-12025466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BEF725-A916-4181-8844-CEE2BF45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D18CD-E462-487A-B659-AF3932AB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1EE443-B8B0-4C30-B6AC-1C92482E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4B47F-B6E8-4FA8-94F3-38D8E6558E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8DD573-E2CA-479A-8FC5-F2ECDF0D00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13B16A-DEF9-4526-87B3-ADABE01E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C97480-287B-41DD-997F-9C5BBC2D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creativecommons.org/licenses/by-nc-sa/3.0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96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96600"/>
                </a:solidFill>
                <a:latin typeface="Times New Roman"/>
              </a:rPr>
              <a:t>Support the spread of “good practice” in generating, managing, analysing and communicating spatial inform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4D92-82F4-4E6B-B1DB-2CD4AB8AF4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971640" y="28260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00"/>
                </a:solidFill>
                <a:latin typeface="Arial"/>
              </a:rPr>
              <a:t>Support the spread of “good practice” in generating, managing, analysing and communicating spatial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cc_license_by-nc-s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145040" y="6381720"/>
            <a:ext cx="838080" cy="295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3D4A-24EF-4505-AB6A-25654868CB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7B385-E0A2-43DD-A496-DA03F9BF1D9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31D9-B442-4FC5-A13C-E927D3FA3D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3146-3880-4C34-A43B-77C278DCB5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3B3E-231A-4E32-9522-1B57D38D5C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E5AF-4692-406E-A1A2-1BB58BA33E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4AC61-1359-4BD2-9DEE-D51E0F8EE1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1FB3B-DD84-42AD-B355-DB8E7574E4D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creativecommons.org/licenses/by-nc-sa/3.0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Social, Economic, Cultural and Institutional Factors at Local and Community Levels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2632320" y="5157720"/>
            <a:ext cx="422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69696"/>
                </a:solidFill>
                <a:latin typeface="Arial"/>
              </a:rPr>
              <a:t>By: Michael McCall and Janik Gran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617400" y="6281640"/>
            <a:ext cx="20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Unit: M05U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cc_license_by-nc-s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51160" y="6375240"/>
            <a:ext cx="838440" cy="2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Governan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Governance concepts are relevant in assessing the potential of communities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accountability of the governing to the govern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gitimacy of the governing over the governed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competence of the governing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echnical and financial </a:t>
            </a:r>
            <a:br>
              <a:rPr sz="4400"/>
            </a:b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oes the community have the ability to manage and maintain a GIS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Manageability has a number of factor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easibility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user-friendlines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st effectivenes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eed to regularly update data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clusivenes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"/>
              </a:rPr>
              <a:t>Cultural and social factors</a:t>
            </a:r>
            <a:endParaRPr b="0" lang="en-US" sz="4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ultural and social factors disable or enable community processes. Who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etermines the purpose of mapping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decides on priorities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selects the information to be included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works on the mapping process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represents the community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?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s involved in using the maps?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rights and entit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Ownership means a variety of conditions: statutory ownership, usufructure, shared use, common property, spiritual links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Participatory mapping is 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imately bound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 with the official (legal) and unofficial (social-cultural) positions on rights and entitlements to land and resources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and rights and entitlement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egal-legislative position of the people who are engaged in PGIS practice, especially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ational and international status of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digenous peopl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national position of women and children.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Gendered and children’s ma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omen’s access to participatory spatial planning is important in PGIS practic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omen have specialised local technical and management knowledg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re are many positive experiences from training children to work with participatory mapp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ntering negative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Opportunities to overcome disabling factors: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dentify the influential members of th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munity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Explore and give value to the extraordinary strengths and functionalities of PGIS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untering negative factor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Why is PGIS special?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PGIS: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licits, represents and validates LSK;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tegrates LSK with external knowledge; 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ovides information with spatial specificity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works with visual images - “spatial narratives”;</a:t>
            </a:r>
            <a:r>
              <a:rPr b="0" lang="de-DE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volves multiple sources and processes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s capacity-enhancing;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legitimises endogenous knowledge.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nten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6840" y="1201680"/>
            <a:ext cx="843588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ocal spatial knowledge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mmunity resource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Governance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echnical and financial factor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ultural and social facto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Land rights and entitlements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Gendered and children’s map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ountering negative factors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Local factors and situations may affect participatory mapp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e factors may be enabling or disabling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This Unit categorises the types of enabling and disabling factors, explores their relative significance and examines the feasibility of tackling disabling factor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ocal spatial knowledge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 central component in community-based mapping is local spatial knowledge (LSK)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is a vital resourc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A basic principle of PGIS is that it values LSK as valid, reliable, accurate and complementary to scientific knowledge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ocal spatial knowledge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is local – there is a close and long relationship between people and land resources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is owned by the local communit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Classification in LSK is more based on functionality and purpose than on “scientific” knowledg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is holistic and combinational nature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ocal spatial knowledge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pecific local spatial “technical” knowledge is similar to ordinary “scientific” knowledg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ocal knowledge representing viewpoints of local actors is different from the dominant “official” view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Spiritual or mystical spatial knowledge is more restricted to particular people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Local spatial knowledge 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is unevenly distributed and transmitted.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changes because of changes in climate, ecosystems, etc.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may go unrecorded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LSK may be privileged and controlled within rural societies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mmunity resourc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Internal structures, resources and strengths of communities vary enormously.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The following questions can be used to assess efficiency and effectiveness of people and institutions in a community. </a:t>
            </a:r>
            <a:r>
              <a:rPr b="0" lang="de-DE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3300"/>
                </a:solidFill>
                <a:latin typeface="Arial"/>
              </a:rPr>
              <a:t>Community resourc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Is the community a learning organisation?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Does the community have a common purpose and cohesion?  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are the policies and practices towards including the peripheral member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evidence is there of transparency and trust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  <a:p>
            <a:pPr marL="357120" indent="-35712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f5f5f"/>
                </a:solidFill>
                <a:latin typeface="Arial"/>
              </a:rPr>
              <a:t>What are the capabilities of key individuals? </a:t>
            </a:r>
            <a:endParaRPr b="0" lang="en-US" sz="32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8:10:19Z</dcterms:created>
  <dc:creator> Michael McCall and Janik Granados</dc:creator>
  <dc:description/>
  <cp:keywords>pgis training kit</cp:keywords>
  <dc:language>en-US</dc:language>
  <cp:lastModifiedBy>Rainer Zachmann</cp:lastModifiedBy>
  <dcterms:modified xsi:type="dcterms:W3CDTF">2010-06-04T12:05:56Z</dcterms:modified>
  <cp:revision>277</cp:revision>
  <dc:subject>M05 - Enabling and Disabling Environments </dc:subject>
  <dc:title>Presentation - Social, economic, cultural and institutional factors at local and community leve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al Level">
    <vt:lpwstr/>
  </property>
  <property fmtid="{D5CDD505-2E9C-101B-9397-08002B2CF9AE}" pid="3" name="Assigned To">
    <vt:lpwstr/>
  </property>
  <property fmtid="{D5CDD505-2E9C-101B-9397-08002B2CF9AE}" pid="4" name="Categories">
    <vt:lpwstr/>
  </property>
  <property fmtid="{D5CDD505-2E9C-101B-9397-08002B2CF9AE}" pid="5" name="ContentType">
    <vt:lpwstr>Presentation</vt:lpwstr>
  </property>
  <property fmtid="{D5CDD505-2E9C-101B-9397-08002B2CF9AE}" pid="6" name="Keywords">
    <vt:lpwstr>pgis, training kit</vt:lpwstr>
  </property>
  <property fmtid="{D5CDD505-2E9C-101B-9397-08002B2CF9AE}" pid="7" name="Slides">
    <vt:lpwstr>1</vt:lpwstr>
  </property>
  <property fmtid="{D5CDD505-2E9C-101B-9397-08002B2CF9AE}" pid="8" name="Subject">
    <vt:lpwstr/>
  </property>
  <property fmtid="{D5CDD505-2E9C-101B-9397-08002B2CF9AE}" pid="9" name="_Author">
    <vt:lpwstr>Giacomo Rambaldi</vt:lpwstr>
  </property>
  <property fmtid="{D5CDD505-2E9C-101B-9397-08002B2CF9AE}" pid="10" name="_Category">
    <vt:lpwstr/>
  </property>
  <property fmtid="{D5CDD505-2E9C-101B-9397-08002B2CF9AE}" pid="11" name="_Comments">
    <vt:lpwstr/>
  </property>
</Properties>
</file>