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C53E-ADCC-4D0B-99F9-5185BE3B68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F9B2-1569-445A-8120-616A6A6534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for the presenter: Before delivering this presentation, read the Handout for Trainee: “Action Planning in Response to Enabling and Disabling Factors”, read the Example (handout) and get familiar with Exercise No. 1: SWOT Analysis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A906-15EA-49CF-8F7C-7928A50275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A00E-E0BB-4061-8709-72AF618E2F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OT = strengths, weaknesses, opportunities, threa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04D7-EE86-4444-995C-422B3FD103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82E8-3E8E-47B3-824D-24B322C475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B17F-9842-4478-950A-80913B6B28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14A5-10BA-4531-90DD-5D234F554F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CF03-4A20-4529-B39F-83C1F5B26E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12C3-AB90-4083-8024-4A31C0F52B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1B94-96A4-4983-BD51-523F207858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4CE2C-1622-4AD8-8C87-3196B550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C6D4-60E1-489B-A4FA-0454D176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62A2-0E4F-475E-9246-ABBF156507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2582C-2F00-4A63-B5F9-A8103884F5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6DC71-4936-4FE3-B418-84191AA1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CDCB5-85ED-4CFD-8792-B4BB9E8F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ACE40-BE12-4C2C-A3FF-15D71199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78468-FEB6-4011-95AA-54C22B78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94CA6-44A8-4606-851F-26321E95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7A2A2-6BF1-40E3-A8EA-29F66DF7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B3198-0157-4AB5-9FBA-AC955D25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F4CB0-89C8-4288-BA2A-711C95FA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DB737-44A0-44FC-8D7C-2FD431AB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59C0B-3996-4118-8E1E-6F3FBEA5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1E10E-6391-4A97-9800-27C7A36D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17C70-7169-45D9-832A-CAB25EE76C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A9B9-5E1B-403F-B12F-AEEB4465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08F08-9C25-435A-B9D0-C19887FB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81E9-706E-405F-891A-EE88B1B6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8A534-9CEF-4A73-A67C-94F5F417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25F8-7AFB-4750-B3CD-F275F4BD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57AB-9A67-4610-BFF9-358C0498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6F330-74FA-4A25-9149-2A438733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CFF4-7449-49C7-8CF1-AD0AEDC898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03D2-7530-4F1F-8BD9-B96D8FB4EE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Arial"/>
              </a:rPr>
              <a:t>Action Planning in Response to Enabling and Disabling Factor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415240" y="501336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Giacomo Rambaldi and M.K. Mc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05U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ontent</a:t>
            </a:r>
            <a:r>
              <a:rPr b="0" lang="en-GB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ction planning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with SWOT analysi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SWOT analysi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is Unit introduces the SWOT analysis and its use in identifying and evaluating strengths, weaknesses, opportunities and threats within the context of an intervention having a participatory GIS compon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WOT is useful for action planning in response to the identification and analysis of enabling and disabling facto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ction planning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with SWOT analys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WOT analysis is a method for assessing enabling and disabling facto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mplementation of mapping initiatives requires identifying and assessing enabling and disabling facto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ome factors may be “killing factors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mplementers should build on positive factors and address negative facto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WOT analysis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0" name="Picture 25" descr=""/>
          <p:cNvPicPr/>
          <p:nvPr/>
        </p:nvPicPr>
        <p:blipFill>
          <a:blip r:embed="rId1"/>
          <a:stretch/>
        </p:blipFill>
        <p:spPr>
          <a:xfrm>
            <a:off x="1967040" y="1500120"/>
            <a:ext cx="49068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WOT analysis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1"/>
          <a:stretch/>
        </p:blipFill>
        <p:spPr>
          <a:xfrm>
            <a:off x="2106720" y="1428840"/>
            <a:ext cx="4906800" cy="484020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le 10"/>
          <p:cNvSpPr/>
          <p:nvPr/>
        </p:nvSpPr>
        <p:spPr>
          <a:xfrm>
            <a:off x="3857760" y="3714840"/>
            <a:ext cx="1928520" cy="71424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SWOT analys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trengths and weaknesses refer to the </a:t>
            </a:r>
            <a:r>
              <a:rPr b="0" i="1" lang="en-GB" sz="3200" spc="-1" strike="noStrike">
                <a:solidFill>
                  <a:srgbClr val="5f5f5f"/>
                </a:solidFill>
                <a:latin typeface="Arial"/>
              </a:rPr>
              <a:t>actual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situ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pportunities and threats assess possible </a:t>
            </a:r>
            <a:r>
              <a:rPr b="0" i="1" lang="en-GB" sz="3200" spc="-1" strike="noStrike">
                <a:solidFill>
                  <a:srgbClr val="5f5f5f"/>
                </a:solidFill>
                <a:latin typeface="Arial"/>
              </a:rPr>
              <a:t>future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scenari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SWOT analys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trengths enhance performan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eaknesses constrain performanc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pportunities are</a:t>
            </a:r>
            <a:r>
              <a:rPr b="1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avourable condi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reats are negative scenari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SWOT analys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WOT analysis can be undertaken t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ppraise and select which idea/project is most suitable for implementation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lan strategies and action about how to implement a project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ess how an existing activity could be improved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Giacomo Rambaldi</dc:creator>
  <dc:description/>
  <cp:keywords>pgis training kit</cp:keywords>
  <dc:language>en-US</dc:language>
  <cp:lastModifiedBy>martens</cp:lastModifiedBy>
  <dcterms:modified xsi:type="dcterms:W3CDTF">2010-08-25T11:53:44Z</dcterms:modified>
  <cp:revision>227</cp:revision>
  <dc:subject>M05 - Enabling and Disabling Environments </dc:subject>
  <dc:title>Presentation - Action Planning in Response to Enabling and Disabling Factor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