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11680" y="-360"/>
            <a:ext cx="29145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29480" cy="3697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9364320"/>
            <a:ext cx="6727680" cy="49356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3714-C637-4D31-A64B-51E7F5F33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0000" y="739800"/>
            <a:ext cx="4929480" cy="3697200"/>
          </a:xfrm>
          <a:prstGeom prst="rect">
            <a:avLst/>
          </a:prstGeom>
          <a:ln w="0">
            <a:noFill/>
          </a:ln>
        </p:spPr>
      </p:sp>
      <p:sp>
        <p:nvSpPr>
          <p:cNvPr id="114" name="PlaceHolder 2"/>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the M07U03 Handout for Trainee and to recommended readings for more information on this topi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0000" y="739800"/>
            <a:ext cx="4929480" cy="3697200"/>
          </a:xfrm>
          <a:prstGeom prst="rect">
            <a:avLst/>
          </a:prstGeom>
          <a:ln w="0">
            <a:noFill/>
          </a:ln>
        </p:spPr>
      </p:sp>
      <p:sp>
        <p:nvSpPr>
          <p:cNvPr id="120" name="PlaceHolder 2"/>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prior and written informed consent is addressed in more detail in Module M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to define precisely the subject of the consent. It could mean consent to be in the communities, consent to map, consent to use the maps and their information, or even consent to own, access or distribute the maps. Of course, the first step is to get the communities to agree to work with the outsiders on mapping their territory. The real contention comes with questions of ownership and use of the maps. This should be written down clearly before things get under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00000" y="739800"/>
            <a:ext cx="4929480" cy="3697200"/>
          </a:xfrm>
          <a:prstGeom prst="rect">
            <a:avLst/>
          </a:prstGeom>
          <a:ln w="0">
            <a:noFill/>
          </a:ln>
        </p:spPr>
      </p:sp>
      <p:sp>
        <p:nvSpPr>
          <p:cNvPr id="116" name="PlaceHolder 2"/>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prior and written informed consent is addressed extensively in Module M0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00000" y="739800"/>
            <a:ext cx="4929480" cy="3697200"/>
          </a:xfrm>
          <a:prstGeom prst="rect">
            <a:avLst/>
          </a:prstGeom>
          <a:ln w="0">
            <a:noFill/>
          </a:ln>
        </p:spPr>
      </p:sp>
      <p:sp>
        <p:nvSpPr>
          <p:cNvPr id="118" name="PlaceHolder 2"/>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ory mapping projec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tense social processes</a:t>
            </a:r>
            <a:r>
              <a:rPr b="0" i="1" lang="en-US" sz="1200" spc="-1" strike="noStrike">
                <a:solidFill>
                  <a:srgbClr val="000000"/>
                </a:solidFill>
                <a:latin typeface="Arial"/>
              </a:rPr>
              <a:t> </a:t>
            </a:r>
            <a:r>
              <a:rPr b="0" lang="en-US" sz="1200" spc="-1" strike="noStrike">
                <a:solidFill>
                  <a:srgbClr val="000000"/>
                </a:solidFill>
                <a:latin typeface="Arial"/>
              </a:rPr>
              <a:t>involving empowerment, ownership and community cohe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often carried out in regions that are politically sensi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F0D3D2-5DD4-4A76-ADC1-AF36789CBB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93FFC30-ACAE-42DF-A98C-5D2EC29E3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CBD64E7-2EFF-4C29-AD23-6ED044D7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3BFD5E3-D95E-452E-B6E2-8E78615D517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824A7FC-0881-422A-AC16-3A09AB397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BA5C150-FFD6-45A8-A57F-311240A88D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74A24E8-ACF6-4C52-B292-DD21CA111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E924817-CF41-4085-AEFD-522CE0E8A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90608FE-252D-4F99-B34E-5391BF642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B3D7018-2672-46E2-AD46-CF24D376E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88630F5-7079-4C78-BA9E-726D21C54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96CF1C2F-AA07-4ED6-B79E-AD2B457D5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D0E7D58-710F-4975-814E-40F32A29D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02273D5-BED3-491F-A336-C0C4C8795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BAE6C8C-6353-4311-943C-1BA55B173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A5EC9B8-811C-4FA8-BF42-DC98AFBC05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73AB579-6211-4557-BC8B-6C66D3A64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77CAD54-6CFA-4CD9-A44C-A8026F56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67F9208-CC90-4B8E-9E4B-2C6EAAA53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266E519-AF58-4DF8-98FC-BDE3D8C7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A5A11BED-5902-477F-979C-090249ADD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633568B-F358-4817-829C-5B2A8806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B1A2A92-6B74-4585-9C52-00CC1886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2B180F6-8ED4-4966-B45A-CDEF13D086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EDEF-DE07-4073-AE55-9C75BD4A1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BBDD-92FB-4B39-9095-534A048EE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siting Communities</a:t>
            </a:r>
            <a:endParaRPr b="0" lang="en-US" sz="4400" spc="-1" strike="noStrike">
              <a:solidFill>
                <a:srgbClr val="cc3300"/>
              </a:solidFill>
              <a:latin typeface="Arial"/>
            </a:endParaRPr>
          </a:p>
        </p:txBody>
      </p:sp>
      <p:sp>
        <p:nvSpPr>
          <p:cNvPr id="91" name=""/>
          <p:cNvSpPr/>
          <p:nvPr/>
        </p:nvSpPr>
        <p:spPr>
          <a:xfrm>
            <a:off x="357768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Mac Chapin</a:t>
            </a:r>
            <a:endParaRPr b="0" lang="en-US" sz="1800" spc="-1" strike="noStrike">
              <a:solidFill>
                <a:srgbClr val="000000"/>
              </a:solidFill>
              <a:latin typeface="Arial"/>
            </a:endParaRPr>
          </a:p>
        </p:txBody>
      </p:sp>
      <p:sp>
        <p:nvSpPr>
          <p:cNvPr id="92"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7U03</a:t>
            </a:r>
            <a:endParaRPr b="0" lang="en-US" sz="1800" spc="-1" strike="noStrike">
              <a:solidFill>
                <a:srgbClr val="000000"/>
              </a:solidFill>
              <a:latin typeface="Arial"/>
            </a:endParaRPr>
          </a:p>
        </p:txBody>
      </p:sp>
      <p:pic>
        <p:nvPicPr>
          <p:cNvPr id="93" name="" descr="">
            <a:hlinkClick r:id="rId1"/>
          </p:cNvPr>
          <p:cNvPicPr/>
          <p:nvPr/>
        </p:nvPicPr>
        <p:blipFill>
          <a:blip r:embed="rId2"/>
          <a:stretch/>
        </p:blipFill>
        <p:spPr>
          <a:xfrm>
            <a:off x="4151160" y="6375240"/>
            <a:ext cx="838440" cy="295560"/>
          </a:xfrm>
          <a:prstGeom prst="rect">
            <a:avLst/>
          </a:prstGeom>
          <a:ln w="0">
            <a:noFill/>
          </a:ln>
        </p:spPr>
      </p:pic>
      <p:sp>
        <p:nvSpPr>
          <p:cNvPr id="94"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me pointer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ree, prior informed consent</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tter if formalised in writing (FPWIC)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prerequisite for project implement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eds to ensue from frank and transparent discuss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Unit covers aspects related to the phase where the Core Team returns to the project area to elaborate the project design in a participatory mann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arly community visits</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ress distance in interpersonal relationship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plain the methodology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Begin a dialogue with the community as a first step in gaining its trus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Give communities a sense of ownership and full participation in the project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low for free, prior and written informed cons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rpersonal relationship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rly community visit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 the “distance” between members of Core Team (outsiders) and villagers (insi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 the parties to become acquainted and start to feel comfortable around each other</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of methodology</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re Team must explain the project methodolog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mbers from the commun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ed to be fully aware of what is being propose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ed to know how, when and where they would be involve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ust be  given a chance to accept or reject the projec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need for trust</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me communities will be more reluctant to participate than other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mote and isolated communities may be wary of outsiders due to past experienc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ical concerns: What are these maps?  Who are they for?  What will be done with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ust building</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isits to the communities stimulate  discussion, questions and answer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rank and transparent interactio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d to trustful relationshi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ster ownership in the projec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y lead to stronger participatio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nsures that outputs of community-based processes stay with the community</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ust building</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urtesy is necessary to build tru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ying courtesy visits to all communities potentially affected by project implementation is of paramount importance</a:t>
            </a:r>
            <a:endParaRPr b="0" lang="en-US" sz="32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wnership and participat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volving the local community from the onset lays the foundation f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propriate choice of roles, technologies and processes (i.e. improved project desig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tronger particip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ellectual ownership of the process and outcom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13:01:43Z</dcterms:created>
  <dc:creator>martens</dc:creator>
  <dc:description/>
  <cp:keywords>pgis training kit</cp:keywords>
  <dc:language>en-US</dc:language>
  <cp:lastModifiedBy>hkraft</cp:lastModifiedBy>
  <dcterms:modified xsi:type="dcterms:W3CDTF">2010-01-01T20:51:35Z</dcterms:modified>
  <cp:revision>27</cp:revision>
  <dc:subject/>
  <dc:title>Presentation 1- Visiting Commun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