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F8A5-F426-49FE-9892-9A28CC1E2E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fer to the M07U01 Handout for Trainee and to recommended readings for more information on this topi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Team must be inclusive, representing the communities and leadership of the project area and the technology intermediaries. It must also be efficient, so that decisions can be made in a clear and timely manner. Usually projects with strong administration succeed, while those with loose, weak administration run into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Core Team includes these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matter specialists may include </a:t>
            </a:r>
            <a:r>
              <a:rPr b="0" lang="en-GB" sz="1200" spc="-1" strike="noStrike">
                <a:solidFill>
                  <a:srgbClr val="000000"/>
                </a:solidFill>
                <a:latin typeface="Arial"/>
              </a:rPr>
              <a:t>professionals in natural resource management, biodiversity, agriculture, forestry, anthropology, sociology, linguistics, community development, communication or other field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leader (TL) should be either a community leader or a qualified and respected out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L has to be contracted from early ground preparation through to the production of the maps and possibly through post-mapping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artographer does not belong to the cultural group being mapped, s/he should have the following characteristic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ound technical skill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pecialised interest in working with indigenous or traditional peop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xcellent interpersonal skills and a facility for working with people from different cultu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knowledge of the region being ma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could include the participating communities, the technology intermediaries, government agencies, non-governmental organisations,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4F3FD0-CA67-47D7-849F-A53693F6703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48277FC8-0667-4345-AF3A-57BB3EBDF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2C868063-86F8-415A-86B0-98E4956E7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0AB24D4D-7F3A-4B8D-BCE1-3411236495A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515046B0-7AB8-4042-BB01-ED993246AD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793F0D4-EEA6-4430-B301-AD5D2120E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864DC57-3DC8-49D6-B837-212C18F29D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A3D6849-5C82-438B-A380-BE18C8D6A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E272201-8FA4-4EEA-8C8F-C2FBDEAB3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14D5546-D3D9-4920-928C-FA57E505B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BEA4E34-BEA2-4FF0-B9D3-6731F1CFD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sldNum" idx="2"/>
          </p:nvPr>
        </p:nvSpPr>
        <p:spPr/>
        <p:txBody>
          <a:bodyPr/>
          <a:p>
            <a:fld id="{BA2507A8-8BC5-44E6-83E9-813255C14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7C0448E-D13E-4C54-86C3-F742FAF53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1E80D92-0BC2-41F4-B6BC-3A6BC2E194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94D7347-34F2-4D68-8CBF-BDE03C567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E0F72C7-DCDE-4577-8B70-8308A19300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FDA11E77-689D-4406-B6D8-7743AA251F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761848FB-1DD2-45F1-9D9B-2F12AB942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992E169D-61AD-42ED-AA5B-425686AAD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6546CF8E-F7E9-4F77-9DE4-E30FC487E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sldNum" idx="2"/>
          </p:nvPr>
        </p:nvSpPr>
        <p:spPr/>
        <p:txBody>
          <a:bodyPr/>
          <a:p>
            <a:fld id="{FDF2919C-E9DE-485E-B3EA-A158B69AA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4CA9403-1712-4B14-9DF8-A01C101BD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1374DCF-F08E-4C53-9CC7-9848477D0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E0C0578-1C52-4F4A-8EAE-AE15F6AC3C2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809F-D76C-4C0F-8DAE-AB870ADE7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E16A-6632-4EC4-BED2-BC9FD438D9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a:hlinkClick r:id="rId2"/>
          </p:cNvPr>
          <p:cNvPicPr/>
          <p:nvPr/>
        </p:nvPicPr>
        <p:blipFill>
          <a:blip r:embed="rId3"/>
          <a:stretch/>
        </p:blipFill>
        <p:spPr>
          <a:xfrm>
            <a:off x="4145040" y="6381720"/>
            <a:ext cx="838080" cy="29520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ird Outline Level</a:t>
            </a:r>
            <a:endParaRPr b="0" lang="en-US" sz="2400" spc="-1" strike="noStrike">
              <a:solidFill>
                <a:srgbClr val="5f5f5f"/>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ssembling a Core/Implementation Team</a:t>
            </a:r>
            <a:endParaRPr b="0" lang="en-US" sz="4400" spc="-1" strike="noStrike">
              <a:solidFill>
                <a:srgbClr val="cc3300"/>
              </a:solidFill>
              <a:latin typeface="Arial"/>
            </a:endParaRPr>
          </a:p>
        </p:txBody>
      </p:sp>
      <p:sp>
        <p:nvSpPr>
          <p:cNvPr id="91" name="PlaceHolder 2"/>
          <p:cNvSpPr>
            <a:spLocks noGrp="1"/>
          </p:cNvSpPr>
          <p:nvPr>
            <p:ph type="subTitle"/>
          </p:nvPr>
        </p:nvSpPr>
        <p:spPr>
          <a:xfrm>
            <a:off x="610920" y="3886200"/>
            <a:ext cx="784836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size and composition of a Core Team</a:t>
            </a:r>
            <a:endParaRPr b="0" lang="en-US" sz="3200" spc="-1" strike="noStrike">
              <a:solidFill>
                <a:srgbClr val="969696"/>
              </a:solidFill>
              <a:latin typeface="Arial"/>
            </a:endParaRPr>
          </a:p>
        </p:txBody>
      </p:sp>
      <p:sp>
        <p:nvSpPr>
          <p:cNvPr id="92" name=""/>
          <p:cNvSpPr/>
          <p:nvPr/>
        </p:nvSpPr>
        <p:spPr>
          <a:xfrm>
            <a:off x="2623680" y="5157720"/>
            <a:ext cx="38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Mac Chapin and Natalia Martens</a:t>
            </a:r>
            <a:endParaRPr b="0" lang="en-US" sz="1800" spc="-1" strike="noStrike">
              <a:solidFill>
                <a:srgbClr val="000000"/>
              </a:solidFill>
              <a:latin typeface="Arial"/>
            </a:endParaRPr>
          </a:p>
        </p:txBody>
      </p:sp>
      <p:sp>
        <p:nvSpPr>
          <p:cNvPr id="93" name=""/>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7U01</a:t>
            </a:r>
            <a:endParaRPr b="0" lang="en-US" sz="1800" spc="-1" strike="noStrike">
              <a:solidFill>
                <a:srgbClr val="000000"/>
              </a:solidFill>
              <a:latin typeface="Arial"/>
            </a:endParaRPr>
          </a:p>
        </p:txBody>
      </p:sp>
      <p:pic>
        <p:nvPicPr>
          <p:cNvPr id="94" name="" descr="">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ze and composition of the Core Team depend on the magnitude and complexity of the projec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Core Team must be inclusive and efficien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Members of the Core Team</a:t>
            </a:r>
            <a:endParaRPr b="0" lang="en-US" sz="40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am leader/coordinat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ministrator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ad cartographer/GIS specialis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bject matter specialis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leader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eam leader/coordinator</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leader or qualified and respected outsid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tracted for the entire project cyc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sponsible for: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functioning of the project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ordination of the  participating partie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dministrator</a:t>
            </a:r>
            <a:r>
              <a:rPr b="0" lang="en-US" sz="4000" spc="-1" strike="noStrike">
                <a:solidFill>
                  <a:srgbClr val="cc3300"/>
                </a:solidFill>
                <a:latin typeface="Arial"/>
              </a:rPr>
              <a:t> </a:t>
            </a:r>
            <a:endParaRPr b="0" lang="en-US" sz="40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 charge of:</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oject financ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ogistical arrangement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ureaucratic details of the project</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Lead cartographer/GIS specialist</a:t>
            </a:r>
            <a:r>
              <a:rPr b="0" lang="en-US" sz="4400" spc="-1" strike="noStrike">
                <a:solidFill>
                  <a:srgbClr val="cc3300"/>
                </a:solidFill>
                <a:latin typeface="Arial"/>
              </a:rPr>
              <a:t> </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rson in charge of the technical uni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sponsible for: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athering all the cartographic material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tting up the laboratory (if need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lecting technical staff</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upervising the technical work</a:t>
            </a:r>
            <a:endParaRPr b="0" lang="en-US" sz="28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munity leaders</a:t>
            </a:r>
            <a:endParaRPr b="0" lang="en-US" sz="4400" spc="-1" strike="noStrike">
              <a:solidFill>
                <a:srgbClr val="cc3300"/>
              </a:solidFill>
              <a:latin typeface="Arial"/>
            </a:endParaRPr>
          </a:p>
        </p:txBody>
      </p:sp>
      <p:sp>
        <p:nvSpPr>
          <p:cNvPr id="106" name="PlaceHolder 2"/>
          <p:cNvSpPr>
            <a:spLocks noGrp="1"/>
          </p:cNvSpPr>
          <p:nvPr>
            <p:ph/>
          </p:nvPr>
        </p:nvSpPr>
        <p:spPr>
          <a:xfrm>
            <a:off x="457200" y="1407960"/>
            <a:ext cx="8229600" cy="4857840"/>
          </a:xfrm>
          <a:prstGeom prst="rect">
            <a:avLst/>
          </a:prstGeom>
          <a:noFill/>
          <a:ln w="0">
            <a:noFill/>
          </a:ln>
        </p:spPr>
        <p:txBody>
          <a:bodyPr lIns="90000" rIns="90000" tIns="46800" bIns="46800" anchor="t">
            <a:normAutofit/>
          </a:bodyPr>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present and protect the interests of the people whose resources are mapped </a:t>
            </a:r>
            <a:endParaRPr b="0" lang="en-US" sz="3200" spc="-1" strike="noStrike">
              <a:solidFill>
                <a:srgbClr val="5f5f5f"/>
              </a:solidFill>
              <a:latin typeface="Arial"/>
            </a:endParaRPr>
          </a:p>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ndle communication: serve as “bridge” between the communities and outsiders </a:t>
            </a:r>
            <a:endParaRPr b="0" lang="en-US" sz="3200" spc="-1" strike="noStrike">
              <a:solidFill>
                <a:srgbClr val="5f5f5f"/>
              </a:solidFill>
              <a:latin typeface="Arial"/>
            </a:endParaRPr>
          </a:p>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ordinate participants at the community level  </a:t>
            </a:r>
            <a:endParaRPr b="0" lang="en-US" sz="3200" spc="-1" strike="noStrike">
              <a:solidFill>
                <a:srgbClr val="5f5f5f"/>
              </a:solidFill>
              <a:latin typeface="Arial"/>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munity leaders</a:t>
            </a:r>
            <a:endParaRPr b="0" lang="en-US" sz="4400" spc="-1" strike="noStrike">
              <a:solidFill>
                <a:srgbClr val="cc3300"/>
              </a:solidFill>
              <a:latin typeface="Arial"/>
            </a:endParaRPr>
          </a:p>
        </p:txBody>
      </p:sp>
      <p:sp>
        <p:nvSpPr>
          <p:cNvPr id="108" name="PlaceHolder 2"/>
          <p:cNvSpPr>
            <a:spLocks noGrp="1"/>
          </p:cNvSpPr>
          <p:nvPr>
            <p:ph/>
          </p:nvPr>
        </p:nvSpPr>
        <p:spPr>
          <a:xfrm>
            <a:off x="457200" y="1407960"/>
            <a:ext cx="8229600" cy="4857840"/>
          </a:xfrm>
          <a:prstGeom prst="rect">
            <a:avLst/>
          </a:prstGeom>
          <a:noFill/>
          <a:ln w="0">
            <a:noFill/>
          </a:ln>
        </p:spPr>
        <p:txBody>
          <a:bodyPr lIns="90000" rIns="90000" tIns="46800" bIns="46800" anchor="t">
            <a:normAutofit/>
          </a:bodyPr>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ordinate villagers responsible for gathering, geocoding and mapping information </a:t>
            </a:r>
            <a:endParaRPr b="0" lang="en-US" sz="3200" spc="-1" strike="noStrike">
              <a:solidFill>
                <a:srgbClr val="5f5f5f"/>
              </a:solidFill>
              <a:latin typeface="Arial"/>
            </a:endParaRPr>
          </a:p>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ust be recognised community leaders </a:t>
            </a:r>
            <a:endParaRPr b="0" lang="en-US" sz="3200" spc="-1" strike="noStrike">
              <a:solidFill>
                <a:srgbClr val="5f5f5f"/>
              </a:solidFill>
              <a:latin typeface="Arial"/>
            </a:endParaRPr>
          </a:p>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hould not be selected by outsider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clusio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Core Team should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ot be imposed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sure smooth and effective management of the project dealing with different stakehold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have a composition and structure that conform with local customs and value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13:13:54Z</dcterms:created>
  <dc:creator>Mac Chapin</dc:creator>
  <dc:description/>
  <cp:keywords>pgis training kit</cp:keywords>
  <dc:language>en-US</dc:language>
  <cp:lastModifiedBy>hkraft</cp:lastModifiedBy>
  <dcterms:modified xsi:type="dcterms:W3CDTF">2009-12-31T20:50:26Z</dcterms:modified>
  <cp:revision>26</cp:revision>
  <dc:subject/>
  <dc:title>Presentation -  Assembling a Core 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