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f5f5f"/>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C063-EC60-4D9F-A801-BCC17F2C38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496B-9695-46D8-99B5-BFBBD75FB0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fer to the M07U02 Handout for Trainee and to recommended readings for more information on this topi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1735-99E0-4754-8F38-C7BE07CC60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6BDC-D7BE-417A-9909-C628670DC6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include non-governmental organisations and government age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components within the communities include information gathering, sketch map making and 3-D modelling). Components far from the communities (e.g. in towns or cities) include GIS, cartography and printing of map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AC0F-553D-4092-8B45-9BC20AC7E1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rationale includes the purpose/objective, expected results and related activit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2DC6-879D-4E36-A1A3-78FC68C55B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ory mapping projects are carried out with one or more purposes in mind. These should be clearly defined in the minds of everyone inv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previously completed exercise “</a:t>
            </a:r>
            <a:r>
              <a:rPr b="0" lang="en-GB" sz="1200" spc="-1" strike="noStrike">
                <a:solidFill>
                  <a:srgbClr val="000000"/>
                </a:solidFill>
                <a:latin typeface="Arial"/>
              </a:rPr>
              <a:t>Project Rationale via Problem Tree Analys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37EE-F78E-4E62-81C8-E4CE46D786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design is one thing; the project proposal is something else. Project design will contain an open discussion of the purposes, no matter how political these may be; the project proposal will be much more circumspect and handle the purposes in a much more palatable fash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E13F-0FC4-492D-9F74-E966D017E6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are the products of any mapping project. Participatory mapping projects are also processes that bring people together in a creative, purposeful manner. The outcomes of participatory mapping projects are products and processes; it is often said that while the produced maps are useful, the real benefit is the process that comes into being during the quest for the map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CCD8-A662-4712-A419-971130AF76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ological approach and the choice of the mapping method vary depending on the area covered, the technical capabilities of the actors involved and the resources available. This should be the most detailed section of the project design. It is the technical</a:t>
            </a:r>
            <a:r>
              <a:rPr b="0" i="1" lang="en-US" sz="1200" spc="-1" strike="noStrike">
                <a:solidFill>
                  <a:srgbClr val="000000"/>
                </a:solidFill>
                <a:latin typeface="Arial"/>
              </a:rPr>
              <a:t> </a:t>
            </a:r>
            <a:r>
              <a:rPr b="0" lang="en-US" sz="1200" spc="-1" strike="noStrike">
                <a:solidFill>
                  <a:srgbClr val="000000"/>
                </a:solidFill>
                <a:latin typeface="Arial"/>
              </a:rPr>
              <a:t>component of the project. More details about the choice of mapping method(s) are provided in Module M06.</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BBF4-0BD5-43E6-B657-7756A87E19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 of budget ite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alaries/fees/honoraria (e.g. for community researchers, Core Team members, cartographers/GIS specialis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 (e.g. travel related to pre-project logistics for villagers, community leaders, cartographers,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s (e.g. food and lodging requirements for participants, facilities for worksho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ographic materials, supplies, equipment (e.g. base maps, aerial photographs, satellite images, paper, pens, coloured pencils, drafting tables, lamps, etc.)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pment and materials for documenting the mapping process (e.g. video/audio recorder) and services (e.g. data processing, report writing, video editing, publishing,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design and printing (e.g. durable maps for communities, maps for wider distribu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on work (e.g. networking, communication, advocac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20E6-2344-4CC0-86D1-99BC5E87B0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0FA185-83DE-4B57-8DD1-4BE687B091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22AB0EB-FD2B-4D9F-A473-3B9B392E0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57827CB1-C86C-416A-A53F-772221BE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6AE6EB59-474D-4CF6-B8CD-370C210858E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D76B8AD-2F8F-4EAE-BAB8-4906602E0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772F61F-0211-4384-ACE9-90C3E7DBC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15433EC-5CD1-4156-A082-0C4A61D1DF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D1A0997-EEB0-4E45-8F61-68396855D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4AD6B42-B281-427A-A2BA-1F7E045AF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64B3550-F136-4F02-8563-582F3907C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59EEADF-05D3-440E-9972-0998659DD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A1E256C-70FB-4608-9B4E-7A51DC40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8E9E3D4-E66F-44BA-8810-8D9121BB0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29F0323-5806-47C9-8EFC-291E53FC8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B8AB7A2-B3D2-45CC-AB22-69DD7F572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410C9310-A86D-4F54-897C-D865AA55B3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7C7F5F5-2AE7-4B6F-964F-9BE91A37BC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2BC11A8-18BE-40BC-BC0E-084FD765A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A712427-FDA0-47D8-B58B-6680B6F6E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4F9653E2-5B57-41CB-AFF4-E544F86C0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DD6956D3-DDE2-4A75-9781-81544D808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B05C8ED-88AA-4903-8CD6-106A28A9A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9C0D629-F636-4A4F-9308-0FE750C51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77CC605-D8E0-4547-8A75-8E68FB6D856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C9CE-364E-456B-A91B-5DE2D7068D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0AB4-C298-4BFE-851A-D329865F47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oject Design and Financing</a:t>
            </a:r>
            <a:endParaRPr b="0" lang="en-US" sz="4400" spc="-1" strike="noStrike">
              <a:solidFill>
                <a:srgbClr val="cc3300"/>
              </a:solidFill>
              <a:latin typeface="Arial"/>
            </a:endParaRPr>
          </a:p>
        </p:txBody>
      </p:sp>
      <p:sp>
        <p:nvSpPr>
          <p:cNvPr id="91" name="Rectangle 4"/>
          <p:cNvSpPr/>
          <p:nvPr/>
        </p:nvSpPr>
        <p:spPr>
          <a:xfrm>
            <a:off x="2623680" y="5157720"/>
            <a:ext cx="389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Mac Chapin and Natalia Martens</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7U02</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lusion</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clear, well-articulated project design is similar to a good road map: if followed, it will get project initiators where they want to go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ticipatory mapping project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re technical and social-organisational exercises that involve a number of acto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volve several components to be performed in different plac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quire careful plann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hould be presented in a project format that meets the expectations of the funding agency and includes a budge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igning the project</a:t>
            </a:r>
            <a:endParaRPr b="0" lang="en-US" sz="4400" spc="-1" strike="noStrike">
              <a:solidFill>
                <a:srgbClr val="cc3300"/>
              </a:solidFill>
              <a:latin typeface="Arial"/>
            </a:endParaRPr>
          </a:p>
        </p:txBody>
      </p:sp>
      <p:sp>
        <p:nvSpPr>
          <p:cNvPr id="97" name="PlaceHolder 2"/>
          <p:cNvSpPr>
            <a:spLocks noGrp="1"/>
          </p:cNvSpPr>
          <p:nvPr>
            <p:ph/>
          </p:nvPr>
        </p:nvSpPr>
        <p:spPr>
          <a:xfrm>
            <a:off x="457200" y="1457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ssential elements of a project proposal:</a:t>
            </a:r>
            <a:endParaRPr b="0" lang="en-US" sz="32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project rationale </a:t>
            </a:r>
            <a:endParaRPr b="0" lang="en-US" sz="28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mplementation methodology and schedule</a:t>
            </a:r>
            <a:endParaRPr b="0" lang="en-US" sz="28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nits costs and quantities and budget</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project proposal is used to seek financial suppor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 </a:t>
            </a:r>
            <a:r>
              <a:rPr b="0" lang="en-US" sz="4400" spc="-1" strike="noStrike">
                <a:solidFill>
                  <a:srgbClr val="cc3300"/>
                </a:solidFill>
                <a:latin typeface="Arial"/>
              </a:rPr>
              <a:t>Project purpose</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project purpose represents the solution for the problem’s root causes which the initiators have identifi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s can serve multiple purposes, but there is generally a primary reason for mapping one’s land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 </a:t>
            </a:r>
            <a:r>
              <a:rPr b="0" lang="en-US" sz="4400" spc="-1" strike="noStrike">
                <a:solidFill>
                  <a:srgbClr val="cc3300"/>
                </a:solidFill>
                <a:latin typeface="Arial"/>
              </a:rPr>
              <a:t>Project design and proposal</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ject design: deals with all issues (including sensitive issues) as perceived by the project initiato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ject proposal: is tailored for outsiders (e.g. funding agency) and so handles purposes in a more palatable fash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utcome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ducts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cess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ringing people togeth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enerating community cohes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earning by doing and exchanging</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hodology, mapping methods and actor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ope of the mapping initiativ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ping methods (e.g. 3-D model, sketch map, use of remote-sense images,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will be involv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re will it take pl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is the time fram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udget items</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ocal salaries, fees and honoraria</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vel expenses</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orkshops (venue, food and accommodation)</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rtography (materials, supplies and equipment) </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cumentation (supplies, equipment, processing, editing, translating and publishing)</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rvices (map design and printing)</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llow-on work</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requisites for success</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ear project design</a:t>
            </a:r>
            <a:r>
              <a:rPr b="0" lang="en-US" sz="2800" spc="-1" strike="noStrike">
                <a:solidFill>
                  <a:srgbClr val="5f5f5f"/>
                </a:solidFill>
                <a:latin typeface="Arial"/>
              </a:rPr>
              <a:t> </a:t>
            </a:r>
            <a:endParaRPr b="0" lang="en-US" sz="2800" spc="-1" strike="noStrike">
              <a:solidFill>
                <a:srgbClr val="5f5f5f"/>
              </a:solidFill>
              <a:latin typeface="Arial"/>
            </a:endParaRPr>
          </a:p>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ell-designed budget</a:t>
            </a:r>
            <a:r>
              <a:rPr b="0" lang="en-US" sz="2800" spc="-1" strike="noStrike">
                <a:solidFill>
                  <a:srgbClr val="5f5f5f"/>
                </a:solidFill>
                <a:latin typeface="Arial"/>
              </a:rPr>
              <a:t> </a:t>
            </a:r>
            <a:endParaRPr b="0" lang="en-US" sz="2800" spc="-1" strike="noStrike">
              <a:solidFill>
                <a:srgbClr val="5f5f5f"/>
              </a:solidFill>
              <a:latin typeface="Arial"/>
            </a:endParaRPr>
          </a:p>
          <a:p>
            <a:pPr lvl="1" marL="743040" indent="-28584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vering full project implementation</a:t>
            </a:r>
            <a:endParaRPr b="0" lang="en-US" sz="2800" spc="-1" strike="noStrike">
              <a:solidFill>
                <a:srgbClr val="5f5f5f"/>
              </a:solidFill>
              <a:latin typeface="Arial"/>
            </a:endParaRPr>
          </a:p>
          <a:p>
            <a:pPr lvl="1" marL="743040" indent="-28584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cluding contingencies to address changing circumstances</a:t>
            </a:r>
            <a:endParaRPr b="0" lang="en-US" sz="28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vailability of funds to cover project implementation before project begin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3:26:31Z</dcterms:created>
  <dc:creator>Mac Chapin</dc:creator>
  <dc:description/>
  <cp:keywords>pgis training kit</cp:keywords>
  <dc:language>en-US</dc:language>
  <cp:lastModifiedBy>Giacomo Rambaldi</cp:lastModifiedBy>
  <dcterms:modified xsi:type="dcterms:W3CDTF">2010-01-23T01:07:40Z</dcterms:modified>
  <cp:revision>55</cp:revision>
  <dc:subject/>
  <dc:title>Presentation - Project Design and Financ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