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6C4C-CB6F-4CD8-B702-14E8EC8AB4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2DE2-A0FE-4113-A4BA-16E517A58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fer to the M07U04 Handout for Trainee and to recommended readings for more information on this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AB9-150D-4386-9A42-2590A8041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government agencies know what is going on, they are more likely to allow a mapping project to move forward without interference. Contacts with government agencies and NGOs should be kept alive during the course of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68B5-FE45-4A22-8309-9DE8B6A92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: Drafting maps is a technical exercise that demands specialised and technical ski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: The political nature of maps surfaces when they are put to use, especially when maps are used to claim or defend land, protect natural resources and consolidate political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maps work: see Module M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12F9-68C6-4900-B9C5-FA65F3316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F0B4-E805-4F12-B077-D87060D3B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37C7-EB73-45B4-AF50-D4A08562E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9E18-B416-49E2-8C12-A294EC4612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E7F3-EC4B-4776-BE34-B7E276CB37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project comes together and staff is hired, more specific information about the methodology can be shared with the recipient i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902F-6C53-4EE9-B2DA-3FF2C1E5C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lan to conduct a mapping exercise in an area which is considered sensitive by the military, you need to seek permission from them to perform the activity. Without a green light from them, nothing should b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4EA6-F20C-4030-9E69-193209DDAE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EF97-185B-493A-9BD8-45039DF4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F508-ECD4-4A1C-A1A8-C375E98F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7903-04B4-41AA-A806-DB0E05172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1055B-D3D3-4B6F-AA47-D160D937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69325-41C0-48E4-B1B4-6380FAC1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D2412-04C6-4BD7-A811-712AB6E1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F1BD9-3E12-4170-911B-6128EE89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C3D83-EF1C-4A72-BD24-68B1B1C6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7CAFF-0063-4E9B-BA4E-353A6572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B805E-7D9D-4267-B08D-1579F3F8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EB52-4DFD-43BE-A3B1-BD989D18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73ACF-60AB-428B-B89D-EC011E1B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94B45-4D5E-4750-8EEB-A8B879F3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F724D-D0B0-4C44-8A24-A6850564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4E539-365C-4CD4-821F-4933C1E5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B7796-F72C-4739-80E6-7EC1615D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BA43-1652-48CE-A116-B6D00257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D5F9-3ECE-404F-8FE9-4755F8BA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D407-09C6-48DF-A8CB-9BF7CA2B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E256-BA08-4EAC-B5B8-C1625CA8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B7D1-A9FA-41D3-922E-CD535F5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376B-36C6-4269-BA2A-754042A1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5CF2-16FE-4941-A7F7-B006D750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1D8E-4F69-45FC-B6CA-8578739898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BC48-790B-41A2-AB4B-60E36564B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Visiting Government Agencies and NG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04520" y="5084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Mac Cha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7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keys for success in dealing with external institutions ar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ilored entry strateg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ransparency in the proces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volving national cartographic agenci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intaining contacts with government agenci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dual nature of ma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tory map making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3348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an be perceived as a “tool” and/or as a “weapon”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3348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mbodies “technical” and “political” action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3348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aises red flags with government agencies because it is often perceived as threaten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dual nature of ma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“political” nature of maps surfaces when they are used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laim or defend land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nsolidate political power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sert rights on resourc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upport communicatio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ake control of real estat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mpower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ps may empower those who produce and possess them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ow to present the idea of participatory mapping to government agencie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mart strategi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pare the ground, study the institutional framework and strategi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pare a communication strateg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ek collaboration with the government mapping agenci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paratory work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ke a thorough assessment of the government agencies and key NGOs that may work on similar issues (conduct a document search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laborate key messages and action points to introduce the mapping project to these institution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ke initial contacts and discuss general them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ke a face to face assessment of the likely standing of the institution regarding the issues at stak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llaboration with the national mapping agenc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 many countries, the most skilled, experienced cartographers work for the governme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Government cartographers generally have access to exclusive inform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25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sing government employees on the project team gives the project: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n “official” seal of approval;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ore credibility in the eyes of the government, which is an asset when the maps are produce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pproach to visi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ailor presentations to the recipient institu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Keep the presentation as technical as possibl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vide positive examples of using map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void raising sensitive agendas, such as claiming land rights or blocking the entrance to extractive enterpris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tress that there is a need for good, accurate data as a basis for fruitful exchang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pproach to visi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all attention to the fact that map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y be useful in addressing disputes over natural resources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y contribute to planning and environmental education programm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acilitate discussion rather than confront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tain written permission from key government agenci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09:14:51Z</dcterms:created>
  <dc:creator>Mac Chapin</dc:creator>
  <dc:description/>
  <cp:keywords>pgis training kit</cp:keywords>
  <dc:language>en-US</dc:language>
  <cp:lastModifiedBy>Giacomo Rambaldi</cp:lastModifiedBy>
  <dcterms:modified xsi:type="dcterms:W3CDTF">2010-01-23T01:37:48Z</dcterms:modified>
  <cp:revision>37</cp:revision>
  <dc:subject>Module M07</dc:subject>
  <dc:title>Presentation - Visiting Government Agencies and NG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