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5BA0-EF6E-487E-A601-A8642B0108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24FB-8DEB-4B30-8CD8-342912CB3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fer to the M07U05 Handout for Trainee and to recommended readings for more information on this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5DDB-2972-44E3-AC4B-B61BE3C1E6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logistical arrangements must be made so that the project can run smoothly. These arrangements must be made in a timely fashion; many must be in place before project activities get under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40A9-1652-41A6-8A8B-6E527FB34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46C4-D687-4EF1-926E-C1D514B663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5DA6-D63E-4105-8044-DD4CFF0F4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priate workshop space may be a school or a community meeting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32E4-7C5C-4E4F-82B7-6773A59F6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EE65-218C-47FB-9BFD-8930554EA4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not an easy task to locate adequate printing fac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30A1-C00D-4E75-A0BE-E65DC25CA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685F-9E60-4261-A2CD-B4F4135AA1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A0A4-327A-4517-A858-7E7EEEB9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8CBB-8044-467C-A8A2-E94696AB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8E86-4E07-49E9-B91E-3041F74542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88EBE-F6F6-4695-B873-6352FEE2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F514E-BF63-4C0E-B703-30BE157D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10BDE-51AC-4CC5-8073-C781ECF3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CD948-BBF1-4E63-8B58-FF02EA95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6370C-BBBA-4F83-A24F-32F16098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DCE93-674F-41E0-A409-F0BE261D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4E775-0C52-41BF-944E-E4BA85F7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87E1-78CE-491B-B0AC-57DAB75C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03F44-D41C-4826-8F23-173ACFC8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6508E-A52D-4E61-B8A2-BC0E59BD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E9741-5C5F-4C1D-AC04-41A3E45F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085EC-9E03-4B58-9BFE-638F545B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B545B-088E-4FAB-8C12-EA7EF17D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110E-CE8B-415A-8215-6772FB78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85E99-F5AA-4CE5-A9FB-2BD3CD91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6A6C-2258-4BD5-9BEF-CBF447FA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B40B4-8CDB-43C5-ADDF-4A73EDE6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717A-EBCF-4F76-B69A-D8EA65A9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FB8B2-ABD8-4218-842B-3E37034A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B3AC-D2E9-425F-893A-6796F780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6178-DF91-4C67-9FDB-DDEB5200A0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E6C8-4058-446A-875A-AEF186E293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ranging Project Logistic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810960" y="51577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Mac Cha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7U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oject logistics cover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workshop venues (which are often in cities)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vel by community members and technical staff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gning contracts for workshop space and accommodations for participant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curement of equipment and material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duction and distribution of output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ketching out logistical requir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logistical requirements are based on the project proposal and budge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ose attention should be paid t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trajectory of the project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funds allotted for the various budget item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vel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ost communities are often located in remote areas with difficult acces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vel can be by bus, boat, airplane or a combination of these methods, and at times it can become very complex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vel must be addressed early in the project to make sure that transportation will be availabl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ternational travel also needs to be firmed up before project activities begi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orksho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 appropriate space for the workshop needs to be foun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nts from distant locations must be provided with board and lodg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Research materials, supplies, equipment and service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re is a constant need for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artographic materials (e.g. aerial photographs, satellite images, base maps, etc.)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per, pencils, pens, white out, erasers, paint, cardboard, glue, tape, printer cartridges and a variety of other suppli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quipment needs to be rented or bough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inting the final ma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final maps need to be professionally designed and prin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 some countries and regions, no adequate facilities exist and it is necessary to find a printing firm abroa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wo broad types of logistical arrangement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ose that require considerable lead time and must be made in adva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many small actions that must be made on an impromptu daily basi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1:51:20Z</dcterms:created>
  <dc:creator>Mac Chapin</dc:creator>
  <dc:description/>
  <cp:keywords>pgis training kit</cp:keywords>
  <dc:language>en-US</dc:language>
  <cp:lastModifiedBy>Giacomo Rambaldi</cp:lastModifiedBy>
  <dcterms:modified xsi:type="dcterms:W3CDTF">2010-01-23T01:45:26Z</dcterms:modified>
  <cp:revision>31</cp:revision>
  <dc:subject>M07 - Project Structuring and Initial Reconnaissance</dc:subject>
  <dc:title>Presentation - Arranging Log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