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5f5f5f"/>
                </a:solidFill>
                <a:latin typeface="Times New Roman"/>
              </a:defRPr>
            </a:lvl1pPr>
          </a:lstStyle>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408C5-F32D-4107-8E71-EBF107E81D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D698A-B3C0-41E0-8A3F-46E418581D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fer to the M07U02 Handout for Trainee and to recommended readings for more information on this topi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26A9D-8864-4620-B9DC-93F35BE9C2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91159-ED22-4205-B74F-26DE94C1C7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include non-governmental organisations and government agenc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components within the communities include information gathering, sketch map making and 3-D modelling). Components far from the communities (e.g. in towns or cities) include GIS, cartography and printing of map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3885D-5809-41F6-9BEB-C4E00F8026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ject rationale includes the purpose/objective, expected results and related activiti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E3D4F-2D14-4950-B7E1-93B9D37EE3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ory mapping projects are carried out with one or more purposes in mind. These should be clearly defined in the minds of everyone invol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he previously completed exercise “</a:t>
            </a:r>
            <a:r>
              <a:rPr b="0" lang="en-GB" sz="1200" spc="-1" strike="noStrike">
                <a:solidFill>
                  <a:srgbClr val="000000"/>
                </a:solidFill>
                <a:latin typeface="Arial"/>
              </a:rPr>
              <a:t>Project Rationale via Problem Tree Analysi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886AE-ACEF-487D-9168-5D04444F29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design is one thing; the project proposal is something else. Project design will contain an open discussion of the purposes, no matter how political these may be; the project proposal will be much more circumspect and handle the purposes in a much more palatable fashio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E4B79-9E92-44ED-9A5A-0E7075358D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s are the products of any mapping project. Participatory mapping projects are also processes that bring people together in a creative, purposeful manner. The outcomes of participatory mapping projects are products and processes; it is often said that while the produced maps are useful, the real benefit is the process that comes into being during the quest for the map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40740-448D-4677-AAC4-0C76616565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ological approach and the choice of the mapping method vary depending on the area covered, the technical capabilities of the actors involved and the resources available. This should be the most detailed section of the project design. It is the technical</a:t>
            </a:r>
            <a:r>
              <a:rPr b="0" i="1" lang="en-US" sz="1200" spc="-1" strike="noStrike">
                <a:solidFill>
                  <a:srgbClr val="000000"/>
                </a:solidFill>
                <a:latin typeface="Arial"/>
              </a:rPr>
              <a:t> </a:t>
            </a:r>
            <a:r>
              <a:rPr b="0" lang="en-US" sz="1200" spc="-1" strike="noStrike">
                <a:solidFill>
                  <a:srgbClr val="000000"/>
                </a:solidFill>
                <a:latin typeface="Arial"/>
              </a:rPr>
              <a:t>component of the project. More details about the choice of mapping method(s) are provided in Module M06.</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E94D6-237F-4BCD-AC40-65DC7DAA09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examples of budget item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alaries/fees/honoraria (e.g. for community researchers, Core Team members, cartographers/GIS specialis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 (e.g. travel related to pre-project logistics for villagers, community leaders, cartographers, etc.);</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ops (e.g. food and lodging requirements for participants, facilities for workshop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ographic materials, supplies, equipment (e.g. base maps, aerial photographs, satellite images, paper, pens, coloured pencils, drafting tables, lamps, etc.)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pment and materials for documenting the mapping process (e.g. video/audio recorder) and services (e.g. data processing, report writing, video editing, publishing, etc.);</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design and printing (e.g. durable maps for communities, maps for wider distribu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on work (e.g. networking, communication, advocac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B1D39-7E51-44DB-8EB0-BF8BD1F0F7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A39B3B-C4F0-4166-AFDC-7D8080E6EBA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A5E1DC37-64DA-4A0C-9E12-ED2A20E6C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584A4012-436F-49A6-8A0B-6569B5FF9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90959A93-8F53-4448-B734-D4DAB3B2C3F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52399E36-3FE2-43B5-B5D7-7A7C6C857B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59236770-F010-42DD-8BAA-1047F0DD68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CF5C3EC8-C01F-42C0-BE7C-7AB39EA4FF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9A939612-94BC-4575-B4C2-36AC0307C2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A22767C9-2A78-4454-A6C2-C8DE747E99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3DC6887E-12CC-4C99-B336-777C503088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A010B35-6DE7-425F-A011-5D249BAA8E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DD019141-BA13-4C98-AB87-DBB8FADEF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467CC22-2222-4E9D-9F27-3C7ED3CE7A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6F07B04-43A8-4BB1-A1D5-6363962E37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2C375AD1-54C2-4F1A-9991-A1A42395E8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239263AA-88AB-4588-B25C-7FCCF0D367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F80A9234-95B7-4862-8C25-A52DCFFA6D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5BBC4F9E-3538-4D87-A981-4DC046B4B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08CCFEBB-2B67-4E55-8640-23AC9F688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59731A64-2CF9-42AA-941C-24E673047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29B8EEFE-6C20-45E2-B99B-C0FE1AA1C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5F213153-997C-40FF-B777-635E16789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8CA87DAE-7B89-4D20-AF93-D00A20127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FBEC1359-6C10-42C3-B579-77536955556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5573-1A30-49C1-BDB2-979FBEA05DB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959C-DD82-4A4B-B39C-7600C072181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roject Design and Financing</a:t>
            </a:r>
            <a:endParaRPr b="0" lang="en-US" sz="4400" spc="-1" strike="noStrike">
              <a:solidFill>
                <a:srgbClr val="cc3300"/>
              </a:solidFill>
              <a:latin typeface="Arial"/>
            </a:endParaRPr>
          </a:p>
        </p:txBody>
      </p:sp>
      <p:sp>
        <p:nvSpPr>
          <p:cNvPr id="91" name="Rectangle 4"/>
          <p:cNvSpPr/>
          <p:nvPr/>
        </p:nvSpPr>
        <p:spPr>
          <a:xfrm>
            <a:off x="2623680" y="5157720"/>
            <a:ext cx="3896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By: Mac Chapin and Natalia Martens</a:t>
            </a:r>
            <a:endParaRPr b="0" lang="en-US" sz="1800" spc="-1" strike="noStrike">
              <a:solidFill>
                <a:srgbClr val="000000"/>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Unit: M07U02</a:t>
            </a:r>
            <a:endParaRPr b="0" lang="en-US" sz="1800" spc="-1" strike="noStrike">
              <a:solidFill>
                <a:srgbClr val="000000"/>
              </a:solidFill>
              <a:latin typeface="Arial"/>
            </a:endParaRPr>
          </a:p>
        </p:txBody>
      </p:sp>
      <p:pic>
        <p:nvPicPr>
          <p:cNvPr id="93"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clusion</a:t>
            </a:r>
            <a:endParaRPr b="0" lang="en-US" sz="4400" spc="-1" strike="noStrike">
              <a:solidFill>
                <a:srgbClr val="cc33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 clear, well-articulated project design is similar to a good road map: if followed, it will get project initiators where they want to go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a:t>
            </a:r>
            <a:endParaRPr b="0" lang="en-US" sz="4400" spc="-1" strike="noStrike">
              <a:solidFill>
                <a:srgbClr val="cc33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articipatory mapping project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re technical and social-organisational exercises that involve a number of actor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nvolve several components to be performed in different plac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quire careful planning;</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hould be presented in a project format that meets the expectations of the funding agency and includes a budget.</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esigning the project</a:t>
            </a:r>
            <a:endParaRPr b="0" lang="en-US" sz="4400" spc="-1" strike="noStrike">
              <a:solidFill>
                <a:srgbClr val="cc3300"/>
              </a:solidFill>
              <a:latin typeface="Arial"/>
            </a:endParaRPr>
          </a:p>
        </p:txBody>
      </p:sp>
      <p:sp>
        <p:nvSpPr>
          <p:cNvPr id="97" name="PlaceHolder 2"/>
          <p:cNvSpPr>
            <a:spLocks noGrp="1"/>
          </p:cNvSpPr>
          <p:nvPr>
            <p:ph/>
          </p:nvPr>
        </p:nvSpPr>
        <p:spPr>
          <a:xfrm>
            <a:off x="457200" y="1457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ssential elements of a project proposal:</a:t>
            </a:r>
            <a:endParaRPr b="0" lang="en-US" sz="3200" spc="-1" strike="noStrike">
              <a:solidFill>
                <a:srgbClr val="5f5f5f"/>
              </a:solidFill>
              <a:latin typeface="Arial"/>
            </a:endParaRPr>
          </a:p>
          <a:p>
            <a:pPr lvl="1" marL="966960" indent="-509760">
              <a:spcBef>
                <a:spcPts val="700"/>
              </a:spcBef>
              <a:buClr>
                <a:srgbClr val="5f5f5f"/>
              </a:buClr>
              <a:buFont typeface="Arial"/>
              <a:buChar char="–"/>
              <a:tabLst>
                <a:tab algn="l" pos="901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e project rationale </a:t>
            </a:r>
            <a:endParaRPr b="0" lang="en-US" sz="2800" spc="-1" strike="noStrike">
              <a:solidFill>
                <a:srgbClr val="5f5f5f"/>
              </a:solidFill>
              <a:latin typeface="Arial"/>
            </a:endParaRPr>
          </a:p>
          <a:p>
            <a:pPr lvl="1" marL="966960" indent="-509760">
              <a:spcBef>
                <a:spcPts val="700"/>
              </a:spcBef>
              <a:buClr>
                <a:srgbClr val="5f5f5f"/>
              </a:buClr>
              <a:buFont typeface="Arial"/>
              <a:buChar char="–"/>
              <a:tabLst>
                <a:tab algn="l" pos="901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mplementation methodology and schedule</a:t>
            </a:r>
            <a:endParaRPr b="0" lang="en-US" sz="2800" spc="-1" strike="noStrike">
              <a:solidFill>
                <a:srgbClr val="5f5f5f"/>
              </a:solidFill>
              <a:latin typeface="Arial"/>
            </a:endParaRPr>
          </a:p>
          <a:p>
            <a:pPr lvl="1" marL="966960" indent="-509760">
              <a:spcBef>
                <a:spcPts val="700"/>
              </a:spcBef>
              <a:buClr>
                <a:srgbClr val="5f5f5f"/>
              </a:buClr>
              <a:buFont typeface="Arial"/>
              <a:buChar char="–"/>
              <a:tabLst>
                <a:tab algn="l" pos="901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units costs and quantities and budget</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project proposal is used to seek financial support.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 </a:t>
            </a:r>
            <a:r>
              <a:rPr b="0" lang="en-US" sz="4400" spc="-1" strike="noStrike">
                <a:solidFill>
                  <a:srgbClr val="cc3300"/>
                </a:solidFill>
                <a:latin typeface="Arial"/>
              </a:rPr>
              <a:t>Project purpose</a:t>
            </a:r>
            <a:endParaRPr b="0" lang="en-US" sz="4400" spc="-1" strike="noStrike">
              <a:solidFill>
                <a:srgbClr val="cc33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project purpose represents the solution for the problem’s root causes which the initiators have identifi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s can serve multiple purposes, but there is generally a primary reason for mapping one’s land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 </a:t>
            </a:r>
            <a:r>
              <a:rPr b="0" lang="en-US" sz="4400" spc="-1" strike="noStrike">
                <a:solidFill>
                  <a:srgbClr val="cc3300"/>
                </a:solidFill>
                <a:latin typeface="Arial"/>
              </a:rPr>
              <a:t>Project design and proposal</a:t>
            </a:r>
            <a:endParaRPr b="0" lang="en-US" sz="4400" spc="-1" strike="noStrike">
              <a:solidFill>
                <a:srgbClr val="cc33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oject design: deals with all issues (including sensitive issues) as perceived by the project initiator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oject proposal: is tailored for outsiders (e.g. funding agency) and so handles purposes in a more palatable fashio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utcomes</a:t>
            </a:r>
            <a:endParaRPr b="0" lang="en-US" sz="4400" spc="-1" strike="noStrike">
              <a:solidFill>
                <a:srgbClr val="cc33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oducts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ocesse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bringing people together</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generating community cohes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learning by doing and exchanging</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ethodology, mapping methods and actors</a:t>
            </a:r>
            <a:endParaRPr b="0" lang="en-US" sz="4400" spc="-1" strike="noStrike">
              <a:solidFill>
                <a:srgbClr val="cc33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cope of the mapping initiativ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ping methods (e.g. 3-D model, sketch map, use of remote-sense images, GI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 will be involv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ere will it take pla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at is the time fram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Budget items</a:t>
            </a:r>
            <a:endParaRPr b="0" lang="en-US" sz="4400" spc="-1" strike="noStrike">
              <a:solidFill>
                <a:srgbClr val="cc33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Local salaries, fees and honoraria</a:t>
            </a:r>
            <a:endParaRPr b="0" lang="en-US" sz="2800" spc="-1" strike="noStrike">
              <a:solidFill>
                <a:srgbClr val="5f5f5f"/>
              </a:solidFill>
              <a:latin typeface="Arial"/>
            </a:endParaRPr>
          </a:p>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ravel expenses</a:t>
            </a:r>
            <a:endParaRPr b="0" lang="en-US" sz="2800" spc="-1" strike="noStrike">
              <a:solidFill>
                <a:srgbClr val="5f5f5f"/>
              </a:solidFill>
              <a:latin typeface="Arial"/>
            </a:endParaRPr>
          </a:p>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orkshops (venue, food and accommodation)</a:t>
            </a:r>
            <a:endParaRPr b="0" lang="en-US" sz="2800" spc="-1" strike="noStrike">
              <a:solidFill>
                <a:srgbClr val="5f5f5f"/>
              </a:solidFill>
              <a:latin typeface="Arial"/>
            </a:endParaRPr>
          </a:p>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artography (materials, supplies and equipment) </a:t>
            </a:r>
            <a:endParaRPr b="0" lang="en-US" sz="2800" spc="-1" strike="noStrike">
              <a:solidFill>
                <a:srgbClr val="5f5f5f"/>
              </a:solidFill>
              <a:latin typeface="Arial"/>
            </a:endParaRPr>
          </a:p>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ocumentation (supplies, equipment, processing, editing, translating and publishing)</a:t>
            </a:r>
            <a:endParaRPr b="0" lang="en-US" sz="2800" spc="-1" strike="noStrike">
              <a:solidFill>
                <a:srgbClr val="5f5f5f"/>
              </a:solidFill>
              <a:latin typeface="Arial"/>
            </a:endParaRPr>
          </a:p>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rvices (map design and printing)</a:t>
            </a:r>
            <a:endParaRPr b="0" lang="en-US" sz="2800" spc="-1" strike="noStrike">
              <a:solidFill>
                <a:srgbClr val="5f5f5f"/>
              </a:solidFill>
              <a:latin typeface="Arial"/>
            </a:endParaRPr>
          </a:p>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llow-on work</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rerequisites for success</a:t>
            </a:r>
            <a:endParaRPr b="0" lang="en-US" sz="4400" spc="-1" strike="noStrike">
              <a:solidFill>
                <a:srgbClr val="cc33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5000"/>
              </a:lnSpc>
              <a:spcBef>
                <a:spcPts val="1225"/>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ear project design</a:t>
            </a:r>
            <a:r>
              <a:rPr b="0" lang="en-US" sz="2800" spc="-1" strike="noStrike">
                <a:solidFill>
                  <a:srgbClr val="5f5f5f"/>
                </a:solidFill>
                <a:latin typeface="Arial"/>
              </a:rPr>
              <a:t> </a:t>
            </a:r>
            <a:endParaRPr b="0" lang="en-US" sz="2800" spc="-1" strike="noStrike">
              <a:solidFill>
                <a:srgbClr val="5f5f5f"/>
              </a:solidFill>
              <a:latin typeface="Arial"/>
            </a:endParaRPr>
          </a:p>
          <a:p>
            <a:pPr marL="343080" indent="-343080">
              <a:lnSpc>
                <a:spcPct val="95000"/>
              </a:lnSpc>
              <a:spcBef>
                <a:spcPts val="1225"/>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ell-designed budget</a:t>
            </a:r>
            <a:r>
              <a:rPr b="0" lang="en-US" sz="2800" spc="-1" strike="noStrike">
                <a:solidFill>
                  <a:srgbClr val="5f5f5f"/>
                </a:solidFill>
                <a:latin typeface="Arial"/>
              </a:rPr>
              <a:t> </a:t>
            </a:r>
            <a:endParaRPr b="0" lang="en-US" sz="2800" spc="-1" strike="noStrike">
              <a:solidFill>
                <a:srgbClr val="5f5f5f"/>
              </a:solidFill>
              <a:latin typeface="Arial"/>
            </a:endParaRPr>
          </a:p>
          <a:p>
            <a:pPr lvl="1" marL="743040" indent="-285840">
              <a:lnSpc>
                <a:spcPct val="95000"/>
              </a:lnSpc>
              <a:spcBef>
                <a:spcPts val="1225"/>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vering full project implementation</a:t>
            </a:r>
            <a:endParaRPr b="0" lang="en-US" sz="2800" spc="-1" strike="noStrike">
              <a:solidFill>
                <a:srgbClr val="5f5f5f"/>
              </a:solidFill>
              <a:latin typeface="Arial"/>
            </a:endParaRPr>
          </a:p>
          <a:p>
            <a:pPr lvl="1" marL="743040" indent="-285840">
              <a:lnSpc>
                <a:spcPct val="95000"/>
              </a:lnSpc>
              <a:spcBef>
                <a:spcPts val="1225"/>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ncluding contingencies to address changing circumstances</a:t>
            </a:r>
            <a:endParaRPr b="0" lang="en-US" sz="2800" spc="-1" strike="noStrike">
              <a:solidFill>
                <a:srgbClr val="5f5f5f"/>
              </a:solidFill>
              <a:latin typeface="Arial"/>
            </a:endParaRPr>
          </a:p>
          <a:p>
            <a:pPr marL="343080" indent="-343080">
              <a:lnSpc>
                <a:spcPct val="9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vailability of funds to cover project implementation before project begin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3T13:26:31Z</dcterms:created>
  <dc:creator>Mac Chapin</dc:creator>
  <dc:description/>
  <cp:keywords>pgis training kit</cp:keywords>
  <dc:language>en-US</dc:language>
  <cp:lastModifiedBy>Giacomo Rambaldi</cp:lastModifiedBy>
  <dcterms:modified xsi:type="dcterms:W3CDTF">2010-01-23T01:07:40Z</dcterms:modified>
  <cp:revision>55</cp:revision>
  <dc:subject/>
  <dc:title>Presentation - Project Design and Financ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