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21DD-13E6-4633-AF95-0007B3BD19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6639-A2AD-40D9-BAE6-C1FAB35D56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fer to the M07U04 Handout for Trainee and to recommended readings for more information on this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E034-E107-4E40-BA58-BCB69C6258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government agencies know what is going on, they are more likely to allow a mapping project to move forward without interference. Contacts with government agencies and NGOs should be kept alive during the course of th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42A6-57D7-4360-9AD4-7D3B63E00F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: Drafting maps is a technical exercise that demands specialised and technical ski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: The political nature of maps surfaces when they are put to use, especially when maps are used to claim or defend land, protect natural resources and consolidate political p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ing maps work: see Module M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F606-DAE9-4C00-A42F-752D687756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D528-CF80-41A7-B9FC-DDDE1C800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13C2-F2C3-41A1-B63E-EA9AF3FC91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1ADD-3742-484B-96E1-2C563BD581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0A00-D0F1-4460-AB6A-93A9FE059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project comes together and staff is hired, more specific information about the methodology can be shared with the recipient i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730E-858D-4488-BE89-63B474D010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lan to conduct a mapping exercise in an area which is considered sensitive by the military, you need to seek permission from them to perform the activity. Without a green light from them, nothing should be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665B-1D90-4340-8DF6-FC93B794FC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9055C-03AB-488F-B80E-26A93C04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F51C-00A3-4F0F-B064-DE0DBA8D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9035E-A824-42B5-BA3A-BB5424A4E8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2BABF-FAD5-4700-A46E-A1363258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BD915-E457-49BC-9D79-AF6169A4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89B2F-05C5-41B6-9A78-92B1751F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2921E-2543-4922-A75D-0BD0F018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3D9C6-84F2-49A6-895C-7FB023B1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56EEF-9B0E-4150-8BC9-E86CB551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14134-1372-41D4-B0EC-47B0838C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4E38-6FD2-4A61-BE05-6FB0788F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7DB61-77D2-4768-9A3D-4BC4512B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F5312-A41C-47CF-8C3C-3F0EDF91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60945-9992-43D9-8A8E-027E6DC9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3974B-3751-44B3-9D38-9B02A37A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CADEB-B6AF-4BA3-83D8-1A219A7A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82F1C-6E49-438A-9A1F-82113A41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0C02-82D1-4F12-999A-F1734DF5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9468-2740-4664-A445-D44CB8C8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AF486-B7B9-4AD0-A648-CFEB568C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2AAA-C909-49EA-900B-DB2E868E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4BC1-BFEC-40BD-8DFE-0E1E2F95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DABF-A879-4AAF-8FEE-1CA98A5E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D3B5-10EF-46ED-A520-4AD2A23DFA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3CC4-A097-4C9C-93FD-CA6CD30AA3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Visiting Government Agencies and NG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404520" y="508464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Mac Cha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07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keys for success in dealing with external institutions are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ailored entry strategi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nsparency in the proces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volving national cartographic agenci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intaining contacts with government agenci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dual nature of ma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tory map making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3348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an be perceived as a “tool” and/or as a “weapon”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3348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mbodies “technical” and “political” action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3348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aises red flags with government agencies because it is often perceived as threatening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dual nature of ma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“political” nature of maps surfaces when they are used t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laim or defend land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onsolidate political power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ert rights on resourc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upport communication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ake control of real estat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mpower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aps may empower those who produce and possess them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ow to present the idea of participatory mapping to government agencies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mart strateg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pare the ground, study the institutional framework and strategi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pare a communication strateg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ek collaboration with the government mapping agenci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eparatory work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ke a thorough assessment of the government agencies and key NGOs that may work on similar issues (conduct a document search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laborate key messages and action points to introduce the mapping project to these institution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ke initial contacts and discuss general them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ke a face to face assessment of the likely standing of the institution regarding the issues at stak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llaboration with the national mapping agenc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225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 many countries, the most skilled, experienced cartographers work for the governmen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225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Government cartographers generally have access to exclusive inform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225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Using government employees on the project team gives the project: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n “official” seal of approval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ore credibility in the eyes of the government, which is an asset when the maps are produce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pproach to visi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ailor presentations to the recipient institu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Keep the presentation as technical as possible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ovide positive examples of using map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void raising sensitive agendas, such as claiming land rights or blocking the entrance to extractive enterpris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tress that there is a need for good, accurate data as a basis for fruitful exchang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pproach to visi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all attention to the fact that map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y be useful in addressing disputes over natural resources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y contribute to planning and environmental education programme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acilitate discussion rather than confront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btain written permission from key government agenc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09:14:51Z</dcterms:created>
  <dc:creator>Mac Chapin</dc:creator>
  <dc:description/>
  <cp:keywords>pgis training kit</cp:keywords>
  <dc:language>en-US</dc:language>
  <cp:lastModifiedBy>Giacomo Rambaldi</cp:lastModifiedBy>
  <dcterms:modified xsi:type="dcterms:W3CDTF">2010-01-23T01:37:48Z</dcterms:modified>
  <cp:revision>37</cp:revision>
  <dc:subject>Module M07</dc:subject>
  <dc:title>Presentation - Visiting Government Agencies and NG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