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ECD6-6F18-44AD-A0DD-053BD74341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9CEB-6850-429E-A50F-4C7D4BAB6F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refer to the M07U05 Handout for Trainee and to recommended readings for more information on this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E02E-E512-409D-B751-BDC11C7CFD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logistical arrangements must be made so that the project can run smoothly. These arrangements must be made in a timely fashion; many must be in place before project activities get under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10F5-7D68-4C6D-A522-3EF6899C09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8790-94A9-4379-8EF1-747B230E29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0B31-08A7-41E1-AFA0-6DF726FFDB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priate workshop space may be a school or a community meeting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8CAA-E282-4CEC-ACE5-D54F71FEF3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B336-7ECE-46A3-8329-8845C17F3E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not an easy task to locate adequate printing fac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CDC5-C5DD-4D54-A9CF-8066B45EFE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209B4-1B32-494A-802B-DD0CFB1D9D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AD674-375D-4FA2-9644-0C4DC538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40A3-652B-4814-8176-42E45CAE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AEDB2-2571-45A5-BA14-E1A3E1B5C5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BC37B-9D4F-49ED-942A-91CBDDAC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41762-AC9F-4280-AADB-E1216D53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524B1-A26E-4EAC-AFAC-B8670BCF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9F6EF-8CC6-4873-97A9-0EFE45B9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295B4-4C8B-4ACD-A5C7-8EC97FFD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A1E53-2A4B-4E0A-B394-319590A8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B36D6-8F14-4BD8-8FAB-47460F13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41328-B031-49CB-8B58-2628E35A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1F24C-684C-40D8-9CB5-218FE7C4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77FAC-999F-4D64-A9D3-698B5B44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B17C0-0234-40E4-93D8-B830D27D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F9476-B13A-4556-B795-1BBD3A29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721F0-B6EC-462D-A61C-164045FD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FF250-533A-40DE-B07E-026AC0E6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01D5A-1A18-4118-B440-203E0386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BF423-BE1E-4546-89BB-D772D25C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42F6-E7A6-4600-8037-D73CB7AE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57B23-F201-4445-A255-0FC09A03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341AA-6787-48CD-A76D-738D8D96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79C2E-3601-4243-9922-F967838D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1103-FC64-4828-96F7-74CDB97BC8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2EB3-AE7E-4221-BC1A-33B2EB8956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rranging Project Logistic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810960" y="51577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Mac Cha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07U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oject logistics cover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workshop venues (which are often in cities)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vel by community members and technical staff;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gning contracts for workshop space and accommodations for participant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ocurement of equipment and material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oduction and distribution of output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ketching out logistical requir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logistical requirements are based on the project proposal and budge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ose attention should be paid to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e trajectory of the project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e funds allotted for the various budget item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vel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ost communities are often located in remote areas with difficult acces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vel can be by bus, boat, airplane or a combination of these methods, and at times it can become very complex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vel must be addressed early in the project to make sure that transportation will be availabl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ternational travel also needs to be firmed up before project activities begi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orksho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n appropriate space for the workshop needs to be foun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cipants from distant locations must be provided with board and lodg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Research materials, supplies, equipment and service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re is a constant need for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artographic materials (e.g. aerial photographs, satellite images, base maps, etc.);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aper, pencils, pens, white out, erasers, paint, cardboard, glue, tape, printer cartridges and a variety of other suppli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quipment needs to be rented or bough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rinting the final ma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final maps need to be professionally designed and print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 some countries and regions, no adequate facilities exist and it is necessary to find a printing firm abroa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wo broad types of logistical arrangement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ose that require considerable lead time and must be made in advanc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e many small actions that must be made on an impromptu daily basi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11:51:20Z</dcterms:created>
  <dc:creator>Mac Chapin</dc:creator>
  <dc:description/>
  <cp:keywords>pgis training kit</cp:keywords>
  <dc:language>en-US</dc:language>
  <cp:lastModifiedBy>Giacomo Rambaldi</cp:lastModifiedBy>
  <dcterms:modified xsi:type="dcterms:W3CDTF">2010-01-23T01:45:26Z</dcterms:modified>
  <cp:revision>31</cp:revision>
  <dc:subject>M07 - Project Structuring and Initial Reconnaissance</dc:subject>
  <dc:title>Presentation - Arranging Logis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