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B983-FF53-4ADE-B6A9-A75B87F460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21B1-350C-4ACC-B9C8-083A87207C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verview of the concepts. Concepts are best understood in practice. Invite participants to notice which concepts arise in each of the various exercises in this Unit and others throughout this Module. Also consider how each of these concepts relates to the particular context or mapping project associated with the training.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559A-47B4-41DB-82A3-9F6288879D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erms are often mistakenly used interchangeably. They are not interchangeable, but the concepts are interrelated. You can use a precision measuring device to measure someone’s height and state that she is 160.75 centimetres. However, because you neglected to notice she is wearing high-heel shoes, your measurement is not accurate. She is actually 158 centimetres tall. Another example from mapping: </a:t>
            </a:r>
            <a:r>
              <a:rPr b="0" lang="en-GB" sz="1200" spc="-1" strike="noStrike">
                <a:solidFill>
                  <a:srgbClr val="000000"/>
                </a:solidFill>
                <a:latin typeface="Arial"/>
              </a:rPr>
              <a:t>On a 1:50,000 scale map, the resolution is such that a 1 mm pen mark would represent 50 metres on the ground. Because it is impossible to draw to submetric precision, is it necessary to use survey tools with submetric precis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7701-278B-448E-9701-F31C2E08DB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S measures absolute location. Compass measurements always give relative location. </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24E4-A87E-46F5-ADB9-10153DF056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 points are particularly important when dealing with relative locations or in “tying” relative locations to absolute locations. </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EF20-0596-481D-915B-4BA6FE0D51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are drawn from a set of data. Often in mapping projects, the person drawing the map may or may not be part of the survey team. Thus, the notes must be clearly and systematically presented so that the map can be drawn correctl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verview is intended to give a picture of the full range of data collection methods for scale mapping. Not all methods are used in every mapping project. If it is already known which methods the training will address, those methods should be emphasise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working with base maps in Unit 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using a map and compass is presented in Unit 3. This is one of the more difficult methods of mapping because it requires a good understanding of compass use, map interpretation and geometry. It also requires a certain amount of strategic plann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ss traverse or survey is perhaps the most basic method of mapping because it follows a simple step-by-step process. More about doing a compass traverse is presented in M09U04.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S is a versatile and useful mapping tool, essential for scale mapping of larger areas. Operating a GPS unit and collecting coordinate points are very easy. Understanding how the system works can be challenging because the concepts are quite abstract. More about this is presented in M09U05.</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Tracker is essentially a very efficient way to collect GPS data.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raining is taking place for a particular mapping project, initiate a discussion about how each of these factors applies to the context of the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0E9FC-C8AC-427A-83F8-86A86EAC9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AF2F8-9C64-4F09-8855-45BC91FB8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363B0-56CA-4445-A5DC-97081D029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AD522-B058-4732-B156-908F808C0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6C8D396-A48C-4819-AAEB-4B0934507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1DC3D2F-F41D-42EB-8A7C-0A8581C15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FE7EEC-66C3-4582-BD4F-B882757AA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EA8941-44C0-49B0-A562-D9C2308D4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0F371E-48A7-49BB-9AC1-4BDC0A9D4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C86EF3-564F-4488-A9B9-C6CD8F243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0DBA5D-B2E0-4EEE-BF62-07A204B85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8E180-D8F0-44DD-ADC0-0141EA6EB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9336FF-D19A-4D65-AAD0-F13E37756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9C0831-6A7F-4DEA-8ED1-EBF381763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5E5356-2349-4DE4-9415-7B12E7D25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198A96D-B44F-4BC0-BBE0-F767EC62E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88A211-D670-45C6-ACCB-C3E40BF56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CE08C-FFB6-43A7-B123-147D67B62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7E15E-99E2-4637-A8C3-E8CA88A90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D2AAE-C380-4215-8205-E1A639AA9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D7705-8650-420C-9F4C-C4C75C350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2F78C-EEE1-4260-99BB-C2CF8B978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C40A-978F-4B01-A7D5-9F42D6BC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A33E-F401-4548-AA1D-30FBF601D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D4A2-748D-45D8-88B0-F41D74EDD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BA71-6C9E-4F1A-A5E6-2320D8B0A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collection for scale mapping</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2</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08440" y="515772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epts for collecting </a:t>
            </a:r>
            <a:br>
              <a:rPr sz="4400"/>
            </a:br>
            <a:r>
              <a:rPr b="0" lang="en-US" sz="4400" spc="-1" strike="noStrike">
                <a:solidFill>
                  <a:srgbClr val="cc3300"/>
                </a:solidFill>
                <a:latin typeface="Arial"/>
              </a:rPr>
              <a:t>quality data</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integr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cision, resolution and accurac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iangul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solute and relative loca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tie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interview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integrity</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ssential for the maps to be cred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rnerstones of data integrit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ceabil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sistenc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verifiability</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Resolution, precision and accuracy</a:t>
            </a:r>
            <a:endParaRPr b="0" lang="en-US" sz="40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solution – fineness of the measuring device or 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cision – fineness of the measuring device or scale, plus the human factor and the targeted accurac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ccuracy – the actual correctness of the data, as it fits reality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patial accuracy</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ther the measured and mapped location is within a certain distance of the actual locatio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cceptable level of accuracy depends on the purpose of th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ppropriate resolution and precision of the tools and methods depends on the accuracy desired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ttribute and conceptual accuracy</a:t>
            </a:r>
            <a:endParaRPr b="0" lang="en-US" sz="40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tribute accuracy = how correctly the attribute data is described and dra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ceptual accuracy = how correctly the map depicts community members’ conceptual view</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ttribute and conceptual accuracy</a:t>
            </a:r>
            <a:endParaRPr b="0" lang="en-US" sz="40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tribute and conceptual accuracy depend o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n acceptable level of participation and represent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systematic methodology for documentation, interviewing and note-tak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opportunities for verification, correction and revision at the community level.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iangulation</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A way to cross-check attribute dat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k questions of a person in different way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k different people the same ques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k the same or different person the same question while looking at a place from a different point of view </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bsolute and relative location</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solute location = coordinate poin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ative location = location measured to or from another location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urvey tie point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ing reference points that allow us to cross-check spatial data by using different survey or cartographic method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systematic field notes</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vantag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lows fast and efficient record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es questions and errors when processing the data and drawing map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hows clearly the method of data collection and lends credibility to th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acilitates adding to and updating map data lat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collection for scale mapping</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verview of methods for making scal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ing the metho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cepts for collecting quality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est practice in taking field not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systematic field notes</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epare a format before going to the fiel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reate enough space for thorough not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 the date, name of the community or area and name of the surveyo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rite neatl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pencil rather than pe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rite notes as if they are a permanent record – they are!</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cribing location in words</a:t>
            </a:r>
            <a:endParaRPr b="0" lang="en-US" sz="4400" spc="-1" strike="noStrike">
              <a:solidFill>
                <a:srgbClr val="cc33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named landmark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common map reference for everyon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stantly ask place nam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local landscape terminolog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ke a dictionary to translate local to national language and to describe meaning of term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notes in language of the speaker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cribing location in numbers</a:t>
            </a:r>
            <a:endParaRPr b="0" lang="en-US" sz="4400" spc="-1" strike="noStrike">
              <a:solidFill>
                <a:srgbClr val="cc33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umbers are a short-hand way to identify a lo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numbering system to keep spatial reference points in order.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cribing location in sketches</a:t>
            </a:r>
            <a:endParaRPr b="0" lang="en-US" sz="4400" spc="-1" strike="noStrike">
              <a:solidFill>
                <a:srgbClr val="cc33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to record observations to add in drawing the final ma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akes less time than writing the same observations in wo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types of sketch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anoram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nsec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eck notes together</a:t>
            </a:r>
            <a:endParaRPr b="0" lang="en-US" sz="4400" spc="-1" strike="noStrike">
              <a:solidFill>
                <a:srgbClr val="cc33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notes regularly as a team - at the end of each survey day if possibl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asier to do when memory is fres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ives opportunity to ground-check, correct and fill in gaps</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for completeness and consistency</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verview of data collection methods for scale mapping</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ing on existing scal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ing a scale map with a compa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ass traver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lobal Positioning Syst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yberTrack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on existing scale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ckest way to make a scal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ful for large areas (i.e. 1,000 km</a:t>
            </a:r>
            <a:r>
              <a:rPr b="0" lang="en-US" sz="3200" spc="-1" strike="noStrike" baseline="30000">
                <a:solidFill>
                  <a:srgbClr val="5f5f5f"/>
                </a:solidFill>
                <a:latin typeface="Arial"/>
              </a:rPr>
              <a:t>2</a:t>
            </a:r>
            <a:r>
              <a:rPr b="0" lang="en-US"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equate accuracy for small-scal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eed well-defined topograph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ies on good facilitatio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p and compas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iangulation using compass bearings or using a laser rangefinder allows scale mapping at a dista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ust be able to sight on topographic features (i.e. access to view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 bearings on geo-referenced base ma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bine with GPS survey by taking bearings from waypoint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pass traverse</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s distance with a metre tape (or other instrument) and direction with a compas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ood for mapping small areas in detai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nds-on approach demonstrates clearly the  principles of scale mapping</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PS survey</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ckest way to collect lots of spatial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quires getting out on the land and walking the surve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can be used to draw maps from scratc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can be plotted on a base map with the advantage of visualising the landscape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yberTracker</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stalled on a hand-held digital device such as a PDA or smartphon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tached to a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s customised screens with icons and text to enter observa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ghly efficient way to gather large quantities of geo-referenced field observation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electing a data collection method</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urpose of the mapping effor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ze of the a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vel of precision requi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ype of thematic map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st of the equipment and training</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49:29Z</dcterms:created>
  <dc:creator>Giulia Pedone</dc:creator>
  <dc:description/>
  <cp:keywords>pgis training kit</cp:keywords>
  <dc:language>en-US</dc:language>
  <cp:lastModifiedBy>martens</cp:lastModifiedBy>
  <dcterms:modified xsi:type="dcterms:W3CDTF">2009-09-09T08:42:36Z</dcterms:modified>
  <cp:revision>72</cp:revision>
  <dc:subject/>
  <dc:title>Presentation - Data Collection for Scale Mapp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