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0" y="8685360"/>
            <a:ext cx="68580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Support the spread of “good practice” in generating, managing, analysing and communicating spatial information</a:t>
            </a:r>
            <a:endParaRPr b="0" lang="en-US" sz="10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E40AC-A953-4397-A551-0B43EBA1B13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164A2-FA8A-49EB-ACF3-DC12812FA60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overview of the concepts. Concepts are best understood in practice. Invite participants to notice which concepts arise in each of the various exercises in this Unit and others throughout this Module. Also consider how each of these concepts relates to the particular context or mapping project associated with the training. </a:t>
            </a:r>
            <a:endParaRPr b="0" lang="en-US" sz="1200" spc="-1" strike="noStrike">
              <a:solidFill>
                <a:srgbClr val="000000"/>
              </a:solidFill>
              <a:latin typeface="Arial"/>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10FD7-8F30-4AB2-A719-31EA4918690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erms are often mistakenly used interchangeably. They are not interchangeable, but the concepts are interrelated. You can use a precision measuring device to measure someone’s height and state that she is 160.75 centimetres. However, because you neglected to notice she is wearing high-heel shoes, your measurement is not accurate. She is actually 158 centimetres tall. Another example from mapping: </a:t>
            </a:r>
            <a:r>
              <a:rPr b="0" lang="en-GB" sz="1200" spc="-1" strike="noStrike">
                <a:solidFill>
                  <a:srgbClr val="000000"/>
                </a:solidFill>
                <a:latin typeface="Arial"/>
              </a:rPr>
              <a:t>On a 1:50,000 scale map, the resolution is such that a 1 mm pen mark would represent 50 metres on the ground. Because it is impossible to draw to submetric precision, is it necessary to use survey tools with submetric precision.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E3BE6-4E89-4BE2-B52E-C3653A7F022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PS measures absolute location. Compass measurements always give relative location. </a:t>
            </a:r>
            <a:endParaRPr b="0" lang="en-US" sz="1200" spc="-1" strike="noStrike">
              <a:solidFill>
                <a:srgbClr val="000000"/>
              </a:solidFill>
              <a:latin typeface="Arial"/>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E875F-1578-4FEB-95C4-0F043EAD6F9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e points are particularly important when dealing with relative locations or in “tying” relative locations to absolute locations. </a:t>
            </a:r>
            <a:endParaRPr b="0" lang="en-US" sz="1200" spc="-1" strike="noStrike">
              <a:solidFill>
                <a:srgbClr val="000000"/>
              </a:solidFill>
              <a:latin typeface="Arial"/>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62EA3-076D-4E08-A912-D183BCFF0D5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ps are drawn from a set of data. Often in mapping projects, the person drawing the map may or may not be part of the survey team. Thus, the notes must be clearly and systematically presented so that the map can be drawn correctly.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overview is intended to give a picture of the full range of data collection methods for scale mapping. Not all methods are used in every mapping project. If it is already known which methods the training will address, those methods should be emphasised.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on working with base maps in Unit 3.</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on using a map and compass is presented in Unit 3. This is one of the more difficult methods of mapping because it requires a good understanding of compass use, map interpretation and geometry. It also requires a certain amount of strategic planning.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pass traverse or survey is perhaps the most basic method of mapping because it follows a simple step-by-step process. More about doing a compass traverse is presented in M09U04.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PS is a versatile and useful mapping tool, essential for scale mapping of larger areas. Operating a GPS unit and collecting coordinate points are very easy. Understanding how the system works can be challenging because the concepts are quite abstract. More about this is presented in M09U05.</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yberTracker is essentially a very efficient way to collect GPS data.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training is taking place for a particular mapping project, initiate a discussion about how each of these factors applies to the context of the train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F2CABB-1831-4B71-A850-97020BB1F6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3CF585-B625-4794-877E-15519F0E0D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42F889-BDCA-4E24-920C-321402945B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AB1DC8-86C5-4350-A6E6-8A06CF4494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541A2AF-5595-4D0A-B6C5-A164006389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7591300-040F-4960-A7FF-FD0F6D4D6D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2674FA0-8A82-41A4-9786-9240654CED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5FAA97C-4638-4C02-95C8-BE810222D0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653556B-8C0F-47C3-BED6-4265F0872B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D252BCE-B589-452C-A1C6-C28064DC13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9D52CFF-56DC-487D-A6E8-C27FF5AE04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3C1F39-D223-483F-AA28-AACAC0E45C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C65D6FF-9204-4E2E-AF20-CD063AFC64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DF52E3C-A62C-4349-98C1-3F770C71AF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096B7BA-9B03-4BF2-9C10-74D77DA7A4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02090D41-E2B6-4200-9D97-B9746C1D79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8E1C709E-31D8-4297-9613-3A1B378E5C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E24FDC-82C8-4ED0-BA49-EFEB5272DC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A07D61-63BC-41D8-80A6-EF9E21A5A7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BBC267-CC76-4C64-B9BF-1E46B3D0A4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D57379-5FAC-4DAF-8C79-0B6D1F05EC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B3CB1-CEA2-456B-ADAE-886B3E12F2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794E3-A744-46DA-8999-13E8BCA0DB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602CA-0454-49ED-9457-97EE6B11B2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creativecommons.org/licenses/by-nc-sa/3.0/" TargetMode="External"/><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966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6600"/>
                </a:solidFill>
                <a:latin typeface="Times New Roman"/>
              </a:rPr>
              <a:t>Support the spread of “good practice” in generating, managing, analysing and communicating spatial information</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8683D-F2F1-4417-B68B-D373C9C735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 Box 7"/>
          <p:cNvSpPr/>
          <p:nvPr/>
        </p:nvSpPr>
        <p:spPr>
          <a:xfrm>
            <a:off x="971640" y="282600"/>
            <a:ext cx="72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6600"/>
                </a:solidFill>
                <a:latin typeface="Arial"/>
              </a:rPr>
              <a:t>Support the spread of “good practice” in generating, managing, analysing and communicating spatial information</a:t>
            </a:r>
            <a:endParaRPr b="0" lang="en-US" sz="1800" spc="-1" strike="noStrike">
              <a:solidFill>
                <a:srgbClr val="000000"/>
              </a:solidFill>
              <a:latin typeface="Arial"/>
            </a:endParaRPr>
          </a:p>
        </p:txBody>
      </p:sp>
      <p:pic>
        <p:nvPicPr>
          <p:cNvPr id="42" name="Picture 10" descr="cc_license_by-nc-sa">
            <a:hlinkClick r:id="rId2"/>
          </p:cNvPr>
          <p:cNvPicPr/>
          <p:nvPr/>
        </p:nvPicPr>
        <p:blipFill>
          <a:blip r:embed="rId3"/>
          <a:stretch/>
        </p:blipFill>
        <p:spPr>
          <a:xfrm>
            <a:off x="4145040" y="6381720"/>
            <a:ext cx="838080" cy="29520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DCB9B-D69A-49DE-B1F1-2E52A9ABA0A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3.0/" TargetMode="Externa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Data collection for scale mapping</a:t>
            </a:r>
            <a:endParaRPr b="0" lang="en-US" sz="4400" spc="-1" strike="noStrike">
              <a:solidFill>
                <a:srgbClr val="cc3300"/>
              </a:solidFill>
              <a:latin typeface="Arial"/>
            </a:endParaRPr>
          </a:p>
        </p:txBody>
      </p:sp>
      <p:sp>
        <p:nvSpPr>
          <p:cNvPr id="92" name="PlaceHolder 2"/>
          <p:cNvSpPr>
            <a:spLocks noGrp="1"/>
          </p:cNvSpPr>
          <p:nvPr>
            <p:ph type="subTitle"/>
          </p:nvPr>
        </p:nvSpPr>
        <p:spPr>
          <a:xfrm>
            <a:off x="1371600" y="3886200"/>
            <a:ext cx="6400800" cy="8380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69696"/>
                </a:solidFill>
                <a:latin typeface="Arial"/>
              </a:rPr>
              <a:t> </a:t>
            </a:r>
            <a:endParaRPr b="0" lang="en-US" sz="3200" spc="-1" strike="noStrike">
              <a:solidFill>
                <a:srgbClr val="5f5f5f"/>
              </a:solidFill>
              <a:latin typeface="Arial"/>
            </a:endParaRPr>
          </a:p>
        </p:txBody>
      </p:sp>
      <p:sp>
        <p:nvSpPr>
          <p:cNvPr id="93" name="Text Box 5"/>
          <p:cNvSpPr/>
          <p:nvPr/>
        </p:nvSpPr>
        <p:spPr>
          <a:xfrm>
            <a:off x="617400" y="628164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Unit: M09U02</a:t>
            </a:r>
            <a:endParaRPr b="0" lang="en-US" sz="1800" spc="-1" strike="noStrike">
              <a:solidFill>
                <a:srgbClr val="000000"/>
              </a:solidFill>
              <a:latin typeface="Arial"/>
            </a:endParaRPr>
          </a:p>
        </p:txBody>
      </p:sp>
      <p:pic>
        <p:nvPicPr>
          <p:cNvPr id="94" name="Picture 6" descr="cc_license_by-nc-sa">
            <a:hlinkClick r:id="rId1"/>
          </p:cNvPr>
          <p:cNvPicPr/>
          <p:nvPr/>
        </p:nvPicPr>
        <p:blipFill>
          <a:blip r:embed="rId2"/>
          <a:stretch/>
        </p:blipFill>
        <p:spPr>
          <a:xfrm>
            <a:off x="4151160" y="6375240"/>
            <a:ext cx="838440" cy="295560"/>
          </a:xfrm>
          <a:prstGeom prst="rect">
            <a:avLst/>
          </a:prstGeom>
          <a:ln w="0">
            <a:noFill/>
          </a:ln>
        </p:spPr>
      </p:pic>
      <p:sp>
        <p:nvSpPr>
          <p:cNvPr id="95" name=""/>
          <p:cNvSpPr/>
          <p:nvPr/>
        </p:nvSpPr>
        <p:spPr>
          <a:xfrm>
            <a:off x="3808440" y="5157720"/>
            <a:ext cx="259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69696"/>
                </a:solidFill>
                <a:latin typeface="Arial"/>
              </a:rPr>
              <a:t>By: Alix Flavel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oncepts for collecting </a:t>
            </a:r>
            <a:br>
              <a:rPr sz="4400"/>
            </a:br>
            <a:r>
              <a:rPr b="0" lang="en-US" sz="4400" spc="-1" strike="noStrike">
                <a:solidFill>
                  <a:srgbClr val="cc3300"/>
                </a:solidFill>
                <a:latin typeface="Arial"/>
              </a:rPr>
              <a:t>quality data</a:t>
            </a:r>
            <a:endParaRPr b="0" lang="en-US" sz="4400" spc="-1" strike="noStrike">
              <a:solidFill>
                <a:srgbClr val="cc33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ata integrity</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recision, resolution and accuracy</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riangulatio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bsolute and relative location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urvey tie point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Map interview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Data integrity</a:t>
            </a:r>
            <a:endParaRPr b="0" lang="en-US" sz="4400" spc="-1" strike="noStrike">
              <a:solidFill>
                <a:srgbClr val="cc33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Essential for the maps to be credibl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ornerstones of data integrity: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traceability</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onsistency</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verifiability</a:t>
            </a:r>
            <a:endParaRPr b="0" lang="en-US" sz="2800" spc="-1" strike="noStrike">
              <a:solidFill>
                <a:srgbClr val="5f5f5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Arial"/>
              </a:rPr>
              <a:t>Resolution, precision and accuracy</a:t>
            </a:r>
            <a:endParaRPr b="0" lang="en-US" sz="4000" spc="-1" strike="noStrike">
              <a:solidFill>
                <a:srgbClr val="cc33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Resolution – fineness of the measuring device or scal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recision – fineness of the measuring device or scale, plus the human factor and the targeted accuracy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ccuracy – the actual correctness of the data, as it fits reality </a:t>
            </a:r>
            <a:endParaRPr b="0" lang="en-US" sz="3200" spc="-1" strike="noStrike">
              <a:solidFill>
                <a:srgbClr val="5f5f5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	</a:t>
            </a:r>
            <a:r>
              <a:rPr b="0" lang="en-US" sz="3200" spc="-1" strike="noStrike">
                <a:solidFill>
                  <a:srgbClr val="5f5f5f"/>
                </a:solidFill>
                <a:latin typeface="Arial"/>
              </a:rPr>
              <a:t>	</a:t>
            </a:r>
            <a:r>
              <a:rPr b="0" lang="en-US" sz="3200" spc="-1" strike="noStrike">
                <a:solidFill>
                  <a:srgbClr val="5f5f5f"/>
                </a:solidFill>
                <a:latin typeface="Arial"/>
              </a:rPr>
              <a:t>	</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Spatial accuracy</a:t>
            </a:r>
            <a:endParaRPr b="0" lang="en-US" sz="4400" spc="-1" strike="noStrike">
              <a:solidFill>
                <a:srgbClr val="cc3300"/>
              </a:solidFill>
              <a:latin typeface="Arial"/>
            </a:endParaRPr>
          </a:p>
        </p:txBody>
      </p:sp>
      <p:sp>
        <p:nvSpPr>
          <p:cNvPr id="1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Whether the measured and mapped location is within a certain distance of the actual location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acceptable level of accuracy depends on the purpose of the map</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appropriate resolution and precision of the tools and methods depends on the accuracy desired </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Arial"/>
              </a:rPr>
              <a:t>Attribute and conceptual accuracy</a:t>
            </a:r>
            <a:endParaRPr b="0" lang="en-US" sz="4000" spc="-1" strike="noStrike">
              <a:solidFill>
                <a:srgbClr val="cc33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ttribute accuracy = how correctly the attribute data is described and draw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onceptual accuracy = how correctly the map depicts community members’ conceptual view</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3300"/>
                </a:solidFill>
                <a:latin typeface="Arial"/>
              </a:rPr>
              <a:t>Attribute and conceptual accuracy</a:t>
            </a:r>
            <a:endParaRPr b="0" lang="en-US" sz="4000" spc="-1" strike="noStrike">
              <a:solidFill>
                <a:srgbClr val="cc33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ttribute and conceptual accuracy depend on: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an acceptable level of participation and representation;</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a systematic methodology for documentation, interviewing and note-taking; </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opportunities for verification, correction and revision at the community level. </a:t>
            </a:r>
            <a:endParaRPr b="0" lang="en-US" sz="28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Triangulation</a:t>
            </a:r>
            <a:endParaRPr b="0" lang="en-US" sz="4400" spc="-1" strike="noStrike">
              <a:solidFill>
                <a:srgbClr val="cc33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 </a:t>
            </a:r>
            <a:r>
              <a:rPr b="0" lang="en-US" sz="3200" spc="-1" strike="noStrike">
                <a:solidFill>
                  <a:srgbClr val="5f5f5f"/>
                </a:solidFill>
                <a:latin typeface="Arial"/>
              </a:rPr>
              <a:t>A way to cross-check attribute data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ask questions of a person in different way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ask different people the same question</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ask the same or different person the same question while looking at a place from a different point of view </a:t>
            </a:r>
            <a:endParaRPr b="0" lang="en-US" sz="2800" spc="-1" strike="noStrike">
              <a:solidFill>
                <a:srgbClr val="5f5f5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 </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Absolute and relative location</a:t>
            </a:r>
            <a:endParaRPr b="0" lang="en-US" sz="4400" spc="-1" strike="noStrike">
              <a:solidFill>
                <a:srgbClr val="cc33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bsolute location = coordinate point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Relative location = location measured to or from another location </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Survey tie points</a:t>
            </a:r>
            <a:endParaRPr b="0" lang="en-US" sz="4400" spc="-1" strike="noStrike">
              <a:solidFill>
                <a:srgbClr val="cc33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Noting reference points that allow us to cross-check spatial data by using different survey or cartographic methods  </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Taking systematic field notes</a:t>
            </a:r>
            <a:endParaRPr b="0" lang="en-US" sz="4400" spc="-1" strike="noStrike">
              <a:solidFill>
                <a:srgbClr val="cc33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dvantages:</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allows fast and efficient recording </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reduces questions and errors when processing the data and drawing maps  </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shows clearly the method of data collection and lends credibility to the map</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facilitates adding to and updating map data later</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Data collection for scale mapping</a:t>
            </a:r>
            <a:endParaRPr b="0" lang="en-US" sz="4400" spc="-1" strike="noStrike">
              <a:solidFill>
                <a:srgbClr val="cc33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Overview of methods for making scale map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lecting the metho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oncepts for collecting quality dat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Best practice in taking field note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Taking systematic field notes</a:t>
            </a:r>
            <a:endParaRPr b="0" lang="en-US" sz="4400" spc="-1" strike="noStrike">
              <a:solidFill>
                <a:srgbClr val="cc33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Prepare a format before going to the field.</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reate enough space for thorough notes.</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Record the date, name of the community or area and name of the surveyor.</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Write neatly.</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Use pencil rather than pen.</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Write notes as if they are a permanent record – they are!</a:t>
            </a:r>
            <a:endParaRPr b="0" lang="en-US" sz="2800" spc="-1" strike="noStrike">
              <a:solidFill>
                <a:srgbClr val="5f5f5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Describing location in words</a:t>
            </a:r>
            <a:endParaRPr b="0" lang="en-US" sz="4400" spc="-1" strike="noStrike">
              <a:solidFill>
                <a:srgbClr val="cc33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Use named landmarks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a common map reference for everyone</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onstantly ask place names</a:t>
            </a:r>
            <a:endParaRPr b="0" lang="en-US" sz="28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Use local landscape terminology </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make a dictionary to translate local to national language and to describe meaning of terms</a:t>
            </a:r>
            <a:endParaRPr b="0" lang="en-US" sz="28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Record notes in language of the speaker </a:t>
            </a:r>
            <a:endParaRPr b="0" lang="en-US" sz="3200" spc="-1" strike="noStrike">
              <a:solidFill>
                <a:srgbClr val="5f5f5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Describing location in numbers</a:t>
            </a:r>
            <a:endParaRPr b="0" lang="en-US" sz="4400" spc="-1" strike="noStrike">
              <a:solidFill>
                <a:srgbClr val="cc33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Numbers are a short-hand way to identify a location.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reate a numbering system to keep spatial reference points in order. </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Describing location in sketches</a:t>
            </a:r>
            <a:endParaRPr b="0" lang="en-US" sz="4400" spc="-1" strike="noStrike">
              <a:solidFill>
                <a:srgbClr val="cc33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Use to record observations to add in drawing the final map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akes less time than writing the same observations in word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wo types of sketches:</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panorama</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transect</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heck notes together</a:t>
            </a:r>
            <a:endParaRPr b="0" lang="en-US" sz="4400" spc="-1" strike="noStrike">
              <a:solidFill>
                <a:srgbClr val="cc33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heck notes regularly as a team - at the end of each survey day if possible</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easier to do when memory is fresh</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gives opportunity to ground-check, correct and fill in gaps</a:t>
            </a:r>
            <a:endParaRPr b="0" lang="en-US" sz="2800" spc="-1" strike="noStrike">
              <a:solidFill>
                <a:srgbClr val="5f5f5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heck for completeness and consistency</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Overview of data collection methods for scale mapping</a:t>
            </a:r>
            <a:endParaRPr b="0" lang="en-US" sz="4400" spc="-1" strike="noStrike">
              <a:solidFill>
                <a:srgbClr val="cc33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rawing on existing scale map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Using a scale map with a compas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ompass travers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Global Positioning System</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yberTracker</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Drawing on existing scale maps</a:t>
            </a:r>
            <a:endParaRPr b="0" lang="en-US" sz="4400" spc="-1" strike="noStrike">
              <a:solidFill>
                <a:srgbClr val="cc33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Quickest way to make a scale map</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Useful for large areas (i.e. 1,000 km</a:t>
            </a:r>
            <a:r>
              <a:rPr b="0" lang="en-US" sz="3200" spc="-1" strike="noStrike" baseline="30000">
                <a:solidFill>
                  <a:srgbClr val="5f5f5f"/>
                </a:solidFill>
                <a:latin typeface="Arial"/>
              </a:rPr>
              <a:t>2</a:t>
            </a:r>
            <a:r>
              <a:rPr b="0" lang="en-US" sz="3200" spc="-1" strike="noStrike">
                <a:solidFill>
                  <a:srgbClr val="5f5f5f"/>
                </a:solidFill>
                <a:latin typeface="Arial"/>
              </a:rPr>
              <a:t>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dequate accuracy for small-scale map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Need well-defined topography</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Relies on good facilitation</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Map and compass</a:t>
            </a:r>
            <a:endParaRPr b="0" lang="en-US" sz="4400" spc="-1" strike="noStrike">
              <a:solidFill>
                <a:srgbClr val="cc33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riangulation using compass bearings or using a laser rangefinder allows scale mapping at a distanc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Must be able to sight on topographic features (i.e. access to viewpoint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lot bearings on geo-referenced base map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ombine with GPS survey by taking bearings from waypoints </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ompass traverse</a:t>
            </a:r>
            <a:endParaRPr b="0" lang="en-US" sz="4400" spc="-1" strike="noStrike">
              <a:solidFill>
                <a:srgbClr val="cc33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Measures distance with a metre tape (or other instrument) and direction with a compass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Good for mapping small areas in detail</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Hands-on approach demonstrates clearly the  principles of scale mapping</a:t>
            </a:r>
            <a:endParaRPr b="0" lang="en-US" sz="3200" spc="-1" strike="noStrike">
              <a:solidFill>
                <a:srgbClr val="5f5f5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GPS survey</a:t>
            </a:r>
            <a:endParaRPr b="0" lang="en-US" sz="4400" spc="-1" strike="noStrike">
              <a:solidFill>
                <a:srgbClr val="cc33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Quickest way to collect lots of spatial dat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Requires getting out on the land and walking the survey</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ata can be used to draw maps from scratch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ata can be plotted on a base map with the advantage of visualising the landscape </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yberTracker</a:t>
            </a:r>
            <a:endParaRPr b="0" lang="en-US" sz="4400" spc="-1" strike="noStrike">
              <a:solidFill>
                <a:srgbClr val="cc33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Installed on a hand-held digital device such as a PDA or smartphone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ttached to a GP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Uses customised screens with icons and text to enter observation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Highly efficient way to gather large quantities of geo-referenced field observations</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Selecting a data collection method</a:t>
            </a:r>
            <a:endParaRPr b="0" lang="en-US" sz="4400" spc="-1" strike="noStrike">
              <a:solidFill>
                <a:srgbClr val="cc33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urpose of the mapping effort</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ze of the are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opography</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Level of precision require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ype of thematic maps neede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ost of the equipment and training</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5T13:49:29Z</dcterms:created>
  <dc:creator>Giulia Pedone</dc:creator>
  <dc:description/>
  <cp:keywords>pgis training kit</cp:keywords>
  <dc:language>en-US</dc:language>
  <cp:lastModifiedBy>martens</cp:lastModifiedBy>
  <dcterms:modified xsi:type="dcterms:W3CDTF">2009-09-09T08:42:36Z</dcterms:modified>
  <cp:revision>72</cp:revision>
  <dc:subject/>
  <dc:title>Presentation - Data Collection for Scale Mapp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Presentation</vt:lpwstr>
  </property>
  <property fmtid="{D5CDD505-2E9C-101B-9397-08002B2CF9AE}" pid="6" name="Keywords">
    <vt:lpwstr>pgis, training kit</vt:lpwstr>
  </property>
  <property fmtid="{D5CDD505-2E9C-101B-9397-08002B2CF9AE}" pid="7" name="Slides">
    <vt:lpwstr>1</vt:lpwstr>
  </property>
  <property fmtid="{D5CDD505-2E9C-101B-9397-08002B2CF9AE}" pid="8" name="Subject">
    <vt:lpwstr/>
  </property>
  <property fmtid="{D5CDD505-2E9C-101B-9397-08002B2CF9AE}" pid="9" name="_Author">
    <vt:lpwstr>Giacomo Rambaldi</vt:lpwstr>
  </property>
  <property fmtid="{D5CDD505-2E9C-101B-9397-08002B2CF9AE}" pid="10" name="_Category">
    <vt:lpwstr/>
  </property>
  <property fmtid="{D5CDD505-2E9C-101B-9397-08002B2CF9AE}" pid="11" name="_Comments">
    <vt:lpwstr/>
  </property>
</Properties>
</file>