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7601-2CDF-4CA6-BD7B-D228774179C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AC582-D18C-4704-BA61-588B0F288C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participatory mapping project, there already will have been discussions about what type of information to map. Discuss with participants what kinds of thematic maps they could envision making in their community and brainstorm to make a list of specific legend items for each theme.  </a:t>
            </a:r>
            <a:endParaRPr b="0" lang="en-US" sz="1200" spc="-1" strike="noStrike">
              <a:solidFill>
                <a:srgbClr val="000000"/>
              </a:solidFill>
              <a:latin typeface="Arial"/>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7685-AAE9-43C9-BCDC-03443666161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are made from scratch when there is no base map available. It is time-consuming to survey the “local grid” and enough thematic information. So maps from scratch are often made for a specific purpose. Compass surveys are normally drawn from scratch, by hand or by computer. They are usually made for a small area and specific purpose. GPS survey data are more often mapped on, or combined with, base map information.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tandard elements on all scale map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ther to include these optional notations depends on the purpose of the map and the design of the map series. </a:t>
            </a:r>
            <a:endParaRPr b="0" lang="en-US" sz="1200" spc="-1" strike="noStrike">
              <a:solidFill>
                <a:srgbClr val="000000"/>
              </a:solidFill>
              <a:latin typeface="Arial"/>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8C86-F8DD-4865-8A4C-250D992450D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map, the source data are identified in brief.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eparate documents the meta-data are recorded and stored. The meta-data tell us how the map was made and how to find the data that were used – if ever we wanted to recreate the map.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erification process will vary according to the design of the mapping project, its scope and the number of people or communities involved. It is important to start immediately while interest is high and the mapping is fresh in everyone’s mind. Allow ample time in a session to make sure that people understand the maps. Allow ample time to give feedback even if it means scheduling a few sessions over a few weeks. At the same time, be careful not to lose momentum and interest by allowing it to drag on too long.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ification and correction is an iterative process. The more thorough and participatory each step, the fewer iterations needed to get it to the point where the maps are validated.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outline of the presentation.</a:t>
            </a:r>
            <a:endParaRPr b="0" lang="en-US" sz="1200" spc="-1" strike="noStrike">
              <a:solidFill>
                <a:srgbClr val="000000"/>
              </a:solidFill>
              <a:latin typeface="Arial"/>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97F91-4379-4B65-923E-08298191468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72D4A6-F3F5-4BC8-A864-B2943A517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D0482E-48CE-4BA8-A506-A92481E88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C626C-A349-4ECC-95AF-1EF6251620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C04D1-C530-4ECA-8653-E4EB7D34C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C0B403E-13B7-4FA3-8A1F-FC8F24F488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9B551E4-3E06-4293-8194-6C50B9201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037836A-9442-41CD-A420-51DA53902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941ED12-604D-4F40-8655-86289759D3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3829E7A-8133-49F6-B592-A85B795F0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A865522-0AA7-4096-B166-671FC97D2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46A1153-07A2-43AC-A41C-4F0B8A627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2D1FCB-58DA-462E-9FCA-D00883DF3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1AD12AF-5565-4D67-AA31-F16BE7D258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857FE7E-6A2A-4700-8ACA-054560257E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055E8FB-4733-4900-A313-43C8DF3A34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F1BA5A9-02C5-48B8-A0D8-DB88C0C9C0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52B666B-15AB-40C6-92B1-83A81BDE0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A1704-0278-431F-9C61-29B4EDFD8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EFC4C-CCCC-4F67-8B00-5A42DC11C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59F95-A176-45B4-8101-71A7432E9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6EEFA-101F-4EFE-9DD3-30B572186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6A9F7-B91B-472C-AE73-919007E9D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90139-73E3-43AC-BEED-7CFD6C0F2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4EB9C-4C0F-44A5-B3D4-F011E81676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0E823-F07A-4E9E-B0F9-825F408A84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F3E1-65AF-431B-A6FF-9BD945C1B3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and Producing </a:t>
            </a:r>
            <a:br>
              <a:rPr sz="4400"/>
            </a:br>
            <a:r>
              <a:rPr b="0" lang="en-US" sz="4400" spc="-1" strike="noStrike">
                <a:solidFill>
                  <a:srgbClr val="cc3300"/>
                </a:solidFill>
                <a:latin typeface="Arial"/>
              </a:rPr>
              <a:t>Scale Maps</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6</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igning thematic maps</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n aspect of map desig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egorise - what information will be shown on each different “map lay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 legend with:</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ems common to all lay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tems specific to each layer.</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uilding the map layers</a:t>
            </a: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ce or digitise selected information from the rough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d data from field note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 first the information common to all the layer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g. rivers, boundaries, roads, settlement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inue selecting and tracing community data to each thematic map in the serie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cale maps made from scratch</a:t>
            </a:r>
            <a:endParaRPr b="0" lang="en-US" sz="44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de from compass traverse or GPS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survey track is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advantag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ivers and roads, the “local grid”, must be surveyed too</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ime-consuming to collect thematic information</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ecklist of essential </a:t>
            </a:r>
            <a:br>
              <a:rPr sz="4400"/>
            </a:br>
            <a:r>
              <a:rPr b="0" lang="en-US" sz="4400" spc="-1" strike="noStrike">
                <a:solidFill>
                  <a:srgbClr val="cc3300"/>
                </a:solidFill>
                <a:latin typeface="Arial"/>
              </a:rPr>
              <a:t>map elements</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tit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rth arro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ri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ge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tion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ptional notations</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pyright statem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planatory no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series numb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gnatures of valida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ocument source data on map</a:t>
            </a:r>
            <a:endParaRPr b="0" lang="en-US" sz="44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 refere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matic map refere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information – when, who</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urce of thematic information – who provided the community information</a:t>
            </a:r>
            <a:endParaRPr b="0" lang="en-US" sz="32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ta-data documentation</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alogue and store original source data.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 meta-data document for:</a:t>
            </a:r>
            <a:endParaRPr b="0" lang="en-US" sz="32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ordinate system and datum;</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gnetic declination;</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en sizes and templates for hand drafting;</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onts, colour codes, symbol code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ist of computer file names;</a:t>
            </a:r>
            <a:endParaRPr b="0" lang="en-US" sz="2800" spc="-1" strike="noStrike">
              <a:solidFill>
                <a:srgbClr val="5f5f5f"/>
              </a:solidFill>
              <a:latin typeface="Arial"/>
            </a:endParaRPr>
          </a:p>
          <a:p>
            <a:pPr lvl="1" marL="743040" indent="-28584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ames of those involved in surveying, drawing and supplying map information.</a:t>
            </a:r>
            <a:endParaRPr b="0" lang="en-US" sz="28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Verification process</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members must have an opportunity to verify that the information they contributed was drawn correctl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in a single or series of community meeting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ith the community as a whole or with the knowledge secto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ffectively done in small group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aking time to explain the maps in simple language.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rrecting and updating maps</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and ground-check corrections as neede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draft maps as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 again.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nd drafting or computer drafting map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process of drawing final maps</a:t>
            </a:r>
            <a:endParaRPr b="0" lang="en-US" sz="32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organising the survey and map data</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designing the thematic ma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selecting and tracing from base ma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making maps from scratch</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verification</a:t>
            </a:r>
            <a:endParaRPr b="0" lang="en-US" sz="26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lements on a map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ocumentation of source data</a:t>
            </a:r>
            <a:endParaRPr b="0" lang="en-US" sz="3200" spc="-1" strike="noStrike">
              <a:solidFill>
                <a:srgbClr val="5f5f5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oosing hand drafting or                     computer drafting</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ource data</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compass and paper topographic maps are easily hand drafted</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GPS data and satellite imagery are easily put on computer</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sired process in the community</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is hand drafting more accessible and understandable?</a:t>
            </a:r>
            <a:endParaRPr b="0" lang="en-US" sz="24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sired outcome</a:t>
            </a:r>
            <a:endParaRPr b="0" lang="en-US" sz="28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look of the map</a:t>
            </a:r>
            <a:endParaRPr b="0" lang="en-US" sz="2400" spc="-1" strike="noStrike">
              <a:solidFill>
                <a:srgbClr val="5f5f5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hand-drafted map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re people can see and know how to handle the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ives a sense of ownershi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otentially more people can particip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ss training, less capital co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sents a customised, hand-drawn feeling to the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eaknesses of hand-drafted maps</a:t>
            </a:r>
            <a:endParaRPr b="0" lang="en-US" sz="40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ime-consuming to draft, redraft and upd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amounts of GPS data are slow to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production in colour is not always poss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nal map is only in paper format which is not durable; it can warp and fade</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computer-drafted map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ast to produce (once the system is set up and the data are ente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amounts of GPS data are easy to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sily updated, corrected and redraft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sily produced and reproduced in colour and at different scal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re options in map desig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eaknesses of computer-drafted maps</a:t>
            </a:r>
            <a:endParaRPr b="0" lang="en-US" sz="40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eople may lose grasp of where the data went (mitigated by a good verification process) </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 as accessible for rural villager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ndency for maps to have a “cookie-cutter” look (a matter of skill in design)</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igh cost in training and equipment</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endency for computer technology to mask poor quality data</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process</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e the survey and map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matic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 and trace from bas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ternatively, draft maps from scratc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ft the final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 the maps with the communit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rganising the map data </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rganise and compile the survey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ot survey data manually or on comput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ile rough draft maps and field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ile thematic maps from other sources and adjust the scal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9T13:58:41Z</dcterms:created>
  <dc:creator>Alix Flavelle</dc:creator>
  <dc:description/>
  <cp:keywords>pgis training kit</cp:keywords>
  <dc:language>en-US</dc:language>
  <cp:lastModifiedBy>martens</cp:lastModifiedBy>
  <dcterms:modified xsi:type="dcterms:W3CDTF">2009-09-09T09:26:59Z</dcterms:modified>
  <cp:revision>88</cp:revision>
  <dc:subject>M09 - Scale Mapping and Surveying</dc:subject>
  <dc:title>Presentation - Drawing Scale Ma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