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E9ED6-AB71-49C6-AAEF-695FD41E3AB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8543B-5AFA-4FB9-8AD7-BA4B64CEB03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these controllable sources of error so that you may avoid or troubleshoot problems. </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46B07-7F1F-4653-8ABD-37EB2651CD8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e units that need to be adjusted in order to operate the GPS effectively in the local area. The instruction book with the GPS unit will explain how to adjust these settings. We will do this in Exercise No.1, “Using a GPS Unit”. </a:t>
            </a: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9D6F-9460-4D43-A2C6-82CED9AF8C5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ing a GPS unit is very simple. </a:t>
            </a:r>
            <a:endParaRPr b="0" lang="en-US" sz="1200" spc="-1" strike="noStrike">
              <a:solidFill>
                <a:srgbClr val="000000"/>
              </a:solidFill>
              <a:latin typeface="Arial"/>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C186-1EB6-41C4-9DC5-6E2A46EFC3D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things to consider in designing a GPS survey. Discuss what information to collect and where. It is a matter of strategising the best use of time, the priority sites and areas to map. What things should be mapped as lines; the data for those might be collected as tracks. What sites will be mapped as point data and therefore collected as waypoints? What sites will have a lot of notes or whole stories written for them and therefore need to be recorded as waypoints and identified? Is there just one GPS unit and one team? If so, a simple numbering system may suffice. If there is more than one unit and survey team, the numbering system needs to be coordinated.</a:t>
            </a:r>
            <a:endParaRPr b="0" lang="en-US" sz="1200" spc="-1" strike="noStrike">
              <a:solidFill>
                <a:srgbClr val="000000"/>
              </a:solidFill>
              <a:latin typeface="Arial"/>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EB0F4-704E-4EF7-B588-004A460165C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terpolation is a mathematical process and takes some practice to understand well. A grid tool (a template made to fit the grid) reduces the calculation required. Practise plotting in Exercise No. 3.</a:t>
            </a:r>
            <a:endParaRPr b="0" lang="en-US" sz="1200" spc="-1" strike="noStrike">
              <a:solidFill>
                <a:srgbClr val="000000"/>
              </a:solidFill>
              <a:latin typeface="Arial"/>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DD376-3D95-4465-9D07-E97BD2875F8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and-drawn numbers are those that are not marked on the actual map. They are the numbers measured (interpolated) between. </a:t>
            </a:r>
            <a:endParaRPr b="0" lang="en-US" sz="1200" spc="-1" strike="noStrike">
              <a:solidFill>
                <a:srgbClr val="000000"/>
              </a:solidFill>
              <a:latin typeface="Arial"/>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7C58-5047-4F97-BD52-D53A35DADEA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tracker is a very efficient way to record GPS data and generate maps. </a:t>
            </a:r>
            <a:endParaRPr b="0" lang="en-US" sz="1200" spc="-1" strike="noStrike">
              <a:solidFill>
                <a:srgbClr val="000000"/>
              </a:solidFill>
              <a:latin typeface="Arial"/>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3515-A94E-4D50-A85C-266E071A791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the video with this Unit and Additional Resources for more detail on what Cybertracker can do and how to use it. </a:t>
            </a:r>
            <a:endParaRPr b="0" lang="en-US" sz="1200" spc="-1" strike="noStrike">
              <a:solidFill>
                <a:srgbClr val="000000"/>
              </a:solidFill>
              <a:latin typeface="Arial"/>
            </a:endParaRPr>
          </a:p>
        </p:txBody>
      </p:sp>
      <p:sp>
        <p:nvSpPr>
          <p:cNvPr id="1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58C92-590F-4CF2-8B46-3B6BA331E73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nciples of how GPS works are understood through the concepts of triangulation and that distance is measured by how long it takes a signal to get from one point to another. </a:t>
            </a:r>
            <a:endParaRPr b="0" lang="en-US" sz="1200" spc="-1" strike="noStrike">
              <a:solidFill>
                <a:srgbClr val="000000"/>
              </a:solidFill>
              <a:latin typeface="Arial"/>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A22F43-087A-4641-B602-78967691C91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eneralised categories for the quality of GPS receivers. Like all technologies, the price comes down on GPS receivers as demand increases. A recreational-quality receiver today is the equivalent of a mapping-quality receiver several years ago. Depending on the scope and purpose of the participatory mapping project, a good recreational-quality GPS is usually adequate. </a:t>
            </a:r>
            <a:endParaRPr b="0" lang="en-US" sz="1200" spc="-1" strike="noStrike">
              <a:solidFill>
                <a:srgbClr val="000000"/>
              </a:solidFill>
              <a:latin typeface="Arial"/>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F4F2-8133-47A9-8BF5-2EEB9498DC1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3E4D1-88B9-4417-B73D-01A8C535DA1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urces of error that we cannot do anything about except be aware of them. Developments in GPS technology are mostly about how to improve accuracy by compensating for these sources of error. </a:t>
            </a:r>
            <a:endParaRPr b="0" lang="en-US" sz="1200" spc="-1" strike="noStrike">
              <a:solidFill>
                <a:srgbClr val="000000"/>
              </a:solidFill>
              <a:latin typeface="Arial"/>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BC0C0-5980-4F32-BDAB-307CE7457C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AEB33-477B-4C68-A662-7276F8DF44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90458C-7D86-4907-B096-BFB4191D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9C8BBA-30D5-4DC4-9092-512E3768C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D88302-B7F5-4307-B104-5CE66B0C8E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C0B126E-8AD2-4374-8899-330222C96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3E67AA8-C952-4398-B651-004E2584AF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D2F4490-BE60-4629-922E-D204709F5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2630C8F-09BF-407B-AAE7-EE941CCE5E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8DEF7A7-1A38-42E1-A55E-273006E071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0C556A-DAFF-4BEF-BE8D-4E5642F7E5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39B2EB5-928E-4935-873C-B9E2CB3EB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F82037-23EE-40C6-9362-4F9557E378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EF634F-D7E1-4F0D-88DF-C9E4BE09E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8B3EC99-57DA-4549-85AC-11AFBDB73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BB05130-4706-44C7-89A4-03AA640954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121720D-AA7F-4169-917B-94E767ECEB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6DC490A-D01F-45D3-A521-492664F71B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A4BFA-BD80-4E14-8FF7-E927F424E8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C5D6C-92CB-44DA-B046-A23205FA77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A9AAB-B104-464A-B2B8-F5D55CD2A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710699-5688-4307-BCE9-B63B1ED9F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A6C1B-9EC1-474D-A465-285ABE053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761BF4-890B-4F9E-97FA-FAADF7347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58E7B-7646-49A2-B40B-056189B557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3825-8D5C-4B83-BB36-6BCB62CA02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BB742-A8F1-4409-B096-5B9916B3E6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pping with GP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5</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t>
            </a:r>
            <a:r>
              <a:rPr b="0" lang="en-US" sz="4400" spc="-1" strike="noStrike">
                <a:solidFill>
                  <a:srgbClr val="cc3300"/>
                </a:solidFill>
                <a:latin typeface="Arial"/>
              </a:rPr>
              <a:t>Controllable” sources of error</a:t>
            </a:r>
            <a:endParaRPr b="0" lang="en-US" sz="4400" spc="-1" strike="noStrike">
              <a:solidFill>
                <a:srgbClr val="cc33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n satellites are clustered in one region of the sky, the position calculation is less accurate.</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endParaRPr b="0" lang="en-US" sz="2000" spc="-1" strike="noStrike">
              <a:solidFill>
                <a:srgbClr val="5f5f5f"/>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good</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a:t>
            </a:r>
            <a:r>
              <a:rPr b="0" lang="en-US" sz="2000" spc="-1" strike="noStrike">
                <a:solidFill>
                  <a:srgbClr val="5f5f5f"/>
                </a:solidFill>
                <a:latin typeface="Arial"/>
              </a:rPr>
              <a:t>                       poor</a:t>
            </a:r>
            <a:endParaRPr b="0" lang="en-US" sz="2000" spc="-1" strike="noStrike">
              <a:solidFill>
                <a:srgbClr val="5f5f5f"/>
              </a:solidFill>
              <a:latin typeface="Arial"/>
            </a:endParaRPr>
          </a:p>
          <a:p>
            <a:pPr marL="322200" indent="-3222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to do? You can move or wait. </a:t>
            </a: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4" name="Picture 4" descr="gpsconfig_good.jpg"/>
          <p:cNvPicPr/>
          <p:nvPr/>
        </p:nvPicPr>
        <p:blipFill>
          <a:blip r:embed="rId1"/>
          <a:stretch/>
        </p:blipFill>
        <p:spPr>
          <a:xfrm>
            <a:off x="1224000" y="3213000"/>
            <a:ext cx="3220920" cy="1905120"/>
          </a:xfrm>
          <a:prstGeom prst="rect">
            <a:avLst/>
          </a:prstGeom>
          <a:ln w="9360">
            <a:solidFill>
              <a:srgbClr val="000000"/>
            </a:solidFill>
            <a:miter/>
          </a:ln>
        </p:spPr>
      </p:pic>
      <p:pic>
        <p:nvPicPr>
          <p:cNvPr id="115" name="Picture 5" descr="gpsconfiguration.jpg"/>
          <p:cNvPicPr/>
          <p:nvPr/>
        </p:nvPicPr>
        <p:blipFill>
          <a:blip r:embed="rId2"/>
          <a:stretch/>
        </p:blipFill>
        <p:spPr>
          <a:xfrm>
            <a:off x="5472000" y="3141720"/>
            <a:ext cx="2963880" cy="198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t>
            </a:r>
            <a:r>
              <a:rPr b="0" lang="en-US" sz="4400" spc="-1" strike="noStrike">
                <a:solidFill>
                  <a:srgbClr val="cc3300"/>
                </a:solidFill>
                <a:latin typeface="Arial"/>
              </a:rPr>
              <a:t>Controllable” sources of error</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lected signals: Signals can be reflected off terrain features and the GPS receiver confuses the reflected signal and the direct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to do? Be aware and cross-check coordinates when in steep and complex terrain.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djusting a GPS to local area</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ordinate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tance and elevation uni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m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um</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ing a GPS receiver</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t the receiver “wake u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the coordin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the sky map and signal streng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rk way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begin a trac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the waypoint and notes in the field notebook.</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igning a GPS survey</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dentify priority areas, tracks, points and what information to record the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criteria for way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criteria for track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numbering system.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nd the numbers on the sides or top and bottom of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polate the numbers in between to find the exact coordinat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a straight edge or grid tool to locate the point in the centre of the map.</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br>
              <a:rPr sz="4400"/>
            </a:br>
            <a:r>
              <a:rPr b="0" lang="en-US" sz="4400" spc="-1" strike="noStrike">
                <a:solidFill>
                  <a:srgbClr val="cc3300"/>
                </a:solidFill>
                <a:latin typeface="Arial"/>
              </a:rPr>
              <a:t>latitude-longitude</a:t>
            </a:r>
            <a:endParaRPr b="0" lang="en-US" sz="4400" spc="-1" strike="noStrike">
              <a:solidFill>
                <a:srgbClr val="cc33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xample: if the numbers at the side are 115</a:t>
            </a:r>
            <a:r>
              <a:rPr b="0" lang="en-US" sz="3200" spc="-1" strike="noStrike" baseline="30000">
                <a:solidFill>
                  <a:srgbClr val="5f5f5f"/>
                </a:solidFill>
                <a:latin typeface="Arial"/>
              </a:rPr>
              <a:t>o</a:t>
            </a:r>
            <a:r>
              <a:rPr b="0" lang="en-US" sz="3200" spc="-1" strike="noStrike">
                <a:solidFill>
                  <a:srgbClr val="5f5f5f"/>
                </a:solidFill>
                <a:latin typeface="Arial"/>
              </a:rPr>
              <a:t> and 120</a:t>
            </a:r>
            <a:r>
              <a:rPr b="0" lang="en-US" sz="3200" spc="-1" strike="noStrike" baseline="30000">
                <a:solidFill>
                  <a:srgbClr val="5f5f5f"/>
                </a:solidFill>
                <a:latin typeface="Arial"/>
              </a:rPr>
              <a:t>o</a:t>
            </a:r>
            <a:r>
              <a:rPr b="0" lang="en-US" sz="3200" spc="-1" strike="noStrike">
                <a:solidFill>
                  <a:srgbClr val="5f5f5f"/>
                </a:solidFill>
                <a:latin typeface="Arial"/>
              </a:rPr>
              <a:t>, then divide and subdivide like thi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8" name="Picture 4" descr="latlong.jpg"/>
          <p:cNvPicPr/>
          <p:nvPr/>
        </p:nvPicPr>
        <p:blipFill>
          <a:blip r:embed="rId1"/>
          <a:stretch/>
        </p:blipFill>
        <p:spPr>
          <a:xfrm>
            <a:off x="2819520" y="2894040"/>
            <a:ext cx="5295960" cy="3379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GPS data:</a:t>
            </a:r>
            <a:br>
              <a:rPr sz="4400"/>
            </a:br>
            <a:r>
              <a:rPr b="0" lang="en-US" sz="4400" spc="-1" strike="noStrike">
                <a:solidFill>
                  <a:srgbClr val="cc3300"/>
                </a:solidFill>
                <a:latin typeface="Arial"/>
              </a:rPr>
              <a:t>UTM</a:t>
            </a:r>
            <a:endParaRPr b="0" lang="en-US" sz="4400" spc="-1" strike="noStrike">
              <a:solidFill>
                <a:srgbClr val="cc33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vision is always by te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nits relate to metres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1" name="Picture 4" descr="utm.jpg"/>
          <p:cNvPicPr/>
          <p:nvPr/>
        </p:nvPicPr>
        <p:blipFill>
          <a:blip r:embed="rId1"/>
          <a:stretch/>
        </p:blipFill>
        <p:spPr>
          <a:xfrm>
            <a:off x="914400" y="3352680"/>
            <a:ext cx="7397640" cy="15242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 system</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oftware designed to efficiently record large quantities of geo-referenced field observation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stalled on a computer, customised and then uploaded to a PDA or smartphone that is used with a GPS</a:t>
            </a:r>
            <a:endParaRPr b="0" lang="en-US" sz="3200" spc="-1" strike="noStrike">
              <a:solidFill>
                <a:srgbClr val="5f5f5f"/>
              </a:solidFill>
              <a:latin typeface="Arial"/>
            </a:endParaRPr>
          </a:p>
          <a:p>
            <a:pPr marL="343080" indent="-34308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fter collecting data in the field, it can be viewed on the computer as reports and map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 CyberTracker database</a:t>
            </a:r>
            <a:endParaRPr b="0" lang="en-US" sz="4400" spc="-1" strike="noStrike">
              <a:solidFill>
                <a:srgbClr val="cc3300"/>
              </a:solidFill>
              <a:latin typeface="Arial"/>
            </a:endParaRPr>
          </a:p>
        </p:txBody>
      </p:sp>
      <p:sp>
        <p:nvSpPr>
          <p:cNvPr id="13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eld observations are recorded using customised screens and icons. </a:t>
            </a:r>
            <a:endParaRPr b="0" lang="en-US" sz="3200" spc="-1" strike="noStrike">
              <a:solidFill>
                <a:srgbClr val="5f5f5f"/>
              </a:solidFill>
              <a:latin typeface="Arial"/>
            </a:endParaRPr>
          </a:p>
        </p:txBody>
      </p:sp>
      <p:pic>
        <p:nvPicPr>
          <p:cNvPr id="136" name="Picture 4" descr="cybertrackerimage.bmp"/>
          <p:cNvPicPr/>
          <p:nvPr/>
        </p:nvPicPr>
        <p:blipFill>
          <a:blip r:embed="rId1"/>
          <a:stretch/>
        </p:blipFill>
        <p:spPr>
          <a:xfrm>
            <a:off x="228600" y="2971800"/>
            <a:ext cx="8724960" cy="3048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Mapping with GPS</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at is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ow GPS work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es of GPS receiver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uracy of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ing a GPS receiv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ing a GPS surve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ting GPS data</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 maps</a:t>
            </a:r>
            <a:endParaRPr b="0" lang="en-US" sz="44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nect a GPS to the PDA by cable.</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iew field map on a PDA; use it to navigate or to pinpoint locations using a stylus where a GPS fix cannot be obtained.</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ownload data to a computer and use mapping functions to make maps in Cybertracker.</a:t>
            </a:r>
            <a:endParaRPr b="0" lang="en-US" sz="2800" spc="-1" strike="noStrike">
              <a:solidFill>
                <a:srgbClr val="5f5f5f"/>
              </a:solidFill>
              <a:latin typeface="Arial"/>
            </a:endParaRPr>
          </a:p>
          <a:p>
            <a:pPr marL="343080" indent="-34308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port database to MS Excel, ArcView or other mapping software.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What is Global Positioning System (GPS)?</a:t>
            </a:r>
            <a:endParaRPr b="0" lang="en-US" sz="40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s absolute location on Earth as coordinates from satellite signa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stem consists of: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24 satellites orbiting the Ear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a hand-held receiv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control station that monitors the satellites.</a:t>
            </a:r>
            <a:endParaRPr b="0" lang="en-US" sz="28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GPS work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PS uses the principle of triangulation to three or more satellit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atellites travel in a known orbit so their locations are kno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GPS receiver measures the distance to the satellites “in view” by timing the sign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then calculates the posi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GPS works</a:t>
            </a:r>
            <a:endParaRPr b="0" lang="en-US" sz="4400" spc="-1" strike="noStrike">
              <a:solidFill>
                <a:srgbClr val="cc3300"/>
              </a:solidFill>
              <a:latin typeface="Arial"/>
            </a:endParaRPr>
          </a:p>
        </p:txBody>
      </p:sp>
      <p:pic>
        <p:nvPicPr>
          <p:cNvPr id="103" name="Content Placeholder 4" descr="gpsystem.jpg"/>
          <p:cNvPicPr/>
          <p:nvPr/>
        </p:nvPicPr>
        <p:blipFill>
          <a:blip r:embed="rId1"/>
          <a:stretch/>
        </p:blipFill>
        <p:spPr>
          <a:xfrm>
            <a:off x="1182600" y="1739880"/>
            <a:ext cx="6437520" cy="4013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GPS receiver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reational-qual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ping-qual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quality</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martphones: Assisted-GPS</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Arial"/>
              </a:rPr>
              <a:t>Advantage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GPS gets a faster fix</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A-GPS can use weaker signals than most conventional GPS</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uses device someone may already have</a:t>
            </a:r>
            <a:endParaRPr b="0" lang="en-US" sz="2600" spc="-1" strike="noStrike">
              <a:solidFill>
                <a:srgbClr val="5f5f5f"/>
              </a:solidFill>
              <a:latin typeface="Arial"/>
            </a:endParaRPr>
          </a:p>
          <a:p>
            <a:pPr marL="343080" indent="-343080">
              <a:lnSpc>
                <a:spcPct val="90000"/>
              </a:lnSpc>
              <a:spcBef>
                <a:spcPts val="75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f5f5f"/>
                </a:solidFill>
                <a:latin typeface="Arial"/>
              </a:rPr>
              <a:t>Disadvantages</a:t>
            </a:r>
            <a:endParaRPr b="0" lang="en-US" sz="30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ust be in range of mobile phone network</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may incur charges for connection time</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not built for rugged outdoor use</a:t>
            </a:r>
            <a:endParaRPr b="0" lang="en-US" sz="2600" spc="-1" strike="noStrike">
              <a:solidFill>
                <a:srgbClr val="5f5f5f"/>
              </a:solidFill>
              <a:latin typeface="Arial"/>
            </a:endParaRPr>
          </a:p>
          <a:p>
            <a:pPr lvl="1" marL="743040" indent="-285840">
              <a:lnSpc>
                <a:spcPct val="90000"/>
              </a:lnSpc>
              <a:spcBef>
                <a:spcPts val="64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not designed for mapping</a:t>
            </a:r>
            <a:endParaRPr b="0" lang="en-US" sz="2600" spc="-1" strike="noStrike">
              <a:solidFill>
                <a:srgbClr val="5f5f5f"/>
              </a:solidFill>
              <a:latin typeface="Arial"/>
            </a:endParaRPr>
          </a:p>
          <a:p>
            <a:pPr lvl="2" marL="39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Factors in selecting a GPS receiver</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ensitivity of antenna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umber of channel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ata logging capacit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nge of datum selections</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ata output capability</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ternal antenna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sk ang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aterproof and durable</a:t>
            </a:r>
            <a:endParaRPr b="0" lang="en-US" sz="28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ttery lif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ccuracy of GPS:</a:t>
            </a:r>
            <a:br>
              <a:rPr sz="4400"/>
            </a:br>
            <a:r>
              <a:rPr b="0" lang="en-US" sz="4400" spc="-1" strike="noStrike">
                <a:solidFill>
                  <a:srgbClr val="cc3300"/>
                </a:solidFill>
                <a:latin typeface="Arial"/>
              </a:rPr>
              <a:t>constant factors</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atellite clock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phemeris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eiver clock erro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mospheric disturbance to the signal</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8:39:03Z</dcterms:created>
  <dc:creator>Alix Flavelle</dc:creator>
  <dc:description/>
  <cp:keywords>pgis training kit GPS</cp:keywords>
  <dc:language>en-US</dc:language>
  <cp:lastModifiedBy>martens</cp:lastModifiedBy>
  <dcterms:modified xsi:type="dcterms:W3CDTF">2009-09-09T09:22:10Z</dcterms:modified>
  <cp:revision>85</cp:revision>
  <dc:subject>M09 Scale Mapping and Surveying</dc:subject>
  <dc:title>Presentation - Mapping with G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