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34A3-63F6-4BA1-9D62-2FCCF3488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9112-3E5D-4790-B169-587A2730D2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ticipatory mapping project, there already will have been discussions about what type of information to map. Discuss with participants what kinds of thematic maps they could envision making in their community and brainstorm to make a list of specific legend items for each theme.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4D6B-EF04-4370-9104-1FB7DEB119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made from scratch when there is no base map available. It is time-consuming to survey the “local grid” and enough thematic information. So maps from scratch are often made for a specific purpose. Compass surveys are normally drawn from scratch, by hand or by computer. They are usually made for a small area and specific purpose. GPS survey data are more often mapped on, or combined with, base map inform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andard elements on all scale ma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to include these optional notations depends on the purpose of the map and the design of the map series.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A134-C778-4AA9-9727-365B2B922A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p, the source data are identified in brief.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arate documents the meta-data are recorded and stored. The meta-data tell us how the map was made and how to find the data that were used – if ever we wanted to recreate the map.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process will vary according to the design of the mapping project, its scope and the number of people or communities involved. It is important to start immediately while interest is high and the mapping is fresh in everyone’s mind. Allow ample time in a session to make sure that people understand the maps. Allow ample time to give feedback even if it means scheduling a few sessions over a few weeks. At the same time, be careful not to lose momentum and interest by allowing it to drag on too lo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and correction is an iterative process. The more thorough and participatory each step, the fewer iterations needed to get it to the point where the maps are validat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utline of the presentatio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CC97-9D41-4366-95E9-DDAF8ED06B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14A64-9B4D-45B3-8F73-7A30017F4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7612-5F00-431B-94CF-0560888E4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90831-71F9-41A3-AB4E-A9EA0C9C1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531E3-7BE0-4D0E-AF19-9EC51DB72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E9B11D-3D37-4A7C-AD94-C4CAB8961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9A54CF-A2FD-40CE-B5A4-642350433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E3D3C9-8BD7-4363-BBC2-9647C388C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B92C1F-5433-41B4-A881-1242D65F6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299437-DF8F-40D3-B5E9-ECF2525DB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C6C958-E02D-4E5E-A457-E85049133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3EDDB9-B9FE-475C-A336-B6E159771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1E04-37A8-45A5-8B69-0461B98FC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34B006-71CA-4496-8E26-6BD97296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48774B-5FA8-4BC1-A3FC-2A6FD8612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BBC465-3A62-4DA5-A131-08E7B9E73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C36D8B-A8B0-4D7E-B7E4-80694DE72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F6B01B-0373-4CB5-B48A-BDF23C6D8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40DA-4BA0-4BA6-8AAC-C5D637390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4F147-DF8B-4CBF-9EB0-1AD6E4232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9C65-4ED8-45BE-9E99-C6D62244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BAD2-9B79-433A-851A-40286E0A8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C4E5-545A-4094-88B4-CD8917AA5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3943-4F91-422F-B345-EEF3C014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FC64-73C9-4292-BE07-DCD4FED52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A427-06DA-4A70-8D15-71E7B17D5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5A19-342F-4E1D-A074-DCCA4101D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and Producing </a:t>
            </a:r>
            <a:br>
              <a:rPr sz="4400"/>
            </a:br>
            <a:r>
              <a:rPr b="0" lang="en-US" sz="4400" spc="-1" strike="noStrike">
                <a:solidFill>
                  <a:srgbClr val="cc3300"/>
                </a:solidFill>
                <a:latin typeface="Arial"/>
              </a:rPr>
              <a:t>Scale Ma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thematic maps</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 aspect of map desig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 what information will be shown on each different “map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 wit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common to all lay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specific to each lay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ilding the map layers</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or digitise selected information from the rough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 data from field not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first the information common to all the layer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g. rivers, boundaries, roads, settlemen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inue selecting and tracing community data to each thematic map in the seri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e maps made from scratch</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from compass traverse or GPS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urvey track is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advant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vers and roads, the “local grid”, must be surveyed to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ime-consuming to collect thematic inform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list of essential </a:t>
            </a:r>
            <a:br>
              <a:rPr sz="4400"/>
            </a:br>
            <a:r>
              <a:rPr b="0" lang="en-US" sz="4400" spc="-1" strike="noStrike">
                <a:solidFill>
                  <a:srgbClr val="cc3300"/>
                </a:solidFill>
                <a:latin typeface="Arial"/>
              </a:rPr>
              <a:t>map elements</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tit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tion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ptional notation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pyright stat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planatory no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series numb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gnatures of valid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 source data on map</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information – when, wh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urce of thematic information – who provided the community information</a:t>
            </a:r>
            <a:endParaRPr b="0" lang="en-US" sz="32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a-data document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alogue and store original source dat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meta-data document for:</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 and datum;</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gnetic declination;</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n sizes and templates for hand drafting;</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nts, colour codes, symbol cod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st of computer file nam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ames of those involved in surveying, drawing and supplying map information.</a:t>
            </a: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erification proces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ust have an opportunity to verify that the information they contributed was drawn correctl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a single or series of community meet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ith the community as a whole or with the knowledge sect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ffectively done in small grou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king time to explain the maps in simple language.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rrecting and updating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and ground-check corrections as neede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draft maps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agai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 drafting or computer drafting ma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cess of drawing final maps</a:t>
            </a:r>
            <a:endParaRPr b="0" lang="en-US" sz="32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organising the survey and map dat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designing the thematic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selecting and tracing from base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king maps from scratch</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verification</a:t>
            </a:r>
            <a:endParaRPr b="0" lang="en-US" sz="26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ements on a map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cumentation of source data</a:t>
            </a:r>
            <a:endParaRPr b="0" lang="en-US" sz="32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hand drafting or                     computer draft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urce data</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mpass and paper topographic maps are easily hand drafted</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GPS data and satellite imagery are easily put on computer</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process in the community</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is hand drafting more accessible and understandable?</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outcome</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ok of the map</a:t>
            </a:r>
            <a:endParaRPr b="0" lang="en-US" sz="24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hand-drafted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people can see and know how to handle the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s a sense of ownershi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otentially more people can particip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ss training, less capital co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sents a customised, hand-drawn feeling to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hand-drafted maps</a:t>
            </a:r>
            <a:endParaRPr b="0" lang="en-US" sz="40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consuming to draft, redraft and upd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slow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tion in colour is not always pos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al map is only in paper format which is not durable; it can warp and fade</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computer-drafted map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ast to produce (once the system is set up and the data are ente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easy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updated, corrected and redraf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produced and reproduced in colour and at different s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options in map desig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computer-drafted maps</a:t>
            </a:r>
            <a:endParaRPr b="0" lang="en-US" sz="40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ople may lose grasp of where the data went (mitigated by a good verification proces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 as accessible for rural villager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maps to have a “cookie-cutter” look (a matter of skill in desig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 cost in training and equip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computer technology to mask poor quality dat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rocess</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the survey and map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mat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and trace from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ft maps from scrat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ft the final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the maps with the communit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map data </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and compile the surve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survey data manually or on comput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rough draft maps and field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thematic maps from other sources and adjust the scal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3:58:41Z</dcterms:created>
  <dc:creator>Alix Flavelle</dc:creator>
  <dc:description/>
  <cp:keywords>pgis training kit</cp:keywords>
  <dc:language>en-US</dc:language>
  <cp:lastModifiedBy>martens</cp:lastModifiedBy>
  <dcterms:modified xsi:type="dcterms:W3CDTF">2009-09-09T09:26:59Z</dcterms:modified>
  <cp:revision>88</cp:revision>
  <dc:subject>M09 - Scale Mapping and Surveying</dc:subject>
  <dc:title>Presentation - Drawing Scal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