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37DF9-C204-40CB-8F21-255604B2065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FBE16-C59A-4767-B1F7-BECFA7E89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different types of compasses. The base plate compass is common. Naming the parts of the compass indicates the essential function of a compass. </a:t>
            </a:r>
            <a:endParaRPr b="0" lang="en-US" sz="1200" spc="-1" strike="noStrike">
              <a:solidFill>
                <a:srgbClr val="000000"/>
              </a:solidFill>
              <a:latin typeface="Arial"/>
            </a:endParaRPr>
          </a:p>
        </p:txBody>
      </p:sp>
      <p:sp>
        <p:nvSpPr>
          <p:cNvPr id="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6CDD4-57F8-4B0A-A02D-079E11A9EA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chanics of adjusting the compass are different depending on the type of compass. The amount of declination (i.e. the angle) is different depending on where on the Earth you are. Declination changes with time so the calculation depends on the number of years from the time the map was made to the current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rings are measured in degrees. There are 360</a:t>
            </a:r>
            <a:r>
              <a:rPr b="0" lang="en-US" sz="1200" spc="-1" strike="noStrike" baseline="30000">
                <a:solidFill>
                  <a:srgbClr val="000000"/>
                </a:solidFill>
                <a:latin typeface="Arial"/>
              </a:rPr>
              <a:t>o</a:t>
            </a:r>
            <a:r>
              <a:rPr b="0" lang="en-US" sz="1200" spc="-1" strike="noStrike">
                <a:solidFill>
                  <a:srgbClr val="000000"/>
                </a:solidFill>
                <a:latin typeface="Arial"/>
              </a:rPr>
              <a:t> on the compass rose or the compass dial. Recall Exercise No. 8 “Compass Rose Race” in M09U01. It is best to learn to use a compass by doing the Exercise No. 1 “Using a Compass” in this Unit. </a:t>
            </a:r>
            <a:endParaRPr b="0" lang="en-US" sz="1200" spc="-1" strike="noStrike">
              <a:solidFill>
                <a:srgbClr val="000000"/>
              </a:solidFill>
              <a:latin typeface="Arial"/>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D249B-83F1-4F10-B768-1D532F2D3C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se this in Exercise No. 2 “Finding Bearings on a Map”.                                                                           </a:t>
            </a:r>
            <a:endParaRPr b="0" lang="en-US" sz="1200" spc="-1" strike="noStrike">
              <a:solidFill>
                <a:srgbClr val="000000"/>
              </a:solidFill>
              <a:latin typeface="Arial"/>
            </a:endParaRPr>
          </a:p>
        </p:txBody>
      </p:sp>
      <p:sp>
        <p:nvSpPr>
          <p:cNvPr id="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8A1CF-35D5-441B-9044-D7C964800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se this in Exercise No. 2 “Finding Bearings on a Map”. Note that an alternative way to find bearings on the map is by using a protractor. Note that a protractor will always measure the grid north. Be aware then of magnetic declination and whether your compass is measuring magnetic north or has been adjusted to grid north. </a:t>
            </a:r>
            <a:endParaRPr b="0" lang="en-US" sz="1200" spc="-1" strike="noStrike">
              <a:solidFill>
                <a:srgbClr val="000000"/>
              </a:solidFill>
              <a:latin typeface="Arial"/>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0BB4A-23A8-4C66-BBA3-CE3622D06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you are familiar with finding bearings on a map, you can see how triangulation works. Triangulation has become a generic term for the process of measuring to two or more known points to determine - using geometry - the location of an unknown point. In fact, there are three methods as shown in this slide. Practise triangulation in Exercise No. 2,  “Finding Bearings on a Map”. </a:t>
            </a:r>
            <a:endParaRPr b="0" lang="en-US" sz="1200" spc="-1" strike="noStrike">
              <a:solidFill>
                <a:srgbClr val="000000"/>
              </a:solidFill>
              <a:latin typeface="Arial"/>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17AF1-7AF8-4A95-9C1A-D92B8781C5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10D1C-5264-4057-A19B-25426A26D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C8ED5-C0CE-43F1-A1BB-88D631E79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C5EE4A-F688-4CC5-B670-A2A67AAEF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BD6EA-CB11-4CA9-B53A-EAAD6EBE27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24DD71B-DD09-49DD-96DC-57D7CACC29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D68533B-15D8-404E-82A1-6116EAF59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27B4917-7394-4E05-B24E-8916AEDC7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D8EB38D-08FB-482D-89E1-00E9289DE7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0ADDB15-4C67-450C-9DF7-D0E6542FE3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DB7DB4E-85EF-445B-8755-BE65AB584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4F38B02-C5DB-4586-A9DF-2986B9BF7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F3966-991B-4CF0-AFAD-A99907E15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2E8BEB-CDC3-4149-A0F1-2607E895D9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12E6CFA-8B6E-4B14-B68E-51B1E50316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ED10641-2D3E-4215-A26A-D51E8DB17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4682C6A4-B9D2-466C-9D63-10C8B12347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E92EAB9-CC92-43DB-8A85-5F6E931249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C82B3-7F45-43CD-BDD1-BF57DA1DA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3270A-6466-4DCD-9119-C5BF72393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C0552-9FA5-48C3-83C7-C8E7C1E6E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3C9C1-68AF-44FC-8190-C9DED6B22D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0F6A2-2B9D-4071-AFA2-C252F0A70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B3131-BBCB-4D4E-B03A-1781FA938F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08E40-CD64-4A20-8F5E-F856325501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DFEDD-640A-4B07-B555-F62871631B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2" name="Picture 10" descr="cc_license_by-nc-sa"/>
          <p:cNvPicPr/>
          <p:nvPr/>
        </p:nvPicPr>
        <p:blipFill>
          <a:blip r:embed="rId2"/>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EB20-9AF0-4E52-9FB9-D434A802EE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Using a Compass</a:t>
            </a:r>
            <a:endParaRPr b="0" lang="en-US" sz="4400" spc="-1" strike="noStrike">
              <a:solidFill>
                <a:srgbClr val="cc3300"/>
              </a:solidFill>
              <a:latin typeface="Arial"/>
            </a:endParaRPr>
          </a:p>
        </p:txBody>
      </p:sp>
      <p:sp>
        <p:nvSpPr>
          <p:cNvPr id="92"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a:t>
            </a:r>
            <a:endParaRPr b="0" lang="en-US" sz="3200" spc="-1" strike="noStrike">
              <a:solidFill>
                <a:srgbClr val="5f5f5f"/>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09U04</a:t>
            </a:r>
            <a:endParaRPr b="0" lang="en-US" sz="1800" spc="-1" strike="noStrike">
              <a:solidFill>
                <a:srgbClr val="000000"/>
              </a:solidFill>
              <a:latin typeface="Arial"/>
            </a:endParaRPr>
          </a:p>
        </p:txBody>
      </p:sp>
      <p:pic>
        <p:nvPicPr>
          <p:cNvPr id="94" name="Picture 6" descr="cc_license_by-nc-sa"/>
          <p:cNvPicPr/>
          <p:nvPr/>
        </p:nvPicPr>
        <p:blipFill>
          <a:blip r:embed="rId1"/>
          <a:stretch/>
        </p:blipFill>
        <p:spPr>
          <a:xfrm>
            <a:off x="4151160" y="6375240"/>
            <a:ext cx="838440" cy="295560"/>
          </a:xfrm>
          <a:prstGeom prst="rect">
            <a:avLst/>
          </a:prstGeom>
          <a:ln w="0">
            <a:noFill/>
          </a:ln>
        </p:spPr>
      </p:pic>
      <p:sp>
        <p:nvSpPr>
          <p:cNvPr id="95" name=""/>
          <p:cNvSpPr/>
          <p:nvPr/>
        </p:nvSpPr>
        <p:spPr>
          <a:xfrm>
            <a:off x="3810960" y="515772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Uses of a compass</a:t>
            </a:r>
            <a:endParaRPr b="0" lang="en-US" sz="4400" spc="-1" strike="noStrike">
              <a:solidFill>
                <a:srgbClr val="cc33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o measure direction (bearing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o plot locations on a map (triangul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o do a compass survey (traverse)</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compass</a:t>
            </a:r>
            <a:endParaRPr b="0" lang="en-US" sz="4400" spc="-1" strike="noStrike">
              <a:solidFill>
                <a:srgbClr val="cc3300"/>
              </a:solidFill>
              <a:latin typeface="Arial"/>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arts of a typical </a:t>
            </a:r>
            <a:endParaRPr b="0" lang="en-US" sz="3200" spc="-1" strike="noStrike">
              <a:solidFill>
                <a:srgbClr val="5f5f5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ase plate compass</a:t>
            </a:r>
            <a:endParaRPr b="0" lang="en-US" sz="3200" spc="-1" strike="noStrike">
              <a:solidFill>
                <a:srgbClr val="5f5f5f"/>
              </a:solidFill>
              <a:latin typeface="Arial"/>
            </a:endParaRPr>
          </a:p>
        </p:txBody>
      </p:sp>
      <p:pic>
        <p:nvPicPr>
          <p:cNvPr id="100" name="Picture 4" descr="compass.jpg"/>
          <p:cNvPicPr/>
          <p:nvPr/>
        </p:nvPicPr>
        <p:blipFill>
          <a:blip r:embed="rId1"/>
          <a:stretch/>
        </p:blipFill>
        <p:spPr>
          <a:xfrm>
            <a:off x="4648320" y="1447920"/>
            <a:ext cx="3233520" cy="4678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gnetic declination</a:t>
            </a:r>
            <a:endParaRPr b="0" lang="en-US" sz="4400" spc="-1" strike="noStrike">
              <a:solidFill>
                <a:srgbClr val="cc33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legend of a topographic map show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agnetic north;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grid north;</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rue north</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djust the compass when using it with a map.</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aking a bearing to an object</a:t>
            </a:r>
            <a:endParaRPr b="0" lang="en-US" sz="4400" spc="-1" strike="noStrike">
              <a:solidFill>
                <a:srgbClr val="cc33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old the compass fla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old your arm stretched ou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ght on the objec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ad the bearing.</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lotting bearings on a map</a:t>
            </a:r>
            <a:endParaRPr b="0" lang="en-US" sz="4400" spc="-1" strike="noStrike">
              <a:solidFill>
                <a:srgbClr val="cc33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t the bearing on the compass dia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y the long edge of the compass on the known point (where the bearing was taken from).</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urn the compass plate so that the north lines align with the north lines on the map.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aking bearings off a map</a:t>
            </a:r>
            <a:endParaRPr b="0" lang="en-US" sz="4400" spc="-1" strike="noStrike">
              <a:solidFill>
                <a:srgbClr val="cc33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lign the base plate with an imaginary line between two points on th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urn the compass dial until the north lines align with the north lines on th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ad the bearing set on the compass dial.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riangulation</a:t>
            </a: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section -  bearings </a:t>
            </a:r>
            <a:r>
              <a:rPr b="0" lang="en-US" sz="3200" spc="-1" strike="noStrike" u="sng">
                <a:solidFill>
                  <a:srgbClr val="5f5f5f"/>
                </a:solidFill>
                <a:uFillTx/>
                <a:latin typeface="Arial"/>
              </a:rPr>
              <a:t>to</a:t>
            </a:r>
            <a:r>
              <a:rPr b="0" lang="en-US" sz="3200" spc="-1" strike="noStrike">
                <a:solidFill>
                  <a:srgbClr val="5f5f5f"/>
                </a:solidFill>
                <a:latin typeface="Arial"/>
              </a:rPr>
              <a:t> two known locations to determine an unknown location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tersection – bearings </a:t>
            </a:r>
            <a:r>
              <a:rPr b="0" lang="en-US" sz="3200" spc="-1" strike="noStrike" u="sng">
                <a:solidFill>
                  <a:srgbClr val="5f5f5f"/>
                </a:solidFill>
                <a:uFillTx/>
                <a:latin typeface="Arial"/>
              </a:rPr>
              <a:t>from</a:t>
            </a:r>
            <a:r>
              <a:rPr b="0" lang="en-US" sz="3200" spc="-1" strike="noStrike">
                <a:solidFill>
                  <a:srgbClr val="5f5f5f"/>
                </a:solidFill>
                <a:latin typeface="Arial"/>
              </a:rPr>
              <a:t> two known locations to determine an unknown location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riangulation – third bearing to verify </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8T14:20:13Z</dcterms:created>
  <dc:creator>Alix Flavelle</dc:creator>
  <dc:description/>
  <cp:keywords>pgis training kit</cp:keywords>
  <dc:language>en-US</dc:language>
  <cp:lastModifiedBy>martens</cp:lastModifiedBy>
  <dcterms:modified xsi:type="dcterms:W3CDTF">2009-09-09T09:05:31Z</dcterms:modified>
  <cp:revision>81</cp:revision>
  <dc:subject/>
  <dc:title>Presentation - Using a Compa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y fmtid="{D5CDD505-2E9C-101B-9397-08002B2CF9AE}" pid="12" name="_PID_LINKBASE">
    <vt:lpwstr/>
  </property>
</Properties>
</file>