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45B2-E9BC-459F-AB48-DEE688E9E2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C6251-B9AD-4572-BD23-276CBD38DB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8AD7-3939-4644-8A27-603015F1A20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f the base map is from a digital source, the map will be scaled and sized by computer. A paper base map can also be digitised and then it will be sized using the computer. </a:t>
            </a: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45C7-8676-4A7E-8FCF-03422A5265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features may be labeled or located incorrectly on a topographic map. These should be corrected first, so that they don’t cause confusion in the mapping process. </a:t>
            </a: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E576-3957-4FE0-A85C-D729D9DA96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49DD0-7DFB-4633-AAAD-53EE9FCE58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better to have more distinctive topography (i.e. rivers, mountains and valleys) to make visible landmarks on the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ll-prepared base map includes one with appropriate scale, customised local place names, local highlighted landmarks and col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facilitation requires taking time to orient community members to the base map and asking good questions. </a:t>
            </a: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DEF0-0057-4EF1-A0B9-5C7D3C2B0E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etail about designing the legend is presented in M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plenty of time to help local people become familiar with the map. Sit around the map, relax, talk about important features in the landscape and point them out on the map. Using colour helps to highlight familiar features. </a:t>
            </a: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656AA-823B-4E76-B204-F80A9E5F367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ransparent overlays of different themes. Each thematic map is then based on the same base map and the base information is consistent. By laying one layer on top of the other, the thematic information on one can be examined against another to check for logical consistency.  </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B59A-AE5D-4549-BFFF-5022997FE1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this is the same process as drawing a map from scratch on a base map. It is important to highlight the “local grid” first on the base map. The sketch map provides the reference information to be transferred, rather than drawing from memory. The mental map is drawn already in the form of the sketch map. </a:t>
            </a: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FC20-69FB-4DB2-BD16-40EB739EDE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nd-truthing may be more or less intensive. Obviously, the more ground-truthing that is done, the more accurate the map. However, then it is no longer table-top mapping, but a survey!  Ground-truthing may be done by walking and eyeballing locations from a viewpoint or by measuring sample locations with GPS.</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BB49-2F1B-43E8-9097-DAEA9FB27A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9F39-3A23-446A-A60E-1A25A0F4D6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se map with scale and no coordinate system can be used to make a scale map. A grid is not needed to draw community information. With a coordinate system, the map is said to be “geo-referenced”. In order to digitise the map and relate the map to other maps, it must be “geo-referenced”. Geo-referencing can be done later, after the community information is drawn. To assess participants’ level of cartographic knowledge, ask them to suggest ways to geo-reference a map, to add the grid. What tool could be used? </a:t>
            </a: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9CF2-C428-4D43-B0C2-E4F4A5BF31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primary sources of base maps are topographic maps and remotely-sensed images. Both have advantages and disadvantages explored here. Usually the choice of what to use is a matter of what is available. </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D4C5-BDEC-4374-84FE-2382ED8884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E2D7-AB57-4454-9EB7-461353DDC4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about selecting and using remote sensing, see M11.</a:t>
            </a: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B3670-A3FA-4A69-AAB6-C309B9DEB7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ing the base maps involves several steps that usually require access to a computer or photocopy machine which are not in the village. In a participatory process, this preparation is often done by a small team which is leading the mapping project. The amount of preparation depends on the base map available and the particular process of the mapping project. </a:t>
            </a: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0C8D-B53D-471D-827A-C22AE6D9E2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ale of the base map often needs to be adapted according to the size of the land area and the design of the map to be drawn. </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7070-BF95-4C2E-9D4A-0443A58C16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ABE80E-DAE7-42A3-A02E-8DE96A58C5C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97D9F07B-53F0-4F98-A910-28925C16C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96771F40-A873-481B-9AD8-4456D3EBA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298C64E6-5229-41FE-A265-82880A90629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126E5850-7496-4EA9-A4B2-0E9AD74F21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668215B-7792-44BB-95AD-2D8D2A22A9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B4B290A-60C7-4FC2-AEC4-1F9FCD007B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9F8AEFF-B845-4B83-9145-6B2B030817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0EF5230-14B9-48D1-A560-4740DF8FC6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6968E549-53EF-42E9-AD75-D93F4617A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EECF424-DB3B-4DE1-AA8C-2D4357C7C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CD7893EC-743C-4722-BEF7-1F37A2072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CAC49323-D60C-4F70-ACA1-C36D73F5BE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0CD1FDC-D3D0-45E6-8486-43BEF04901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19EE9A9-4049-4931-A955-E26312429A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8D4DC1A8-9FB2-44CB-94B1-CF2D9BD4BD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D5978A63-E77E-4CE5-B752-77CB1979F2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7FA88BD7-2F5B-4199-9BC6-469C854D6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634A009A-FA28-4FF7-BF2C-9E6528ECB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6489D683-9F06-446D-B72D-4035D6002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317C282C-E82A-425F-BBBA-C9DA60DBE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BD7E9F1F-D46E-4842-8A35-116E9FE4E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588D2F60-4BC6-487C-B17F-82E6C970C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3B16E4BE-44D1-4F62-8156-691AB1095FB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CE479-B471-4DE0-B09E-8F2F9C6066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A55D-8304-4452-9EB1-D04AA3CD95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king scale maps using existing base maps</a:t>
            </a:r>
            <a:endParaRPr b="0" lang="en-US" sz="4400" spc="-1" strike="noStrike">
              <a:solidFill>
                <a:srgbClr val="cc3300"/>
              </a:solidFill>
              <a:latin typeface="Arial"/>
            </a:endParaRPr>
          </a:p>
        </p:txBody>
      </p:sp>
      <p:sp>
        <p:nvSpPr>
          <p:cNvPr id="91"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9U03</a:t>
            </a:r>
            <a:endParaRPr b="0" lang="en-US" sz="1800" spc="-1" strike="noStrike">
              <a:solidFill>
                <a:srgbClr val="000000"/>
              </a:solidFill>
              <a:latin typeface="Arial"/>
            </a:endParaRPr>
          </a:p>
        </p:txBody>
      </p:sp>
      <p:pic>
        <p:nvPicPr>
          <p:cNvPr id="92"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3" name=""/>
          <p:cNvSpPr/>
          <p:nvPr/>
        </p:nvSpPr>
        <p:spPr>
          <a:xfrm>
            <a:off x="3810960" y="515772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alculating the scale</a:t>
            </a:r>
            <a:endParaRPr b="0" lang="en-US" sz="44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stimate the size of the area you want to map:</a:t>
            </a:r>
            <a:endParaRPr b="0" lang="en-US" sz="2800" spc="-1" strike="noStrike">
              <a:solidFill>
                <a:srgbClr val="5f5f5f"/>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by identifying topographic features on the map that are at the edges of the area;</a:t>
            </a:r>
            <a:endParaRPr b="0" lang="en-US" sz="2400" spc="-1" strike="noStrike">
              <a:solidFill>
                <a:srgbClr val="5f5f5f"/>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by going to the edges of the area with a GPS unit and plotting them on the map.</a:t>
            </a:r>
            <a:endParaRPr b="0" lang="en-US" sz="24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easure the map distance across the area with a ruler. </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alculating the scale</a:t>
            </a:r>
            <a:endParaRPr b="0" lang="en-US" sz="4400" spc="-1" strike="noStrike">
              <a:solidFill>
                <a:srgbClr val="cc33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Use the equation:</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5f5f5f"/>
                </a:solidFill>
                <a:latin typeface="Arial"/>
              </a:rPr>
              <a:t>         </a:t>
            </a:r>
            <a:r>
              <a:rPr b="0" lang="en-GB" sz="2600" spc="-1" strike="noStrike">
                <a:solidFill>
                  <a:srgbClr val="5f5f5f"/>
                </a:solidFill>
                <a:latin typeface="Arial"/>
              </a:rPr>
              <a:t>Desired Scale = </a:t>
            </a:r>
            <a:r>
              <a:rPr b="0" lang="en-GB" sz="2600" spc="-1" strike="noStrike" u="sng">
                <a:solidFill>
                  <a:srgbClr val="5f5f5f"/>
                </a:solidFill>
                <a:uFillTx/>
                <a:latin typeface="Arial"/>
              </a:rPr>
              <a:t>width of area in centimetres</a:t>
            </a:r>
            <a:endParaRPr b="0" lang="en-US" sz="2600" spc="-1" strike="noStrike">
              <a:solidFill>
                <a:srgbClr val="5f5f5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5f5f5f"/>
                </a:solidFill>
                <a:latin typeface="Arial"/>
              </a:rPr>
              <a:t>     </a:t>
            </a:r>
            <a:r>
              <a:rPr b="0" lang="en-GB" sz="2600" spc="-1" strike="noStrike">
                <a:solidFill>
                  <a:srgbClr val="5f5f5f"/>
                </a:solidFill>
                <a:latin typeface="Arial"/>
              </a:rPr>
              <a:t>	</a:t>
            </a:r>
            <a:r>
              <a:rPr b="0" lang="en-GB" sz="2600" spc="-1" strike="noStrike">
                <a:solidFill>
                  <a:srgbClr val="5f5f5f"/>
                </a:solidFill>
                <a:latin typeface="Arial"/>
              </a:rPr>
              <a:t>	</a:t>
            </a:r>
            <a:r>
              <a:rPr b="0" lang="en-GB" sz="2600" spc="-1" strike="noStrike">
                <a:solidFill>
                  <a:srgbClr val="5f5f5f"/>
                </a:solidFill>
                <a:latin typeface="Arial"/>
              </a:rPr>
              <a:t>	</a:t>
            </a:r>
            <a:r>
              <a:rPr b="0" lang="en-GB" sz="2600" spc="-1" strike="noStrike">
                <a:solidFill>
                  <a:srgbClr val="5f5f5f"/>
                </a:solidFill>
                <a:latin typeface="Arial"/>
              </a:rPr>
              <a:t>      </a:t>
            </a:r>
            <a:r>
              <a:rPr b="0" lang="en-GB" sz="2600" spc="-1" strike="noStrike">
                <a:solidFill>
                  <a:srgbClr val="5f5f5f"/>
                </a:solidFill>
                <a:latin typeface="Arial"/>
              </a:rPr>
              <a:t>width of paper in centimetres</a:t>
            </a:r>
            <a:endParaRPr b="0" lang="en-US" sz="26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Round the scale to the nearest 1,000</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anging the scale</a:t>
            </a:r>
            <a:endParaRPr b="0" lang="en-US" sz="4400" spc="-1" strike="noStrike">
              <a:solidFill>
                <a:srgbClr val="cc33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f enlarging by photocopy machin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nlarging by 200% doubles the size of the map and halves the scale.</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alculate with this equation:</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Percent enlargement = (</a:t>
            </a:r>
            <a:r>
              <a:rPr b="0" lang="en-US" sz="2600" spc="-1" strike="noStrike" u="sng">
                <a:solidFill>
                  <a:srgbClr val="5f5f5f"/>
                </a:solidFill>
                <a:uFillTx/>
                <a:latin typeface="Arial"/>
              </a:rPr>
              <a:t>scale of original</a:t>
            </a:r>
            <a:r>
              <a:rPr b="0" lang="en-US" sz="2600" spc="-1" strike="noStrike">
                <a:solidFill>
                  <a:srgbClr val="5f5f5f"/>
                </a:solidFill>
                <a:latin typeface="Arial"/>
              </a:rPr>
              <a:t>) x 100%</a:t>
            </a:r>
            <a:endParaRPr b="0" lang="en-US" sz="2600" spc="-1" strike="noStrike">
              <a:solidFill>
                <a:srgbClr val="5f5f5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                                          </a:t>
            </a:r>
            <a:r>
              <a:rPr b="0" lang="en-US" sz="2600" spc="-1" strike="noStrike">
                <a:solidFill>
                  <a:srgbClr val="5f5f5f"/>
                </a:solidFill>
                <a:latin typeface="Arial"/>
              </a:rPr>
              <a:t>target scale </a:t>
            </a:r>
            <a:endParaRPr b="0" lang="en-US" sz="2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ustomising the base map</a:t>
            </a:r>
            <a:endParaRPr b="0" lang="en-US" sz="4400" spc="-1" strike="noStrike">
              <a:solidFill>
                <a:srgbClr val="cc33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fine the “local map grid” by:</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rrecting and adding place nam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rrecting the location of settlements, rivers and ephemeral streams - features that are often wrong and can be located by interpreting the map or by GP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dding local landmark featur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eproducing the base map</a:t>
            </a:r>
            <a:endParaRPr b="0" lang="en-US" sz="4400" spc="-1" strike="noStrike">
              <a:solidFill>
                <a:srgbClr val="cc33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pending on the scope of the mapping project, work with one or many copi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rry maps into the field to engage small group discussion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wo ways to reproduce: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hotocopying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canning or digitising to computer – then print.</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rawing community data on scale base maps</a:t>
            </a:r>
            <a:endParaRPr b="0" lang="en-US" sz="4400" spc="-1" strike="noStrike">
              <a:solidFill>
                <a:srgbClr val="cc33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quality of the result is in the amount of map detail and accuracy.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result depends o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istinctive topograph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 well-prepared base map;</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ood facilitation.</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rawing on base maps </a:t>
            </a:r>
            <a:br>
              <a:rPr sz="4400"/>
            </a:br>
            <a:r>
              <a:rPr b="0" lang="en-US" sz="4400" spc="-1" strike="noStrike">
                <a:solidFill>
                  <a:srgbClr val="cc3300"/>
                </a:solidFill>
                <a:latin typeface="Arial"/>
              </a:rPr>
              <a:t>– the process</a:t>
            </a:r>
            <a:endParaRPr b="0" lang="en-US" sz="4400" spc="-1" strike="noStrike">
              <a:solidFill>
                <a:srgbClr val="cc33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tegorise what to draw on each thematic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sign the lege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elp local people read th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colour pens.</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rawing on base maps </a:t>
            </a:r>
            <a:br>
              <a:rPr sz="4400"/>
            </a:br>
            <a:r>
              <a:rPr b="0" lang="en-US" sz="4400" spc="-1" strike="noStrike">
                <a:solidFill>
                  <a:srgbClr val="cc3300"/>
                </a:solidFill>
                <a:latin typeface="Arial"/>
              </a:rPr>
              <a:t>– the mechanics</a:t>
            </a:r>
            <a:endParaRPr b="0" lang="en-US" sz="4400" spc="-1" strike="noStrike">
              <a:solidFill>
                <a:srgbClr val="cc33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raw directly on photocopies of the bas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ternatively, draw on transparent overlay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colour pe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ace rivers and roads firs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king thematic overlays</a:t>
            </a:r>
            <a:endParaRPr b="0" lang="en-US" sz="4400" spc="-1" strike="noStrike">
              <a:solidFill>
                <a:srgbClr val="cc33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advantage of transparent overlays is that they can be laid over each other to cross-check and compar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ips for making overlay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ke registration mark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use colour pen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use transparent materia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tart with the “local grid” e.g. rivers and road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ransferring sketch maps to base maps</a:t>
            </a:r>
            <a:endParaRPr b="0" lang="en-US" sz="4400" spc="-1" strike="noStrike">
              <a:solidFill>
                <a:srgbClr val="cc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tart with locally relevant reference features (e.g. the local map grid).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n eyeball the locations for data in between asking local experts questions for clarification.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fer to field notes to help determine location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king scale maps using existing base maps</a:t>
            </a:r>
            <a:endParaRPr b="0" lang="en-US" sz="4400" spc="-1" strike="noStrike">
              <a:solidFill>
                <a:srgbClr val="cc33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troduc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bout bas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paring and customising the bas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rawing local knowledge on the map – the process and the mechanic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ansferring information from a sketch map to sca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Verifying data through ground-truthing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round-truthing and verification</a:t>
            </a:r>
            <a:endParaRPr b="0" lang="en-US" sz="4400" spc="-1" strike="noStrike">
              <a:solidFill>
                <a:srgbClr val="cc33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o out on the ground, measure some locations and see what’s actually there.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GPS or a compass and a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ason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llows verification by community member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dds credibility and validit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rovides opportunity to gather more detailed information and to cross-check</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local map grid”</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ventional cartographers use the coordinate system to geo-reference and locate featur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cal people traditionally use rivers and roads to navigate and this is their “local map gri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raw the map using what is common to both – rivers? roads? mountain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Base maps</a:t>
            </a:r>
            <a:endParaRPr b="0" lang="en-US" sz="44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geo-referenced base map has these conventional featur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cal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irec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visible reference features – such as rivers, roads, mountai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ordinate system</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ypes of base maps</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opographic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motely-sensed image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ir phot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adar phot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atellite imag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t>
            </a:r>
            <a:r>
              <a:rPr b="0" lang="en-US" sz="2800" spc="-1" strike="noStrike">
                <a:solidFill>
                  <a:srgbClr val="5f5f5f"/>
                </a:solidFill>
                <a:latin typeface="Arial"/>
              </a:rPr>
              <a:t>Google Earth’ images</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opographic maps</a:t>
            </a:r>
            <a:endParaRPr b="0" lang="en-US" sz="4400" spc="-1" strike="noStrike">
              <a:solidFill>
                <a:srgbClr val="cc33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only us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ave all the data requir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fficult to obtain in some are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tour lines may be difficult for some people to rea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 flatter areas, it is difficult to interpret terrain and rivers can change.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emotely-sensed images</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y be more intelligible for local people than a topographic map – landscape appears more like in a photograp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Vegetation and terrain are visib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paration process (e.g. geo-referencing) is generally more complex</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eparing the base map</a:t>
            </a: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lculate the scale need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vert the map scale – enlarge as need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ustomise the bas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produce the base map – by photocopying, scanning or digitising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alculating the scale</a:t>
            </a:r>
            <a:endParaRPr b="0" lang="en-US" sz="4400" spc="-1" strike="noStrike">
              <a:solidFill>
                <a:srgbClr val="cc33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scale you choose depends on th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ze of the are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ze of the paper you wan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mount of detail you want to draw.</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6T18:10:17Z</dcterms:created>
  <dc:creator>Alix Flavelle</dc:creator>
  <dc:description/>
  <cp:keywords>pgis training kit</cp:keywords>
  <dc:language>en-US</dc:language>
  <cp:lastModifiedBy>martens</cp:lastModifiedBy>
  <dcterms:modified xsi:type="dcterms:W3CDTF">2009-09-09T08:48:02Z</dcterms:modified>
  <cp:revision>89</cp:revision>
  <dc:subject>M09  Scale Mapping and Surveying</dc:subject>
  <dc:title>Presentation - Making Scale Maps using Existing Base Ma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y fmtid="{D5CDD505-2E9C-101B-9397-08002B2CF9AE}" pid="12" name="_PID_LINKBASE">
    <vt:lpwstr/>
  </property>
</Properties>
</file>