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0055-DA45-4F3E-B53E-6879CF00B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E407-C70C-46B4-AF4D-FED648BE8F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ese controllable sources of error so that you may avoid or troubleshoot problems. </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396F-D03A-4B0B-9792-A3027611C2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units that need to be adjusted in order to operate the GPS effectively in the local area. The instruction book with the GPS unit will explain how to adjust these settings. We will do this in Exercise No.1, “Using a GPS Unit”. </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3D11-21D6-4E2A-9136-DAA6C533FE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GPS unit is very simple. </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4453-2170-4816-8625-56C6016D2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ings to consider in designing a GPS survey. Discuss what information to collect and where. It is a matter of strategising the best use of time, the priority sites and areas to map. What things should be mapped as lines; the data for those might be collected as tracks. What sites will be mapped as point data and therefore collected as waypoints? What sites will have a lot of notes or whole stories written for them and therefore need to be recorded as waypoints and identified? Is there just one GPS unit and one team? If so, a simple numbering system may suffice. If there is more than one unit and survey team, the numbering system needs to be coordinated.</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500F-CFDD-4DC9-9F25-ABF3C99883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polation is a mathematical process and takes some practice to understand well. A grid tool (a template made to fit the grid) reduces the calculation required. Practise plotting in Exercise No. 3.</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C3D1-8AA0-4D42-ADA4-365E32A6BE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drawn numbers are those that are not marked on the actual map. They are the numbers measured (interpolated) between.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95F6-AB3F-49EC-981E-BBFDAD2CDE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a very efficient way to record GPS data and generate maps. </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E18D-C175-4870-842B-ED33D5FE03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video with this Unit and Additional Resources for more detail on what Cybertracker can do and how to use it. </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C367-56B6-4196-998E-94A4FCAD77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of how GPS works are understood through the concepts of triangulation and that distance is measured by how long it takes a signal to get from one point to another. </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8123-B295-4A2A-9036-2421866AF9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eneralised categories for the quality of GPS receivers. Like all technologies, the price comes down on GPS receivers as demand increases. A recreational-quality receiver today is the equivalent of a mapping-quality receiver several years ago. Depending on the scope and purpose of the participatory mapping project, a good recreational-quality GPS is usually adequate. </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079E-CAB9-42FC-941F-B4D91445B1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DFEF-702F-439A-B869-F68896500A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urces of error that we cannot do anything about except be aware of them. Developments in GPS technology are mostly about how to improve accuracy by compensating for these sources of error.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2B76-588C-4A64-9F00-AD46132304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EE25-C84E-4CD9-B237-FD689283B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B5B7-7B58-4743-9D2F-F633DD95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99E46-D6C1-4F89-AEA8-AFE3D837A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829E2-7A43-430F-BC20-8DB21AF63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D42D840-C2E7-4906-BFBD-2C5CDFDD9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521DEA-371E-47ED-8067-18C5324EF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B8E54D-EC83-42A6-8AD6-9BD019FFC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C3ED08-C7AB-48BC-BE7A-BE03B07BC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04ECA7-B5F4-49B1-8BC1-42DBA3825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C15622-1FD9-44A6-B909-F06628246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16A0F2-44A4-42C6-8539-6665B20F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DBC73-14E5-4A84-A08F-2E7744D22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42D54E-5EFD-4EB7-ADD8-E29C90F0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5DD066-DC2A-4DFD-8FEA-DFE9ECFE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5C2928-2FE0-41DC-A221-8AB92EC6E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4AE6FBC-43B3-4E46-8C21-32EB2F6B9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A60C07-97EB-45E6-8942-6EEC748B4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32D59-4968-4A25-A44A-7CB196E8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49D1D-5DE7-4B61-90A3-DCA806E2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9329-4F66-47CE-8764-1EB819A0C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2A438-2EE6-4C80-A87D-91686090F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70D3-AF80-4372-BDA8-D5EBD3A8F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A55B-346F-43EA-A59E-C0EED99B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AA2F-0D86-4F34-9894-C2F931703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93E0-7BFD-4227-94F7-904EFDCC5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8091-B8A5-46AF-8EB1-D5C86BE20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ping with G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5</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satellites are clustered in one region of the sky, the position calculation is less accurate.</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good</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poor</a:t>
            </a:r>
            <a:endParaRPr b="0" lang="en-US" sz="20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You can move or wait.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4" name="Picture 4" descr="gpsconfig_good.jpg"/>
          <p:cNvPicPr/>
          <p:nvPr/>
        </p:nvPicPr>
        <p:blipFill>
          <a:blip r:embed="rId1"/>
          <a:stretch/>
        </p:blipFill>
        <p:spPr>
          <a:xfrm>
            <a:off x="1224000" y="3213000"/>
            <a:ext cx="3220920" cy="1905120"/>
          </a:xfrm>
          <a:prstGeom prst="rect">
            <a:avLst/>
          </a:prstGeom>
          <a:ln w="9360">
            <a:solidFill>
              <a:srgbClr val="000000"/>
            </a:solidFill>
            <a:miter/>
          </a:ln>
        </p:spPr>
      </p:pic>
      <p:pic>
        <p:nvPicPr>
          <p:cNvPr id="115" name="Picture 5" descr="gpsconfiguration.jpg"/>
          <p:cNvPicPr/>
          <p:nvPr/>
        </p:nvPicPr>
        <p:blipFill>
          <a:blip r:embed="rId2"/>
          <a:stretch/>
        </p:blipFill>
        <p:spPr>
          <a:xfrm>
            <a:off x="5472000" y="3141720"/>
            <a:ext cx="2963880" cy="198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lected signals: Signals can be reflected off terrain features and the GPS receiver confuses the reflected signal and the direct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Be aware and cross-check coordinates when in steep and complex terrain.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justing a GPS to local area</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ance and elevation uni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u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a GPS receiver</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t the receiver “wake u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the sky map and signal streng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rk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begin a tra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the waypoint and notes in the field notebook.</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a GPS survey</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dentify priority areas, tracks, points and what information to record the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track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d the numbers on the sides or top and bottom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polate the numbers in between to find the exact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straight edge or grid tool to locate the point in the centre of the map.</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 if the numbers at the side are 115</a:t>
            </a:r>
            <a:r>
              <a:rPr b="0" lang="en-US" sz="3200" spc="-1" strike="noStrike" baseline="30000">
                <a:solidFill>
                  <a:srgbClr val="5f5f5f"/>
                </a:solidFill>
                <a:latin typeface="Arial"/>
              </a:rPr>
              <a:t>o</a:t>
            </a:r>
            <a:r>
              <a:rPr b="0" lang="en-US" sz="3200" spc="-1" strike="noStrike">
                <a:solidFill>
                  <a:srgbClr val="5f5f5f"/>
                </a:solidFill>
                <a:latin typeface="Arial"/>
              </a:rPr>
              <a:t> and 120</a:t>
            </a:r>
            <a:r>
              <a:rPr b="0" lang="en-US" sz="3200" spc="-1" strike="noStrike" baseline="30000">
                <a:solidFill>
                  <a:srgbClr val="5f5f5f"/>
                </a:solidFill>
                <a:latin typeface="Arial"/>
              </a:rPr>
              <a:t>o</a:t>
            </a:r>
            <a:r>
              <a:rPr b="0" lang="en-US" sz="3200" spc="-1" strike="noStrike">
                <a:solidFill>
                  <a:srgbClr val="5f5f5f"/>
                </a:solidFill>
                <a:latin typeface="Arial"/>
              </a:rPr>
              <a:t>, then divide and subdivide like th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8" name="Picture 4" descr="latlong.jpg"/>
          <p:cNvPicPr/>
          <p:nvPr/>
        </p:nvPicPr>
        <p:blipFill>
          <a:blip r:embed="rId1"/>
          <a:stretch/>
        </p:blipFill>
        <p:spPr>
          <a:xfrm>
            <a:off x="2819520" y="2894040"/>
            <a:ext cx="5295960" cy="337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UTM</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vision is always by t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its relate to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1" name="Picture 4" descr="utm.jpg"/>
          <p:cNvPicPr/>
          <p:nvPr/>
        </p:nvPicPr>
        <p:blipFill>
          <a:blip r:embed="rId1"/>
          <a:stretch/>
        </p:blipFill>
        <p:spPr>
          <a:xfrm>
            <a:off x="914400" y="3352680"/>
            <a:ext cx="7397640" cy="152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system</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ftware designed to efficiently record large quantities of geo-referenced field observation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computer, customised and then uploaded to a PDA or smartphone that is used with a G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fter collecting data in the field, it can be viewed on the computer as reports and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 CyberTracker database</a:t>
            </a:r>
            <a:endParaRPr b="0" lang="en-US" sz="4400" spc="-1" strike="noStrike">
              <a:solidFill>
                <a:srgbClr val="cc33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eld observations are recorded using customised screens and icons. </a:t>
            </a:r>
            <a:endParaRPr b="0" lang="en-US" sz="3200" spc="-1" strike="noStrike">
              <a:solidFill>
                <a:srgbClr val="5f5f5f"/>
              </a:solidFill>
              <a:latin typeface="Arial"/>
            </a:endParaRPr>
          </a:p>
        </p:txBody>
      </p:sp>
      <p:pic>
        <p:nvPicPr>
          <p:cNvPr id="136" name="Picture 4" descr="cybertrackerimage.bmp"/>
          <p:cNvPicPr/>
          <p:nvPr/>
        </p:nvPicPr>
        <p:blipFill>
          <a:blip r:embed="rId1"/>
          <a:stretch/>
        </p:blipFill>
        <p:spPr>
          <a:xfrm>
            <a:off x="228600" y="2971800"/>
            <a:ext cx="872496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Mapping with GP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w GPS work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s of GPS receiv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of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GPS recei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ing a GPS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ting GPS dat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maps</a:t>
            </a:r>
            <a:endParaRPr b="0" lang="en-US" sz="44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nect a GPS to the PDA by cabl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ew field map on a PDA; use it to navigate or to pinpoint locations using a stylus where a GPS fix cannot be obtained.</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wnload data to a computer and use mapping functions to make maps in Cybertracke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port database to MS Excel, ArcView or other mapping softwar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hat is Global Positioning System (GPS)?</a:t>
            </a:r>
            <a:endParaRPr b="0" lang="en-US" sz="40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s absolute location on Earth as coordinates from satellite sign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stem consists of: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24 satellites orbiting the Ea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a hand-held recei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ntrol station that monitors the satellites.</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PS uses the principle of triangulation to three or more satelli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s travel in a known orbit so their locations are kn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PS receiver measures the distance to the satellites “in view” by timing the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then calculates the posi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pic>
        <p:nvPicPr>
          <p:cNvPr id="103" name="Content Placeholder 4" descr="gpsystem.jpg"/>
          <p:cNvPicPr/>
          <p:nvPr/>
        </p:nvPicPr>
        <p:blipFill>
          <a:blip r:embed="rId1"/>
          <a:stretch/>
        </p:blipFill>
        <p:spPr>
          <a:xfrm>
            <a:off x="1182600" y="1739880"/>
            <a:ext cx="6437520" cy="401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GPS receiver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reational-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ping-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quality</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martphones: Assisted-GPS</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gets a faster fix</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can use weaker signals than most conventional G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ses device someone may already have</a:t>
            </a:r>
            <a:endParaRPr b="0" lang="en-US" sz="26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Dis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ust be in range of mobile phone network</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y incur charges for connection tim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built for rugged outdoor us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designed for mapping</a:t>
            </a:r>
            <a:endParaRPr b="0" lang="en-US" sz="2600" spc="-1" strike="noStrike">
              <a:solidFill>
                <a:srgbClr val="5f5f5f"/>
              </a:solidFill>
              <a:latin typeface="Arial"/>
            </a:endParaRPr>
          </a:p>
          <a:p>
            <a:pPr lvl="2" marL="39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actors in selecting a GPS receiv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nsitivity of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umber of channel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logging capac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nge of datum selection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output capabil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ternal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sk ang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proof and dur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ttery lif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ccuracy of GPS:</a:t>
            </a:r>
            <a:br>
              <a:rPr sz="4400"/>
            </a:br>
            <a:r>
              <a:rPr b="0" lang="en-US" sz="4400" spc="-1" strike="noStrike">
                <a:solidFill>
                  <a:srgbClr val="cc3300"/>
                </a:solidFill>
                <a:latin typeface="Arial"/>
              </a:rPr>
              <a:t>constant factors</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phemeris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eiver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mospheric disturbance to the sign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8:39:03Z</dcterms:created>
  <dc:creator>Alix Flavelle</dc:creator>
  <dc:description/>
  <cp:keywords>pgis training kit GPS</cp:keywords>
  <dc:language>en-US</dc:language>
  <cp:lastModifiedBy>martens</cp:lastModifiedBy>
  <dcterms:modified xsi:type="dcterms:W3CDTF">2009-09-09T09:22:10Z</dcterms:modified>
  <cp:revision>85</cp:revision>
  <dc:subject>M09 Scale Mapping and Surveying</dc:subject>
  <dc:title>Presentation - Mapping with G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