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22A3-9442-48BF-8949-17641449F8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C3D1-A40D-435F-B6B3-ED8B84E430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articipatory mapping project, there already will have been discussions about what type of information to map. Discuss with participants what kinds of thematic maps they could envision making in their community and brainstorm to make a list of specific legend items for each theme.  </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3D98-A189-4E35-B71A-18D08E19A6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 are made from scratch when there is no base map available. It is time-consuming to survey the “local grid” and enough thematic information. So maps from scratch are often made for a specific purpose. Compass surveys are normally drawn from scratch, by hand or by computer. They are usually made for a small area and specific purpose. GPS survey data are more often mapped on, or combined with, base map informa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tandard elements on all scale map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to include these optional notations depends on the purpose of the map and the design of the map series. </a:t>
            </a: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E6C8-8AC6-497C-AC71-FD8E6C965F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map, the source data are identified in brief.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arate documents the meta-data are recorded and stored. The meta-data tell us how the map was made and how to find the data that were used – if ever we wanted to recreate the map.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ification process will vary according to the design of the mapping project, its scope and the number of people or communities involved. It is important to start immediately while interest is high and the mapping is fresh in everyone’s mind. Allow ample time in a session to make sure that people understand the maps. Allow ample time to give feedback even if it means scheduling a few sessions over a few weeks. At the same time, be careful not to lose momentum and interest by allowing it to drag on too lo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and correction is an iterative process. The more thorough and participatory each step, the fewer iterations needed to get it to the point where the maps are validat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utline of the presentation.</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5B72-BAEA-4789-947C-22D1C4F894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00C07-B4BC-4923-9B12-D95C3681F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A1CA7-FE53-46BF-B341-F48D1A24A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C3607-8559-42D5-A7A4-402191C14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84F34-2901-4F4D-A6F3-1A1E275FE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5B116F2-D2C1-40FC-9234-0EAB896C4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06C323-CD1A-4EBF-868C-3855E9AFD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B887D0-9CCD-4323-95D7-4FCCB80A5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165AA8-42FE-4CAB-A24B-1C0CAE836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D6B772-93CA-4A74-B794-B332650CD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51CBD9F-5DFB-4E64-AA38-8A456EFDF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3D9682-830A-4F6F-AFD0-66DE29667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A51DD-0D09-41F5-A9D0-6995621D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AB090A-6D01-4746-A4E3-B7CBD04D7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489E19-D5BA-41D8-82A8-D92246C7E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A6AF2E-7F66-45A4-BFC5-048739AF0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DBED218-30F2-4046-9BDC-9666A9A4E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A1657D3-F018-4DF7-B914-2AA0A3954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06A47-01A8-4804-BE55-012A8FAB9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31CF8-4B34-42EE-A976-7D50AF157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C01E9-62C8-49C7-9CCC-62764CA81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72E37-E9A2-4288-9BEC-52C4202D9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819D7-31FC-4657-BD3B-559AD9EF6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DBFFA-67E8-45E3-8D44-336138763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4D615-0E75-4D49-8FBF-238D8B928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534E-466C-4763-B550-D6A82CD02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7585-541D-456B-A1F4-5AA2AA4FDE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and Producing </a:t>
            </a:r>
            <a:br>
              <a:rPr sz="4400"/>
            </a:br>
            <a:r>
              <a:rPr b="0" lang="en-US" sz="4400" spc="-1" strike="noStrike">
                <a:solidFill>
                  <a:srgbClr val="cc3300"/>
                </a:solidFill>
                <a:latin typeface="Arial"/>
              </a:rPr>
              <a:t>Scale Maps</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6</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igning thematic maps</a:t>
            </a: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n aspect of map desig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egorise - what information will be shown on each different “map lay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 the legend with:</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tems common to all lay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tems specific to each layer.</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uilding the map layers</a:t>
            </a:r>
            <a:endParaRPr b="0" lang="en-US" sz="4400" spc="-1" strike="noStrike">
              <a:solidFill>
                <a:srgbClr val="cc33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ace or digitise selected information from the rough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d data from field note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 first the information common to all the layer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g. rivers, boundaries, roads, settlement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tinue selecting and tracing community data to each thematic map in the serie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cale maps made from scratch</a:t>
            </a:r>
            <a:endParaRPr b="0" lang="en-US" sz="44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de from compass traverse or GPS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survey track is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advantag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ivers and roads, the “local grid”, must be surveyed to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ime-consuming to collect thematic information</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ecklist of essential </a:t>
            </a:r>
            <a:br>
              <a:rPr sz="4400"/>
            </a:br>
            <a:r>
              <a:rPr b="0" lang="en-US" sz="4400" spc="-1" strike="noStrike">
                <a:solidFill>
                  <a:srgbClr val="cc3300"/>
                </a:solidFill>
                <a:latin typeface="Arial"/>
              </a:rPr>
              <a:t>map elements</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tit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rth arro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ri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ge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cation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ptional notations</a:t>
            </a:r>
            <a:endParaRPr b="0" lang="en-US" sz="44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pyright statem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xplanatory no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series numb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gnatures of valida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cument source data on map</a:t>
            </a:r>
            <a:endParaRPr b="0" lang="en-US" sz="44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map refere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matic map refere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 information – when, wh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ource of thematic information – who provided the community information</a:t>
            </a:r>
            <a:endParaRPr b="0" lang="en-US" sz="32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ta-data documentation</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alogue and store original source data.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reate a meta-data document for:</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ordinate system and datum;</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gnetic declination;</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en sizes and templates for hand drafting;</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nts, colour codes, symbol code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ist of computer file name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ames of those involved in surveying, drawing and supplying map information.</a:t>
            </a:r>
            <a:endParaRPr b="0" lang="en-US" sz="28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Verification process</a:t>
            </a:r>
            <a:endParaRPr b="0" lang="en-US" sz="4400" spc="-1" strike="noStrike">
              <a:solidFill>
                <a:srgbClr val="cc33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members must have an opportunity to verify that the information they contributed was drawn correctl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 a single or series of community meeting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ith the community as a whole or with the knowledge secto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ffectively done in small grou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aking time to explain the maps in simple language. </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rrecting and updating maps</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 and ground-check corrections as needed.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draft maps as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rify again.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nd drafting or computer drafting map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process of drawing final maps</a:t>
            </a:r>
            <a:endParaRPr b="0" lang="en-US" sz="32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organising the survey and map data</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designing the thematic maps</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selecting and tracing from base maps</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making maps from scratch</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verification</a:t>
            </a:r>
            <a:endParaRPr b="0" lang="en-US" sz="26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lements on a map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ocumentation of source data</a:t>
            </a:r>
            <a:endParaRPr b="0" lang="en-US" sz="3200" spc="-1" strike="noStrike">
              <a:solidFill>
                <a:srgbClr val="5f5f5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hand drafting or                     computer drafting</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ource data</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compass and paper topographic maps are easily hand drafted</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GPS data and satellite imagery are easily put on computer</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sired process in the community</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is hand drafting more accessible and understandable?</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sired outcome</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look of the map</a:t>
            </a:r>
            <a:endParaRPr b="0" lang="en-US" sz="24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engths of hand-drafted map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re people can see and know how to handle the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ives a sense of ownershi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otentially more people can particip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ss training, less capital cos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sents a customised, hand-drawn feeling to the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Weaknesses of hand-drafted maps</a:t>
            </a:r>
            <a:endParaRPr b="0" lang="en-US" sz="40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ime-consuming to draft, redraft and upd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amounts of GPS data are slow to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production in colour is not always possi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nal map is only in paper format which is not durable; it can warp and fade</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engths of computer-drafted map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ast to produce (once the system is set up and the data are enter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amounts of GPS data are easy to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sily updated, corrected and redraft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sily produced and reproduced in colour and at different sc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re options in map desig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Weaknesses of computer-drafted maps</a:t>
            </a:r>
            <a:endParaRPr b="0" lang="en-US" sz="40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ople may lose grasp of where the data went (mitigated by a good verification process)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 as accessible for rural villager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ndency for maps to have a “cookie-cutter” look (a matter of skill in desig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igh cost in training and equipment</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ndency for computer technology to mask poor quality dat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process</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rganise the survey and map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 thematic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 and trace from bas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ternatively, draft maps from scratc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ft the final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rify the maps with the community.</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rganising the map data </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rganise and compile the survey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ot survey data manually or on comput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ile rough draft maps and field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ile thematic maps from other sources and adjust the scal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13:58:41Z</dcterms:created>
  <dc:creator>Alix Flavelle</dc:creator>
  <dc:description/>
  <cp:keywords>pgis training kit</cp:keywords>
  <dc:language>en-US</dc:language>
  <cp:lastModifiedBy>martens</cp:lastModifiedBy>
  <dcterms:modified xsi:type="dcterms:W3CDTF">2009-09-09T09:26:59Z</dcterms:modified>
  <cp:revision>88</cp:revision>
  <dc:subject>M09 - Scale Mapping and Surveying</dc:subject>
  <dc:title>Presentation - Drawing Scale Ma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