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862C-467E-48DE-B127-6843593DFF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for the presenter: Refer to the Handout for Trainee (M10U02) and other available handouts in this Unit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slide also refers back to the ethics of ma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262F-B835-4D0C-99AE-9A8AF11420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24F7-1668-474A-9DB2-19E483F8D5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ees will be looking at different types of community diversity in the exercise and hand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, tacit knowledge and ambiguity are things to look for in elicitation and may pose challenges and opportunities for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C807-CC9F-4B84-B2B4-11019E3269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90BF-50DE-4BE1-AE10-F3F3650C29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article, Through the Eyes of Hunter-Gatherers. It provides an example of how a matrix was used to capture complex information about areas on a model during elici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BB75-DC46-47F6-B134-02D1E996CB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ng ambiguity is important for legend making. Poor initial elicitation will cause confusion later. The interviewer needs to be sure s/he has understood the full meaning of a term before it is finalised on the leg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C2B2-7B2E-4057-BC94-B17C5907EB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opportunity to ask trainees what they consider to be diverse constituencies in their own communities or communities where they have wor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C428-46C0-4B96-8433-033B8F87F8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nyms: write names on labels and add these to the map, not to the leg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slide also refers back to the ethics of ma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4069-2F25-49A3-AE44-2F3401B21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589B-7A62-40E5-BEEC-E8189AA6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105F-FCD4-406F-B62E-B8781F28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9CC2-C57C-42B8-88C7-1A4568ECF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06B1A-2E44-4BA1-8FF0-7315D39E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4D1B0-4C67-46DD-9CE4-A4EF0F44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19D0F-E1EA-4722-950E-F2D31D2C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EE6F3-6BCB-438C-9D20-76582609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18319-9739-4700-B26E-B767ED9E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8A901-82F1-4D4D-934F-63996208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24010-99A3-4ABF-BD30-07E0A9B1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6225-FFD4-45A1-9BBF-78274405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A2DB4-F269-4FDC-8EB4-C26A1A89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0AAE5-B4B9-455F-8102-27CEC82D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FE411-04DB-4979-9009-E6703830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EC4AC-639B-4CC1-B942-06902D2B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D49D4-AFEB-490F-8DF5-9AAE3395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4265-376F-45FD-B2A3-78461B98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0215-3826-4F60-B33C-0F666A09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6CB3-28DF-4877-9828-53D4AAFD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3C3B-C536-4BFC-A315-2DA2835E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B5537-FA17-4073-80D6-B499697F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CA67-3F6C-432B-873E-90C4FEEF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F15A-024B-4748-B688-E9660B03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8958-E67D-4539-B372-85A9B59497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45CC-86A6-48FB-9E17-BF850C74E5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Preparation of the Map Legend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e key to good mapp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567960" y="50133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Nigel Craw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0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ultural sensitiv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lours and social norms vary among communi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hoose appropriate colours and co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spect social rules and norms while encouraging diverse particip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t is all about the legen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A map is silent without its legen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A legend is the foundation of intercultural dialogue in participatory mapp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The P3DM technique will surface “tacit” knowledge about cultural-natural landscapes – but the legend makes this available to othe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Eliciting legend item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Before you map, start building the legend with local knowledge holders and culture beare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Communities are diverse; those working on the legend need to represent that diversit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Local knowledge may be complex, tacit and/or ambiguou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acit knowled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Tacit knowledge refers to things that local people know about the landscape, ecosystem, biodiversity or cultural usage but about which they do not regularly talk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People may know the landscape by doing or observing; while mapping they may speak about this for the first tim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The facilitator can bring tacit knowledge to the surface by asking good questions and listening carefully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mplex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One word may hide complex information about the map or ecosystem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Good interview techniques help elicit what one complex term means; do not just translate from one language to anoth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For complex information, a matrix or other type of documentation can help capture the full meaning behind the legend item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duce ambigu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Ambiguity means that a word has more than one meaning – this may be confusing when mapp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Are you clear what the legend item means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See examples of ambiguities in the handou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Good interview techniques will reduce ambiguity and save you time lat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Biocultural divers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To have a good mapping process, include diverse knowledge holders and culture bearer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women, midwives, medicine specialis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elders, initiates, youth, hunters, tracke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religious leaders and practitione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shaman, diviners and heale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herders, bee-keepers, fishing peopl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Legend mak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5f5f5f"/>
                </a:solidFill>
                <a:latin typeface="Arial"/>
              </a:rPr>
              <a:t>All legend items need to be sorted in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are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lin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poin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5f5f5f"/>
                </a:solidFill>
                <a:latin typeface="Arial"/>
              </a:rPr>
              <a:t>toponym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8" name="Picture 7" descr="legendlightOgiek06"/>
          <p:cNvPicPr/>
          <p:nvPr/>
        </p:nvPicPr>
        <p:blipFill>
          <a:blip r:embed="rId1"/>
          <a:stretch/>
        </p:blipFill>
        <p:spPr>
          <a:xfrm>
            <a:off x="4284720" y="2205000"/>
            <a:ext cx="4357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ultural sensitiv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ome information should not go on a map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ensitive information about endangered speci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acred sites or taboo are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aluable resourc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0:36:23Z</dcterms:created>
  <dc:creator>Nigel Crawhall</dc:creator>
  <dc:description/>
  <cp:keywords>pgis training kit</cp:keywords>
  <dc:language>en-US</dc:language>
  <cp:lastModifiedBy>Giacomo Rambaldi</cp:lastModifiedBy>
  <dcterms:modified xsi:type="dcterms:W3CDTF">2010-03-09T09:22:27Z</dcterms:modified>
  <cp:revision>35</cp:revision>
  <dc:subject/>
  <dc:title>Presentation - Preparation of the Map Legend: The key to good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