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B3B-F65A-44AB-8975-E23FBC2F87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for the present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fer to the M07U02 Handout for Trainee and to recommended readings for more information on this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80F0-F477-4770-BAEE-DFDC43EC2C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D87-DC43-44B3-8EF0-A9C3ED13E3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0B1-C120-438F-B39B-DEEB07C74E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369-AE97-4A38-B059-A03B1FD595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el is tilted and its base is placed perpendicularly to the floor (right imag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s are marked on the floor at designated intervals to guide the placement of the camera and the shooti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E58-F8AB-43E5-AFB3-8400924F5F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taken in sequence (parallel camera movement) include overlapping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B2F9-CAD2-4071-8E0C-C412F940BD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1D3-C2D4-4170-A6BA-B392A05F91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re some examples of images captured from 3D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5C02-8DE6-4539-8B9C-387CDDBB9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4AF0-1A2C-40DD-B9F7-F4C4260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7A64-0076-4FEC-BED1-4B891207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A338-793C-416F-B9EA-E0890EBA7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B26B5-185B-4E82-A803-9B69D91C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B6B73-E225-478E-B273-72D7E74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D8F32-5452-4DDB-BB52-23411D8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B257D-CC3E-4483-B839-15036F93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A75E3-7AA9-49D6-B37F-D4AF3BE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7D641-F522-4F92-9CB2-4AE720B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2E0DA-EC4D-48E3-8B98-9E370336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5FAA-608D-4F42-8048-F0B76146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B89EB-56CE-4433-ABB1-B07C5C0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4173-21AA-429E-8FBC-63C7537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6C538-B8B0-4EC8-ADCD-1C106A6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7BDF-79A5-41B1-913C-3E89B3A2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9F83-DD96-439D-92F9-841D5ADC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94F2-03C4-4F69-97BD-A44138CC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8D24-F793-4124-98C2-29FF819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5875-CF58-450E-A588-DBB7EC8A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4DDB-C1F4-4B53-99FE-2B8CF470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BB5E-A012-4B59-BE60-FA92273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BDC9-EC3E-48B6-8C36-B56DED8D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454D-69C7-4808-9C65-D2C3F31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267B-551A-48DB-91D6-E6F0F8DD03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5F5D-0D06-4C45-91D5-20AEC001C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Data Capture Using Digit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72600" y="521028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Giacomo Rambaldi and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0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Flow of the presen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quipment neede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eparing the model for data extra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apturing data using digital photograph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Equipment needed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gh resolution digital single lens reflex (SLR) camer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p quality  lens with adjustable zoom and manual zoom and focus op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ripo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lumb lin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loured yar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ails / push pi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Preparing the model for data extrac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lace a grid on the 3D mod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8" name="Picture 5" descr="http://www.iapad.org/images/pic_110_pumat_model+grid_0.jpg"/>
          <p:cNvPicPr/>
          <p:nvPr/>
        </p:nvPicPr>
        <p:blipFill>
          <a:blip r:embed="rId1"/>
          <a:stretch/>
        </p:blipFill>
        <p:spPr>
          <a:xfrm>
            <a:off x="3495600" y="2173320"/>
            <a:ext cx="478332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TextBox 4"/>
          <p:cNvSpPr/>
          <p:nvPr/>
        </p:nvSpPr>
        <p:spPr>
          <a:xfrm>
            <a:off x="3495600" y="6119640"/>
            <a:ext cx="48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age courtesy Giacomo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Preparing the model for data extrac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4992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ilt the mod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epare the shooting environme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2" name="Picture 6" descr="IMG_5217a"/>
          <p:cNvPicPr/>
          <p:nvPr/>
        </p:nvPicPr>
        <p:blipFill>
          <a:blip r:embed="rId1"/>
          <a:stretch/>
        </p:blipFill>
        <p:spPr>
          <a:xfrm>
            <a:off x="4930920" y="1581120"/>
            <a:ext cx="3394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7" descr="IMG_5218"/>
          <p:cNvPicPr/>
          <p:nvPr/>
        </p:nvPicPr>
        <p:blipFill>
          <a:blip r:embed="rId2"/>
          <a:stretch/>
        </p:blipFill>
        <p:spPr>
          <a:xfrm>
            <a:off x="804960" y="3249720"/>
            <a:ext cx="3779640" cy="28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5"/>
          <p:cNvSpPr/>
          <p:nvPr/>
        </p:nvSpPr>
        <p:spPr>
          <a:xfrm>
            <a:off x="2655720" y="629928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ages courtesy Giacomo Rambaldi/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7" descr="107-0790_IMG_2"/>
          <p:cNvPicPr/>
          <p:nvPr/>
        </p:nvPicPr>
        <p:blipFill>
          <a:blip r:embed="rId1"/>
          <a:stretch/>
        </p:blipFill>
        <p:spPr>
          <a:xfrm>
            <a:off x="4572000" y="16351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Data captu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rallel camera moveme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31640" y="3068640"/>
            <a:ext cx="4500720" cy="32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1332000" y="3789360"/>
            <a:ext cx="0" cy="71928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4390920" y="3429000"/>
            <a:ext cx="0" cy="215892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332000" y="37879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1332000" y="4508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1332000" y="52261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319040" y="5829480"/>
            <a:ext cx="3059280" cy="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 rot="16200000">
            <a:off x="-235080" y="419580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the Digital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 rot="5400000">
            <a:off x="4056480" y="441864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1973160" y="5640480"/>
            <a:ext cx="1800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m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4"/>
          <p:cNvSpPr/>
          <p:nvPr/>
        </p:nvSpPr>
        <p:spPr>
          <a:xfrm>
            <a:off x="1332000" y="4508640"/>
            <a:ext cx="0" cy="7189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5110200" y="4863960"/>
            <a:ext cx="35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age courtesy G. Rambaldi/ARC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equence of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1" name="Content Placeholder 8" descr="shot-sequence.jpg"/>
          <p:cNvPicPr/>
          <p:nvPr/>
        </p:nvPicPr>
        <p:blipFill>
          <a:blip r:embed="rId1"/>
          <a:stretch/>
        </p:blipFill>
        <p:spPr>
          <a:xfrm>
            <a:off x="446040" y="1635120"/>
            <a:ext cx="8229600" cy="2309760"/>
          </a:xfrm>
          <a:prstGeom prst="rect">
            <a:avLst/>
          </a:prstGeom>
          <a:ln w="0">
            <a:noFill/>
          </a:ln>
        </p:spPr>
      </p:pic>
      <p:sp>
        <p:nvSpPr>
          <p:cNvPr id="122" name="Right Triangle 15"/>
          <p:cNvSpPr/>
          <p:nvPr/>
        </p:nvSpPr>
        <p:spPr>
          <a:xfrm rot="18847800">
            <a:off x="5037120" y="375588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Triangle 16"/>
          <p:cNvSpPr/>
          <p:nvPr/>
        </p:nvSpPr>
        <p:spPr>
          <a:xfrm rot="18847800">
            <a:off x="708948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Triangle 17"/>
          <p:cNvSpPr/>
          <p:nvPr/>
        </p:nvSpPr>
        <p:spPr>
          <a:xfrm rot="18847800">
            <a:off x="954000" y="374004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Triangle 18"/>
          <p:cNvSpPr/>
          <p:nvPr/>
        </p:nvSpPr>
        <p:spPr>
          <a:xfrm rot="18847800">
            <a:off x="2993760" y="3744720"/>
            <a:ext cx="1123920" cy="1158840"/>
          </a:xfrm>
          <a:prstGeom prst="rtTriangle">
            <a:avLst/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19"/>
          <p:cNvSpPr/>
          <p:nvPr/>
        </p:nvSpPr>
        <p:spPr>
          <a:xfrm>
            <a:off x="15224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20"/>
          <p:cNvSpPr/>
          <p:nvPr/>
        </p:nvSpPr>
        <p:spPr>
          <a:xfrm>
            <a:off x="3606840" y="5237280"/>
            <a:ext cx="1973160" cy="10746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ight Arrow 21"/>
          <p:cNvSpPr/>
          <p:nvPr/>
        </p:nvSpPr>
        <p:spPr>
          <a:xfrm>
            <a:off x="5730840" y="5214960"/>
            <a:ext cx="1973160" cy="1096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ample of extracted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0" name="Picture 8" descr="IMG_519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1" name="Picture 9" descr="IMG_518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2" name="Picture 10" descr="107-0787_IMG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pic>
        <p:nvPicPr>
          <p:cNvPr id="133" name="Picture 11" descr="IMG_52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19080">
            <a:solidFill>
              <a:srgbClr val="7f7f7f"/>
            </a:solidFill>
            <a:miter/>
          </a:ln>
        </p:spPr>
      </p:pic>
      <p:sp>
        <p:nvSpPr>
          <p:cNvPr id="134" name="TextBox 6"/>
          <p:cNvSpPr/>
          <p:nvPr/>
        </p:nvSpPr>
        <p:spPr>
          <a:xfrm>
            <a:off x="2655720" y="6299280"/>
            <a:ext cx="39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f7f7f"/>
                </a:solidFill>
                <a:latin typeface="Arial"/>
              </a:rPr>
              <a:t>Images courtesy Giacomo Rambal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03:13Z</dcterms:created>
  <dc:creator>Giacomo Rambaldi</dc:creator>
  <dc:description/>
  <cp:keywords>pgis training kit</cp:keywords>
  <dc:language>en-US</dc:language>
  <cp:lastModifiedBy>Giacomo Rambaldi</cp:lastModifiedBy>
  <dcterms:modified xsi:type="dcterms:W3CDTF">2010-03-09T09:20:21Z</dcterms:modified>
  <cp:revision>20</cp:revision>
  <dc:subject/>
  <dc:title>Presentation 1 - Data Capture via Digital Photograph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