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72518-0E0D-49A3-BC1D-0A31D932BE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5EBFF-BDB4-4567-84E0-95F76370E9D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7B60E-D99C-4DC4-A8E5-F273DC7C398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ule is composed of four Uni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729A4-4B81-4C25-926A-EEACD0561A8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Unit 3, we have prepared a small 3D model which we will use to replicate a real world situation. The blank model has been assembled ahead of the exerc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t 4 is about extracting data from a 3D model and minimising errors. The methods we will use are suitable for replication in difficult conditions like remote areas. Essentially we are going to look at how to capture data via high resolution digital photography and how to geo-reference the resulting images for on-screen digiti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C219A-E278-4E35-9B59-85A1E9B9E65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the completion of the Module, you will be in the position to describe the method and plan an exercise. If all works well, you may also be in the position to co-facilitate such an exercise. To become really conversant with the method, you have to spend at least ten days in the field with experienced practitioners facilitating a real ca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5DA088-F9C2-41CF-9F3E-FAB629602E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1F924-B8DF-4510-81FD-440415594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FF872F-66CF-4D98-8628-B77B7993C7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8D81EE-B440-42EA-9A3E-7ADF14FF34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3C80318-2277-4EA3-A986-661871E29A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3FFFC45-69CB-4D18-A581-6596DA2EC6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2C6C624-31C7-4FD9-BDDC-56C75D4E4E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1E6E8CB-E423-4B22-B4E2-9AE20EB300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19A49D1-5BFB-425B-98FF-1C1A88D137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17D884D-342D-4841-99F4-E676DE387F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3E3AD32-BDFD-4FF3-8806-FE3E0B1A2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080E3-EF80-40B8-9194-47F94E85F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60D63B0-C5AD-442A-A687-020F91B84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1D12D24-3235-4CE7-8B90-34F8B13393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1C250D5-FFD2-4E31-A853-BCA864D93A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03866E2-AE54-401E-8139-85A05274FD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D7F8075-DB7D-437A-92E3-71ECD13BE1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CA469-90A2-4F50-B2C9-6A439F790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15E4A-BB92-4DF9-859C-376A07EAC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F28E4-1C9E-4EDE-B6DF-6DFCFB8FB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F6D2C-CA68-48A4-84D7-A958EA989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35DF9-4780-4A75-8833-9F731302D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C5C9B-3717-4299-A7E4-F09F5A1B6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E5A66-12F3-45B3-95A8-CD8C2A06E4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966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9660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7A7D0-743B-4153-A270-A216DB2B755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pic>
        <p:nvPicPr>
          <p:cNvPr id="42" name="Picture 10" descr="cc_license_by-nc-sa">
            <a:hlinkClick r:id="rId2"/>
          </p:cNvPr>
          <p:cNvPicPr/>
          <p:nvPr/>
        </p:nvPicPr>
        <p:blipFill>
          <a:blip r:embed="rId3"/>
          <a:stretch/>
        </p:blipFill>
        <p:spPr>
          <a:xfrm>
            <a:off x="4145040" y="6381720"/>
            <a:ext cx="838080" cy="2952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46362-B7A0-460B-9339-8E8AFF789AE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odule M10:</a:t>
            </a:r>
            <a:br>
              <a:rPr sz="4400"/>
            </a:br>
            <a:r>
              <a:rPr b="0" lang="en-US" sz="4400" spc="-1" strike="noStrike">
                <a:solidFill>
                  <a:srgbClr val="cc3300"/>
                </a:solidFill>
                <a:latin typeface="Arial"/>
              </a:rPr>
              <a:t>Participatory 3D Modelling</a:t>
            </a:r>
            <a:endParaRPr b="0" lang="en-US" sz="4400" spc="-1" strike="noStrike">
              <a:solidFill>
                <a:srgbClr val="cc3300"/>
              </a:solidFill>
              <a:latin typeface="Arial"/>
            </a:endParaRPr>
          </a:p>
        </p:txBody>
      </p:sp>
      <p:sp>
        <p:nvSpPr>
          <p:cNvPr id="92"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n introduction</a:t>
            </a:r>
            <a:endParaRPr b="0" lang="en-US" sz="3200" spc="-1" strike="noStrike">
              <a:solidFill>
                <a:srgbClr val="5f5f5f"/>
              </a:solidFill>
              <a:latin typeface="Arial"/>
            </a:endParaRPr>
          </a:p>
        </p:txBody>
      </p:sp>
      <p:sp>
        <p:nvSpPr>
          <p:cNvPr id="93" name="Rectangle 4"/>
          <p:cNvSpPr/>
          <p:nvPr/>
        </p:nvSpPr>
        <p:spPr>
          <a:xfrm>
            <a:off x="3229920" y="514368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69696"/>
                </a:solidFill>
                <a:latin typeface="Arial"/>
              </a:rPr>
              <a:t>By: Giacomo Rambaldi</a:t>
            </a:r>
            <a:endParaRPr b="0" lang="en-US" sz="1800" spc="-1" strike="noStrike">
              <a:solidFill>
                <a:srgbClr val="000000"/>
              </a:solidFill>
              <a:latin typeface="Arial"/>
            </a:endParaRPr>
          </a:p>
        </p:txBody>
      </p:sp>
      <p:sp>
        <p:nvSpPr>
          <p:cNvPr id="94"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Module: M10</a:t>
            </a:r>
            <a:endParaRPr b="0" lang="en-US" sz="1800" spc="-1" strike="noStrike">
              <a:solidFill>
                <a:srgbClr val="000000"/>
              </a:solidFill>
              <a:latin typeface="Arial"/>
            </a:endParaRPr>
          </a:p>
        </p:txBody>
      </p:sp>
      <p:pic>
        <p:nvPicPr>
          <p:cNvPr id="95" name="Picture 6" descr="cc_license_by-nc-sa">
            <a:hlinkClick r:id="rId1"/>
          </p:cNvPr>
          <p:cNvPicPr/>
          <p:nvPr/>
        </p:nvPicPr>
        <p:blipFill>
          <a:blip r:embed="rId2"/>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About this Module</a:t>
            </a:r>
            <a:endParaRPr b="0" lang="en-US" sz="4400" spc="-1" strike="noStrike">
              <a:solidFill>
                <a:srgbClr val="cc3300"/>
              </a:solidFill>
              <a:latin typeface="Arial"/>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First Unit: Introduction to Participatory 3D Modelling</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About Participatory 3D Modelling (P3DM)</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Video on P3DM (20 mi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Preparation for a P3DM exercise </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Second Unit: The map legend</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Exercises and reflection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About this Module</a:t>
            </a:r>
            <a:endParaRPr b="0" lang="en-US" sz="4400" spc="-1" strike="noStrike">
              <a:solidFill>
                <a:srgbClr val="cc3300"/>
              </a:solidFill>
              <a:latin typeface="Arial"/>
            </a:endParaRPr>
          </a:p>
        </p:txBody>
      </p:sp>
      <p:sp>
        <p:nvSpPr>
          <p:cNvPr id="99" name=""/>
          <p:cNvSpPr txBox="1"/>
          <p:nvPr/>
        </p:nvSpPr>
        <p:spPr>
          <a:xfrm>
            <a:off x="428760" y="157176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Third Unit: Hands-on P3DM exercise</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Working on a real 3D model plus a number of related exercises</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Fourth Unit: Capturing data from a 3D model and geo-referencing them</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odule’s learning objective</a:t>
            </a:r>
            <a:endParaRPr b="0" lang="en-US" sz="4400" spc="-1" strike="noStrike">
              <a:solidFill>
                <a:srgbClr val="cc3300"/>
              </a:solidFill>
              <a:latin typeface="Arial"/>
            </a:endParaRPr>
          </a:p>
        </p:txBody>
      </p:sp>
      <p:sp>
        <p:nvSpPr>
          <p:cNvPr id="101" name=""/>
          <p:cNvSpPr txBox="1"/>
          <p:nvPr/>
        </p:nvSpPr>
        <p:spPr>
          <a:xfrm>
            <a:off x="428760" y="157176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After completion of the Module, you will be in the position to describe the P3DM method and plan an exercise.</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5T04:42:50Z</dcterms:created>
  <dc:creator>Giacomo Rambaldi</dc:creator>
  <dc:description/>
  <dc:language>en-US</dc:language>
  <cp:lastModifiedBy>Giacomo Rambaldi</cp:lastModifiedBy>
  <dcterms:modified xsi:type="dcterms:W3CDTF">2010-03-08T13:39:05Z</dcterms:modified>
  <cp:revision>17</cp:revision>
  <dc:subject/>
  <dc:title>PPT No. 1 - Introduction to Module M1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mments">
    <vt:lpwstr>Copy this file and use it to prepare "PowerPoint presentations"</vt:lpwstr>
  </property>
  <property fmtid="{D5CDD505-2E9C-101B-9397-08002B2CF9AE}" pid="6" name="ContentType">
    <vt:lpwstr>Presentation</vt:lpwstr>
  </property>
  <property fmtid="{D5CDD505-2E9C-101B-9397-08002B2CF9AE}" pid="7" name="ContentTypeId">
    <vt:lpwstr>0x010100524DE4F4C995CC49A2E3EBF903E298A700444F003324912E469596FEA97841A527</vt:lpwstr>
  </property>
  <property fmtid="{D5CDD505-2E9C-101B-9397-08002B2CF9AE}" pid="8" name="Keywords">
    <vt:lpwstr/>
  </property>
  <property fmtid="{D5CDD505-2E9C-101B-9397-08002B2CF9AE}" pid="9" name="Order">
    <vt:lpwstr>400.000000000000</vt:lpwstr>
  </property>
  <property fmtid="{D5CDD505-2E9C-101B-9397-08002B2CF9AE}" pid="10" name="ShowRepairView">
    <vt:lpwstr/>
  </property>
  <property fmtid="{D5CDD505-2E9C-101B-9397-08002B2CF9AE}" pid="11" name="Slides">
    <vt:lpwstr>2</vt:lpwstr>
  </property>
  <property fmtid="{D5CDD505-2E9C-101B-9397-08002B2CF9AE}" pid="12" name="Subject">
    <vt:lpwstr/>
  </property>
  <property fmtid="{D5CDD505-2E9C-101B-9397-08002B2CF9AE}" pid="13" name="TemplateUrl">
    <vt:lpwstr>http://team.cta.int/pgis-tk/Templates/Forms/template.xml</vt:lpwstr>
  </property>
  <property fmtid="{D5CDD505-2E9C-101B-9397-08002B2CF9AE}" pid="14" name="_Author">
    <vt:lpwstr>Giacomo Rambaldi</vt:lpwstr>
  </property>
  <property fmtid="{D5CDD505-2E9C-101B-9397-08002B2CF9AE}" pid="15" name="_Category">
    <vt:lpwstr>Presentation </vt:lpwstr>
  </property>
  <property fmtid="{D5CDD505-2E9C-101B-9397-08002B2CF9AE}" pid="16" name="_Comments">
    <vt:lpwstr/>
  </property>
  <property fmtid="{D5CDD505-2E9C-101B-9397-08002B2CF9AE}" pid="17" name="_SourceUrl">
    <vt:lpwstr/>
  </property>
  <property fmtid="{D5CDD505-2E9C-101B-9397-08002B2CF9AE}" pid="18" name="xd_ProgID">
    <vt:lpwstr/>
  </property>
</Properties>
</file>