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B485-9434-46CC-92F4-5B79A7659C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0D20-E9F5-4379-B37C-E64342947E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D823-8272-4BBF-A9A9-F5574AB7CC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is composed of four Uni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3ED9-EAC2-4B48-B919-E475F16FCB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Unit 3, we have prepared a small 3D model which we will use to replicate a real world situation. The blank model has been assembled ahead of th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 4 is about extracting data from a 3D model and minimising errors. The methods we will use are suitable for replication in difficult conditions like remote areas. Essentially we are going to look at how to capture data via high resolution digital photography and how to geo-reference the resulting images for on-screen digi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85B8-ABA2-4BD7-87DA-9B2288F574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completion of the Module, you will be in the position to describe the method and plan an exercise. If all works well, you may also be in the position to co-facilitate such an exercise. To become really conversant with the method, you have to spend at least ten days in the field with experienced practitioners facilitating a real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04A99-EBA9-4D0C-96DB-0C2820F0A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57C90-2164-4A88-8FDD-0C00CBAF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EC38D-D055-4296-8032-02CC632EA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C2E2-FFC5-4A76-9B87-2F5F0C34C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D791EE-D93D-4B10-A8F3-9B78F7A99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EE6A8B-F8DE-4993-A519-BA6071BF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1C8EE9-40E3-4945-BD2D-DC5E01441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B0F29A-E055-4088-971F-E85393538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A43428-E8AA-4DF6-8885-4F61100B1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DCE7A8-5F64-4BE1-ABA0-54D495A9C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7D8178-2F94-426C-A124-2EA06EAC9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EE82B-40D7-427E-A5B1-ACEA0DDE9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9CEE50-E928-41C1-A0CD-2FB28D1C5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21CFBA-3B7C-4FBD-9C6E-86650A091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9445E5-65D7-450C-BFE3-6220B759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5CB8CC2-FB7D-45F6-8B87-3A504DC18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8D0EF5-D9F2-4D46-8B8B-0816C0479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0603-16C2-40A9-91E1-147495AAD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E3317-0E01-473D-8B31-A81E8B749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A8F35-EFAD-41D3-B609-C3567691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CF5F-F959-4415-A50B-89B1FF7E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962F-811A-43F8-9F44-5851CCB6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4405-B51C-4831-9FC5-2B3D2DC5C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B439-7202-4184-A3F4-88A4245D5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4195-7348-48FA-A559-9D9997B2A7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32BC-86D4-4F9A-ACAA-16A2841562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 M10:</a:t>
            </a:r>
            <a:br>
              <a:rPr sz="4400"/>
            </a:b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n introduction</a:t>
            </a:r>
            <a:endParaRPr b="0" lang="en-US" sz="3200" spc="-1" strike="noStrike">
              <a:solidFill>
                <a:srgbClr val="5f5f5f"/>
              </a:solidFill>
              <a:latin typeface="Arial"/>
            </a:endParaRPr>
          </a:p>
        </p:txBody>
      </p:sp>
      <p:sp>
        <p:nvSpPr>
          <p:cNvPr id="93"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Module: M10</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irst Unit: Introduction to Participatory 3D Modell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ut Participatory 3D Modelling (P3DM)</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Video on P3DM (20 m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paration for a P3DM exercise </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econd Unit: The map legen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xercises and reflec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9"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rd Unit: Hands-on P3DM exercis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orking on a real 3D model plus a number of related exercis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urth Unit: Capturing data from a 3D model and geo-referencing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s learning objective</a:t>
            </a:r>
            <a:endParaRPr b="0" lang="en-US" sz="4400" spc="-1" strike="noStrike">
              <a:solidFill>
                <a:srgbClr val="cc3300"/>
              </a:solidFill>
              <a:latin typeface="Arial"/>
            </a:endParaRPr>
          </a:p>
        </p:txBody>
      </p:sp>
      <p:sp>
        <p:nvSpPr>
          <p:cNvPr id="101"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fter completion of the Module, you will be in the position to describe the P3DM method and plan an exercis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Giacomo Rambaldi</cp:lastModifiedBy>
  <dcterms:modified xsi:type="dcterms:W3CDTF">2010-03-08T13:39:05Z</dcterms:modified>
  <cp:revision>17</cp:revision>
  <dc:subject/>
  <dc:title>PPT No. 1 - Introduction to Module M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