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52E0-61EC-49A0-AE3E-A1CCF89719B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for the presenter: Refer to the Handout for Trainee (M10U02) and other available handouts in this Unit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slide also refers back to the ethics of map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59C3-AE56-42C8-8DC4-506E30D3D24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D9E7-D53C-4BD6-A88A-BF8FB61200F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ees will be looking at different types of community diversity in the exercise and hand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, tacit knowledge and ambiguity are things to look for in elicitation and may pose challenges and opportunities for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2E9D-C042-433B-8562-5821D741BD7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1C0F-1AD5-4F77-9C32-17673BF14C5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article, Through the Eyes of Hunter-Gatherers. It provides an example of how a matrix was used to capture complex information about areas on a model during elici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CAB0-0B9B-4AFF-AA29-8042DFC22ED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ng ambiguity is important for legend making. Poor initial elicitation will cause confusion later. The interviewer needs to be sure s/he has understood the full meaning of a term before it is finalised on the leg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C82B-00B0-4F2D-8827-647AAC5E4A6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opportunity to ask trainees what they consider to be diverse constituencies in their own communities or communities where they have work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33BF-FE57-4F18-808D-4B70E1EE548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nyms: write names on labels and add these to the map, not to the leg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slide also refers back to the ethics of map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85F44-FE31-4888-869F-7B5344E8ED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5BCA5-57B3-415D-9254-8B8CF610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298C8-B3A6-46DF-AE81-609B280D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95F5F-83A8-49C4-A2E3-1BFE2EE9DB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97618-C9D7-4EC9-BCC8-0C9B52C6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E8267-8C42-429F-A233-668E413D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AE7FA-AE6C-4559-8883-E7681984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90DAF-3FB4-4DE6-8F8F-63198F38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A12A4-FCD6-4287-92B7-64CDE979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A587F-CA19-4515-A2EB-00B784B3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DD2DC-8770-4856-A6A6-DD82607C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D2614-D481-4D00-9B02-CD563608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34486-14D3-4C08-8CAB-77E98BC4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F29C6-482D-4F67-94EA-60B32B82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C2FA1-121F-43D8-A01C-8775E96D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4A9EF-FA2E-44B4-A29F-DE7EAA44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C40D6-5B7C-449F-9042-2FE00A42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AB582-0E02-4B28-B037-53BB9F83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8ADB0-5FBA-40FB-88DA-1F0127CB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2F9C1-B1D1-4E76-8F2B-849EEE0A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6959-6481-4C76-94ED-5EE0115D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A071-EF88-4C62-92F4-D5651CD9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A08BC-ADBA-42C6-8E23-90F00E31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30A61-5171-4A8C-B569-D804A502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B2A0-D977-4024-A4F8-78ED92B137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EA2C-8023-4EDE-BFB8-A37A6654AE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Preparation of the Map Legend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e key to good mapp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567960" y="501336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Nigel Craw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10U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Cultural sensitivit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lours and social norms vary among communiti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hoose appropriate colours and cod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espect social rules and norms while encouraging diverse particip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t is all about the legend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A map is silent without its legen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A legend is the foundation of intercultural dialogue in participatory mapp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The P3DM technique will surface “tacit” knowledge about cultural-natural landscapes – but the legend makes this available to othe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Eliciting legend item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Before you map, start building the legend with local knowledge holders and culture beare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Communities are diverse; those working on the legend need to represent that diversit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Local knowledge may be complex, tacit and/or ambiguou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acit knowledg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Tacit knowledge refers to things that local people know about the landscape, ecosystem, biodiversity or cultural usage but about which they do not regularly talk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People may know the landscape by doing or observing; while mapping they may speak about this for the first tim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The facilitator can bring tacit knowledge to the surface by asking good questions and listening carefully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mplexit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One word may hide complex information about the map or ecosystem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Good interview techniques help elicit what one complex term means; do not just translate from one language to anothe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For complex information, a matrix or other type of documentation can help capture the full meaning behind the legend item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duce ambiguit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Ambiguity means that a word has more than one meaning – this may be confusing when mapping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Are you clear what the legend item means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See examples of ambiguities in the handou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Good interview techniques will reduce ambiguity and save you time late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Biocultural diversit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To have a good mapping process, include diverse knowledge holders and culture bearer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women, midwives, medicine specialist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elders, initiates, youth, hunters, tracke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religious leaders and practitione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shaman, diviners and heale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herders, bee-keepers, fishing peopl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Legend mak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All legend items need to be sorted into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area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lin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point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toponym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8" name="Picture 7" descr="legendlightOgiek06"/>
          <p:cNvPicPr/>
          <p:nvPr/>
        </p:nvPicPr>
        <p:blipFill>
          <a:blip r:embed="rId1"/>
          <a:stretch/>
        </p:blipFill>
        <p:spPr>
          <a:xfrm>
            <a:off x="4284720" y="2205000"/>
            <a:ext cx="43578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Cultural sensitivit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ome information should not go on a map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ensitive information about endangered speci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acred sites or taboo area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valuable resourc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0:36:23Z</dcterms:created>
  <dc:creator>Nigel Crawhall</dc:creator>
  <dc:description/>
  <cp:keywords>pgis training kit</cp:keywords>
  <dc:language>en-US</dc:language>
  <cp:lastModifiedBy>Giacomo Rambaldi</cp:lastModifiedBy>
  <dcterms:modified xsi:type="dcterms:W3CDTF">2010-03-09T09:22:27Z</dcterms:modified>
  <cp:revision>35</cp:revision>
  <dc:subject/>
  <dc:title>Presentation - Preparation of the Map Legend: The key to good mapp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