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7849-BD79-4836-831B-0D3679C5DC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906A-8159-4819-8068-22D5674C91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 for the presen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Please study the Handout for Trainee of Unit M11U01 before using this present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A95B-6B9A-42BF-A07F-286BA9A6CA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02D3-1123-4124-A609-229073028A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77BD-3225-4689-BFBD-9190E4AE07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97CB-136C-42F7-899A-F350B1A4B3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7BE8-E037-4295-8FAB-14170F58E3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ED74-BD5B-47AB-B006-D291DB4D39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272C-095F-4132-A5F7-F6D790983A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B39D-07D5-4843-8DE4-A23B003E6F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1022-283B-49F6-AAF3-0E38D3B7F7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0950-9F53-4D38-A43E-DEE6EB210E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is is a list of popular sensors. An elaborate description of these sensors is available in the Handout for Traine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7D27-081E-4158-97FF-49698AFDFA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5A6B-A981-47C5-A584-6F2D0B30A2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2E81-1795-4C0C-AF94-A24698FF1C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7EFC-FADD-4273-9581-62AE74B76A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75F7-5353-46F6-9702-0BF44577BB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3CAB-3A31-4163-8132-1D2FC9E4CE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3335-968D-4252-B59F-002169C646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4649-E621-42FF-97D7-64099E9416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497E6-C28E-4175-85A1-556493F065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DE670-167B-41EF-87EE-BF5940D0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62E7A-D61B-4D4D-973E-A2037A28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7E6A5-4E35-49C2-9F8B-7CEE051A99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19AB0-E828-44CA-88AA-CF9516AB8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EE2510-4C6A-4527-BCE1-1C72101A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396E5-4F0C-4BDD-A323-C24379BC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B51E21-1FC1-4A80-9B44-96B39666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53DD53-3929-475E-A136-107D0524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D5815-D61D-44BE-AEC8-F72BE0DF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B0E8D-D578-43AF-8541-591F7B28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8B79B-2929-47DF-B657-B314CD14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645A7-264E-44A5-A879-CACB2CBE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748795-C223-4095-A8B3-9842B6D8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EF4FD0-8BAC-4C95-B9EF-D85A6F2A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954AE-0866-4E55-B019-0BD83F361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7211A3-23D0-48A4-A196-EF3A40DD7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F75B4-0238-4CA6-99EB-0F501ADF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51ED1-E52F-44AE-B2BD-E8452897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EC2DB-FA13-4AA0-AA7D-809AEE139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4446C-221B-4EC2-95E8-BAF6E847F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B273E-91C7-492D-85B4-C1361C72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95589-9CD1-486C-8897-D5F2CF53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26912-77E5-4172-9E99-32BA715A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creativecommons.org/licenses/by-nc-sa/3.0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CD8D-B982-404D-BA7A-FFAE25809C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66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c_license_by-nc-s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DB5A-50BA-4AE2-9F94-988EC3C884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</a:rPr>
              <a:t>Introduction to </a:t>
            </a:r>
            <a:br>
              <a:rPr sz="4400"/>
            </a:br>
            <a:r>
              <a:rPr b="1" lang="en-GB" sz="4400" spc="-1" strike="noStrike">
                <a:solidFill>
                  <a:srgbClr val="cc3300"/>
                </a:solidFill>
                <a:latin typeface="Arial"/>
              </a:rPr>
              <a:t>Remote Sensing Imag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430440" y="514368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By: J.Verplanke, I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it: M11U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cc_license_by-nc-s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Aerial photography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In most mapping applications, vertical aerial photographs are require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Oblique photographs are obtained when the axis of the camera is not vertical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Oblique photographs are rarely used for mapping purpos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Electromagnetic energy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371628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Remote sensing is based on detecting electromagnetic (EM) energy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Since the speed of light is constant, wavelength and frequency are inversely related to each other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17" name="Picture 4" descr="fig2-3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Visible spectrum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95959"/>
                </a:solidFill>
                <a:latin typeface="Arial"/>
              </a:rPr>
              <a:t>Visible light covers only a very small part of this spectrum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20" name="Picture 4" descr="fig2-5"/>
          <p:cNvPicPr/>
          <p:nvPr/>
        </p:nvPicPr>
        <p:blipFill>
          <a:blip r:embed="rId1"/>
          <a:srcRect l="0" t="0" r="0" b="10544"/>
          <a:stretch/>
        </p:blipFill>
        <p:spPr>
          <a:xfrm>
            <a:off x="468360" y="1197000"/>
            <a:ext cx="8207280" cy="33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Atmospheric interferenc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35320" y="1600200"/>
            <a:ext cx="3857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Interactions of the Sun’s energy with physical materials cause this energy to be absorbed, scattered, transmitted and reflecte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23" name="Picture 4" descr="fig2-6"/>
          <p:cNvPicPr/>
          <p:nvPr/>
        </p:nvPicPr>
        <p:blipFill>
          <a:blip r:embed="rId1"/>
          <a:stretch/>
        </p:blipFill>
        <p:spPr>
          <a:xfrm>
            <a:off x="611280" y="476280"/>
            <a:ext cx="461304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Analog to digital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95959"/>
                </a:solidFill>
                <a:latin typeface="Arial"/>
              </a:rPr>
              <a:t>An electronic sensor “measures intensity” of the terrain and the analog electrical signal is sampled in an image and converted to a digital number (DN)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26" name="Picture 4" descr="fig12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Analog to digital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95959"/>
                </a:solidFill>
                <a:latin typeface="Arial"/>
              </a:rPr>
              <a:t>A digital image is normally displayed using a grey scal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95959"/>
                </a:solidFill>
                <a:latin typeface="Arial"/>
              </a:rPr>
              <a:t>A pixel having the value zero is shown as black; a pixel having the value 255 is shown as white. Any DN in between becomes some shade of grey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Analog to digital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An alternative way to display single-band data is to use a colour scale to obtain a “pseudo-colour” imag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Colours can be assigned (ranging from blue via cyan, green and yellow to red) to different portions of the DN range from 0 to 255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Analog to digital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95959"/>
                </a:solidFill>
                <a:latin typeface="Arial"/>
              </a:rPr>
              <a:t>Sometimes a true colour composite is made, where the RGB channels relate to the red, green and blue wavelength bands of a camera or multispectral scanner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95959"/>
                </a:solidFill>
                <a:latin typeface="Arial"/>
              </a:rPr>
              <a:t>The most striking characteristic of false colour composites is that vegetation appears in a red-purple colour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Represent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f5f5f"/>
                </a:solidFill>
                <a:latin typeface="Arial"/>
              </a:rPr>
              <a:t>Natural colour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f5f5f"/>
                </a:solidFill>
                <a:latin typeface="Arial"/>
              </a:rPr>
              <a:t>Psuedo-natura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f5f5f"/>
                </a:solidFill>
                <a:latin typeface="Arial"/>
              </a:rPr>
              <a:t>False colour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4467240" y="88920"/>
            <a:ext cx="467676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Popular spaceborne sensors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f5f5f"/>
                </a:solidFill>
                <a:latin typeface="Arial"/>
              </a:rPr>
              <a:t>LANDS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f5f5f"/>
                </a:solidFill>
                <a:latin typeface="Arial"/>
              </a:rPr>
              <a:t>(TERRA) ASTER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f5f5f"/>
                </a:solidFill>
                <a:latin typeface="Arial"/>
              </a:rPr>
              <a:t>SPO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f5f5f"/>
                </a:solidFill>
                <a:latin typeface="Arial"/>
              </a:rPr>
              <a:t>ISRO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f5f5f"/>
                </a:solidFill>
                <a:latin typeface="Arial"/>
              </a:rPr>
              <a:t>IKONOS, QuickBird, WorldView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What is remote sensing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Remote sensing (RS) is the art, science, and technology of observing an object, scene, or phenomenon by instrument-based techniqu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What is remote sensing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RS is applied in many fields, including architecture, archaeology, medicine, industrial quality control, robotics, extraterrestrial mapping, etc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he interest for this Module is, however, Earth observation from airborne or spaceborne platform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What is remote sensing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In this Module, aerial photographs and satellite imagery are both considered to be a type of remote sensing imag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Aerial photography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aking and using photographs is the oldest, yet most commonly applied, remote sensing technique.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Aerial photography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Aerial photos are the prime data source for medium- to large-scale topographic mapping, many cadastral surveys, civil engineering projects and urban planning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Aerial photographs are also a useful source of information for foresters, ecologists, soil scientists, geologists and many other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Aerial photography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wo broad categories of aerial photographs can be distinguished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vertical photograph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oblique photograph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Vertical vs. obliqu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71760" y="2214720"/>
            <a:ext cx="547992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Vertical vs. obliqu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0" y="232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700200" y="1628640"/>
            <a:ext cx="3240000" cy="32403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"/>
          <p:cNvSpPr/>
          <p:nvPr/>
        </p:nvSpPr>
        <p:spPr>
          <a:xfrm>
            <a:off x="-1080" y="4274640"/>
            <a:ext cx="1253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2"/>
          <a:stretch/>
        </p:blipFill>
        <p:spPr>
          <a:xfrm>
            <a:off x="4340160" y="1628640"/>
            <a:ext cx="439740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9:09:28Z</dcterms:created>
  <dc:creator>Jeroen Verplanke</dc:creator>
  <dc:description/>
  <cp:keywords>pgis training kit</cp:keywords>
  <dc:language>en-US</dc:language>
  <cp:lastModifiedBy>martens</cp:lastModifiedBy>
  <dcterms:modified xsi:type="dcterms:W3CDTF">2010-08-09T12:45:21Z</dcterms:modified>
  <cp:revision>32</cp:revision>
  <dc:subject/>
  <dc:title>Presentation - Introduction to Remote Sensing Ima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Presentation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