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D9D5-8C29-4FC7-8079-02FC9950D1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532B-EA69-4642-AC23-D86035E5A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the Handout for Trainee before using this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9787-3765-4208-803B-556B6B3B7D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41CA-1C02-4EA9-959B-252CB8FBA9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1274-C1A5-4989-BEC8-CA430A304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B652-497B-4552-BAB2-F19BADBBE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AEE0-9856-499C-95A2-971C9487B2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5C94-F94E-4BF7-B400-300C36786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BF0B-89EE-4F97-82F3-AA43F62B5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E98D-BA67-4ADA-A915-D152408799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37D1-4F85-43FA-B16D-3632E88F3E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B748-B1D0-49ED-A2EC-5205C685D9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203D-BC84-4980-B720-F4F5EFC6F6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E17A-03E9-4B9B-85C2-93070777E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74DB-C2C6-4E8B-81D0-B371220D03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6EE9-E75D-417B-BC55-317966F783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31F1-B03D-43D0-9312-6A545FE7C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8915-7A6A-43FF-B729-3F9E902A89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F25-5C46-4723-8F11-2129258B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044-8A89-4D63-A0D6-00C6CF02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444-5066-4065-8B93-24E1ACC9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0E7-68A9-4AB2-BF8C-CFCC8A74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709B2-4D94-411C-A114-F69A4136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5FB37-9024-4BA4-96D1-C9013373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49B5D-3E0D-4656-9B1E-E837AF22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F6AB7-EE20-4987-A1B4-C524EA53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B8D92-9A0B-4322-A8B6-74CEC458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42C42-3CD5-4DDA-B8B0-778EE5A7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CF690-14EA-43E0-95A2-F023E65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7BB-0E6A-4C6C-A8D5-2A374B98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DAEB2-6D40-4CB4-BA17-1C9B03A4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186E6-35B8-49E5-8BE3-522E7A5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9B071-92B1-4E1C-9B42-4EF2A11C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7970C-C8A9-401D-9121-661E7C5B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5204C-38E2-41B6-BE10-D3FE2BC9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1EA-8A28-41AE-A56D-8B597F8D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0F5-0996-4C14-9FE9-3F0471FD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340-D2B5-4963-99C3-C9E1E001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822-55E8-4060-8AF8-9BA820B3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C9F-6315-4B75-BA6E-B2D034D6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41A-1610-4564-AF27-8DB1DDCD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AD3-07F7-4D13-9B9C-E2D6DE6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69E4-1D11-4867-AFEA-9B616C23BA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8230-0238-44E9-ACBC-4BF4BF7DCD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nterpreting Aerial Photos and Satellite Imag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438360" y="515772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J.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1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hape or form characterises the two-dimensional projection and the height of an objec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ize can be considered in a relative or absolute sen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eight is important for distinguishing among different vegetation types, building types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cation/association refers to the situation in the terrain or in relation to its surrounding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ne or hue can be defined for a single pi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exture is defined for a group of adjacent pixels, not for a single pi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other interpretation elements relate to individual objects or to a combination of objec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interpretation process involves delineating areas which appear similar and which are also different from other are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fter establishing the features on the ground, “interpretation keys”’ can be construc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ased on these keys, an interpretation of features can be made; these are described as interpretation eleme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pp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545" t="560" r="724" b="0"/>
          <a:stretch/>
        </p:blipFill>
        <p:spPr>
          <a:xfrm>
            <a:off x="539640" y="1627200"/>
            <a:ext cx="746604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Scal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re is a limit to what can be draw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 practice, polygons smaller than 5 x 5 mm should not be drawn: the "smallest allowable unit"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scale of the image(s) thus limits the interpretation cell on the groun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Fieldwork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aps should reflect what is actually on the groun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ield visits observe what is there in reality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uring fieldwork, the location of boundaries is verifi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ata are gathered about features that can not be derived from remote sens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Qual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quality of image interpretation depends on th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ofessional experience of photo-interpreters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mages used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rpretation guidelin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se three points ensure the replicability of the wor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cc3300"/>
                </a:solidFill>
                <a:latin typeface="Arial"/>
              </a:rPr>
              <a:t>Replicability</a:t>
            </a:r>
            <a:endParaRPr b="0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plicability refers to the degree of correspondence obtained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y different persons for the same area; o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y the same person for the same area 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t different instanc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Replicabilit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4" name="Picture 4" descr="fig11"/>
          <p:cNvPicPr/>
          <p:nvPr/>
        </p:nvPicPr>
        <p:blipFill>
          <a:blip r:embed="rId1"/>
          <a:stretch/>
        </p:blipFill>
        <p:spPr>
          <a:xfrm>
            <a:off x="468360" y="1709640"/>
            <a:ext cx="820728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mage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ow is information extracted from image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isual image interpretation (in this Unit)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emi-automatic processing by comput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mage interpret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Visual interpretation is based on relating colours and patterns to real-world featur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mages can be displayed on a computer monitor or in hard copy for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apping conveys the finding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alysing an image is typically done through a combination of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irect and “spontaneous recognition”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sing several clues to draw conclusions through a reasoning process (i.e. “logical inference”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pontaneous recognition refers to identifying objects or features at first glan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3" name="Picture 7" descr="Central Pivot.jpg"/>
          <p:cNvPicPr/>
          <p:nvPr/>
        </p:nvPicPr>
        <p:blipFill>
          <a:blip r:embed="rId1"/>
          <a:srcRect l="32182" t="0" r="0" b="0"/>
          <a:stretch/>
        </p:blipFill>
        <p:spPr>
          <a:xfrm>
            <a:off x="4214880" y="1571760"/>
            <a:ext cx="437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gical inference means that the interpreter applies reasoning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6" name="Picture 4" descr="fig11"/>
          <p:cNvPicPr/>
          <p:nvPr/>
        </p:nvPicPr>
        <p:blipFill>
          <a:blip r:embed="rId1"/>
          <a:srcRect l="0" t="0" r="45347" b="0"/>
          <a:stretch/>
        </p:blipFill>
        <p:spPr>
          <a:xfrm>
            <a:off x="4143240" y="1571760"/>
            <a:ext cx="455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even interpretation elements provide guidelines to recognise certain object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one/hu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extur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height/elev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ocation/associ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one is the relative brightness in a black-and-white image. Hue refers to the colour spa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onal variations are related to the amount of light reflected (or emitted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ariations in hue are related to spectral characteristic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 human eye has a greater sensitivity for hue (10,000 colours) than for tone (200 grey levels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exture relates to the frequency of tonal change and may be described as coarse or fine, smooth or rough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attern refers to spatial arrangement: concentric, radial, checkerboard, rivers with their branches, patterns related to erosion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Jeroen Verplanke</dc:creator>
  <dc:description/>
  <cp:keywords>pgis training kit</cp:keywords>
  <dc:language>en-US</dc:language>
  <cp:lastModifiedBy>Jeroen Verplanke</cp:lastModifiedBy>
  <dcterms:modified xsi:type="dcterms:W3CDTF">2010-06-21T09:55:30Z</dcterms:modified>
  <cp:revision>59</cp:revision>
  <dc:subject/>
  <dc:title>Presentation No. 1 - Interpreting Aerial Photos and Satellite Ima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