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CA31-C918-483B-92B0-158899932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2F82-62B8-4077-80EB-1750842D5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for the pres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Please study the Handout for Trainee of Unit M11U01 before using this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D53-8150-4AA8-8006-3D00EF0B4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4E8A-652F-4A1E-9385-33AC7E84C3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350A-0A50-4468-9EA9-1FF8D7A8F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D6F1-930C-47E3-9F5C-33B7A46C2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871-4BE8-437B-97E7-8004A4BB7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2716-658F-428B-839A-F75488533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4F6-1564-4428-8180-DE9FEDEBD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595E-AF98-401F-8452-D4BD0EBE1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5E5-B688-4104-8561-3FEB0D024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7870-9217-4606-9C58-1F09AC84F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is is a list of popular sensors. An elaborate description of these sensors is available in the Handout for Train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954-DE0D-43B4-88D7-3C536AE3D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92D-E041-4C33-8BCE-72C4D697B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957-8719-4A1D-8F32-B949B2D0B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3703-6A33-4406-9DEB-96C3290C1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E96D-2E95-4457-8287-27F9E69AB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407-B6D7-42DF-B04C-3F72EB6F3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3BC7-240B-48F4-8DF8-B3589C33E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CBD0-D961-48E1-8F5B-29554ADEF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62D0-23DC-4C5F-A0DD-999063572E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6D6C-970A-496B-91BC-5A7B210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5187-35EF-4966-8173-6C9B50A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B7CE-11CA-4E19-BD11-84F48B820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CCB54-F5FB-4B72-BB54-F5011381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B40CD-26A2-49BB-903D-5F87E029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204CB-2AF3-416C-9FC1-8C4412D7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97989-D072-4B79-A238-109D910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9C52E-946C-4C0F-8F41-DE302E6E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376AE-AE3A-4BE2-86D9-C1664274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203C8-F491-43B8-9092-F02FDA1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D395-3798-4243-BF00-1570091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EDAF6-8095-44F1-B629-E7B09E7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29307-262D-4F97-B525-D3F92A20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55C96-1EB0-43F5-BD2B-FFAE277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A87B-262F-4836-B549-875595EF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D722A-F4D7-4AA5-A737-5B574A90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AC65-1543-4EF0-AECC-425CEB00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8B68-11C1-40C9-BCB9-9D236DB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B2F7-BB0F-4E47-8700-63997122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6E40-A0A8-45E3-8FCA-0EC802F6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905D-71D5-49A2-8C45-CD5AF8D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34F5-765E-4D3B-B12E-1CC573F1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10E3-8315-48B9-98BC-9DFC2CB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9CB-153F-48A5-8D19-E89ACB398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319-BB44-4EA6-ADCD-6A5C52DE1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Introduction to 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Remote Sensing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30440" y="51436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most mapping applications, vertical aerial photographs are requir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blique photographs are obtained when the axis of the camera is not verti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blique photographs are rarely used for mapping purpo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ctromagnetic energ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mote sensing is based on detecting electromagnetic (EM) energ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ince the speed of light is constant, wavelength and frequency are inversely related to each othe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7" name="Picture 4" descr="fig2-3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isible spectr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Visible light covers only a very small part of this spectru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0" name="Picture 4" descr="fig2-5"/>
          <p:cNvPicPr/>
          <p:nvPr/>
        </p:nvPicPr>
        <p:blipFill>
          <a:blip r:embed="rId1"/>
          <a:srcRect l="0" t="0" r="0" b="10544"/>
          <a:stretch/>
        </p:blipFill>
        <p:spPr>
          <a:xfrm>
            <a:off x="468360" y="1197000"/>
            <a:ext cx="82072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tmospheric interferen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5320" y="160020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Interactions of the Sun’s energy with physical materials cause this energy to be absorbed, scattered, transmitted and reflect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fig2-6"/>
          <p:cNvPicPr/>
          <p:nvPr/>
        </p:nvPicPr>
        <p:blipFill>
          <a:blip r:embed="rId1"/>
          <a:stretch/>
        </p:blipFill>
        <p:spPr>
          <a:xfrm>
            <a:off x="611280" y="476280"/>
            <a:ext cx="4613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n electronic sensor “measures intensity” of the terrain and the analog electrical signal is sampled in an image and converted to a digital number (DN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6" name="Picture 4" descr="fig1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 digital image is normally displayed using a grey sca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 pixel having the value zero is shown as black; a pixel having the value 255 is shown as white. Any DN in between becomes some shade of gre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 alternative way to display single-band data is to use a colour scale to obtain a “pseudo-colour” ima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lours can be assigned (ranging from blue via cyan, green and yellow to red) to different portions of the DN range from 0 to 255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Sometimes a true colour composite is made, where the RGB channels relate to the red, green and blue wavelength bands of a camera or multispectral scann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The most striking characteristic of false colour composites is that vegetation appears in a red-purple colou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Natural colou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Psuedo-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False colou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467240" y="88920"/>
            <a:ext cx="4676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opular spaceborne sensor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LANDS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(TERRA) AST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SPO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ISR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IKONOS, QuickBird, WorldView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mote sensing (RS) is the art, science, and technology of observing an object, scene, or phenomenon by instrument-based techniqu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S is applied in many fields, including architecture, archaeology, medicine, industrial quality control, robotics, extraterrestrial mapping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nterest for this Module is, however, Earth observation from airborne or spaceborne plat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this Module, aerial photographs and satellite imagery are both considered to be a type of remote sensing ima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aking and using photographs is the oldest, yet most commonly applied, remote sensing technique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erial photos are the prime data source for medium- to large-scale topographic mapping, many cadastral surveys, civil engineering projects and urban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erial photographs are also a useful source of information for foresters, ecologists, soil scientists, geologists and many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wo broad categories of aerial photographs can be distinguishe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tic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blique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ertical vs. obliqu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4799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ertical vs. obliqu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0200" y="162864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-1080" y="4274640"/>
            <a:ext cx="125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4340160" y="1628640"/>
            <a:ext cx="43974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martens</cp:lastModifiedBy>
  <dcterms:modified xsi:type="dcterms:W3CDTF">2010-08-09T12:45:21Z</dcterms:modified>
  <cp:revision>32</cp:revision>
  <dc:subject/>
  <dc:title>Presentation - Introduction to Remote Sensing Im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