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A51D-B03D-44FF-BC5E-DF2953B8E4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EC6B-EDDE-4BD9-AE1F-D9D7BE43FC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the Handout for Trainee before using this presen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D682-2BF7-46C2-A21F-614241713A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2F5D-4FDD-457B-8B82-EF8C29DFB8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CA90-C304-47FC-85E2-4FA2EF8573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D4B5-71B4-40D9-8121-A071B52F5D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A30B-EF8A-4071-86E4-3FC87697B5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24E3-D373-4DD6-802A-ECCB357057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86D1-79C3-4C91-BE9A-C81DF445E3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0401-DE7D-452C-B242-2983E19D2E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7536-0B3B-4386-8A57-2779482BD9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264D-9D28-4C91-BA6D-9608E3FC48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BCFD-D3FE-4C13-8E75-3D9DC33865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F111-240C-4BDD-811D-0828DB9B72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AB22-0EE1-4E42-AFAE-BFF20B06AD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F985-628E-42D0-92EC-1D1D47C9F9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24D0-EF39-4886-8F05-39083116B1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3560-CFD3-4DE2-BC0B-C4C67F8DC6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3F20-6C1F-443A-8884-7D90F2C1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6C3-9DA7-40A0-9956-4C4B52AE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BBB7-E893-4A18-95DF-C86040CC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B5DF-3F97-4D91-BC8D-B89703FA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2DC87-EF01-4951-B95D-BD9E8314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08440-28DA-4549-B1E9-72659400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73503-7369-48A8-8A57-FF4EC856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491D0-C12F-4E7E-8AC4-D723DC19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702A3-99F7-4C6F-964B-45489EBC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5E21C-7A95-4762-87EE-73DB4070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84331-EB17-4ADD-9AE2-57A432D2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ADCA-E602-43A6-A698-FD448CC3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A36B1-F36E-4ED3-9229-C34623ED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9EB0E-9248-4EB4-8BAC-65A959E1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08A57-B9B8-4422-8A0B-CDE03DF4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19296-1933-4478-A386-527A5090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11A7D-A804-422E-A111-C80331AC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009A-9D7E-413A-A527-21BE4F4A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5E5-C7CA-42CF-AA45-164D1E14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F622-E5CA-47E5-BBAA-B9D43E9C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41A2-FAC6-44D5-B5B9-C1061503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DBE0-FF24-4DB4-9289-478B8627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1726-46AB-44C0-AEAD-AE3172E6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0499-8A6B-42A8-884A-C8EB4419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966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F4D8-D1BB-44E3-A6D1-FB55D79C54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D3A0-8BBF-4097-8591-01ECBAECB2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Interpreting Aerial Photos and Satellite Imag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438360" y="515772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By: J.Verplanke, I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: M11U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hape or form characterises the two-dimensional projection and the height of an objec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ize can be considered in a relative or absolute sens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Height is important for distinguishing among different vegetation types, building types, et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ocation/association refers to the situation in the terrain or in relation to its surrounding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one or hue can be defined for a single pixe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exture is defined for a group of adjacent pixels, not for a single pixe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other interpretation elements relate to individual objects or to a combination of objec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Mapp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interpretation process involves delineating areas which appear similar and which are also different from other area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fter establishing the features on the ground, “interpretation keys”’ can be construct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Based on these keys, an interpretation of features can be made; these are described as interpretation elemen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Mapp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545" t="560" r="724" b="0"/>
          <a:stretch/>
        </p:blipFill>
        <p:spPr>
          <a:xfrm>
            <a:off x="539640" y="1627200"/>
            <a:ext cx="746604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Scal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re is a limit to what can be draw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 practice, polygons smaller than 5 x 5 mm should not be drawn: the "smallest allowable unit"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scale of the image(s) thus limits the interpretation cell on the groun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Fieldwork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aps should reflect what is actually on the groun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Field visits observe what is there in reality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uring fieldwork, the location of boundaries is verifi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ata are gathered about features that can not be derived from remote sens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Qualit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quality of image interpretation depends on the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rofessional experience of photo-interpreters;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mages used;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terpretation guideline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se three points ensure the replicability of the work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cc3300"/>
                </a:solidFill>
                <a:latin typeface="Arial"/>
              </a:rPr>
              <a:t>Replicability</a:t>
            </a:r>
            <a:endParaRPr b="0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Replicability refers to the degree of correspondence obtained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by different persons for the same area; o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by the same person for the same area </a:t>
            </a:r>
            <a:br>
              <a:rPr sz="2800"/>
            </a:b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t different instanc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Replicabilit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4" name="Picture 4" descr="fig11"/>
          <p:cNvPicPr/>
          <p:nvPr/>
        </p:nvPicPr>
        <p:blipFill>
          <a:blip r:embed="rId1"/>
          <a:stretch/>
        </p:blipFill>
        <p:spPr>
          <a:xfrm>
            <a:off x="468360" y="1709640"/>
            <a:ext cx="820728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Image interpret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How is information extracted from images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visual image interpretation (in this Unit)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emi-automatic processing by comput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Image interpret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Visual interpretation is based on relating colours and patterns to real-world featur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mages can be displayed on a computer monitor or in hard copy form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apping conveys the findings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Fundament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nalysing an image is typically done through a combination of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direct and “spontaneous recognition”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using several clues to draw conclusions through a reasoning process (i.e. “logical inference”)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Fundament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pontaneous recognition refers to identifying objects or features at first glanc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3" name="Picture 7" descr="Central Pivot.jpg"/>
          <p:cNvPicPr/>
          <p:nvPr/>
        </p:nvPicPr>
        <p:blipFill>
          <a:blip r:embed="rId1"/>
          <a:srcRect l="32182" t="0" r="0" b="0"/>
          <a:stretch/>
        </p:blipFill>
        <p:spPr>
          <a:xfrm>
            <a:off x="4214880" y="1571760"/>
            <a:ext cx="4379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Fundament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ogical inference means that the interpreter applies reasoning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6" name="Picture 4" descr="fig11"/>
          <p:cNvPicPr/>
          <p:nvPr/>
        </p:nvPicPr>
        <p:blipFill>
          <a:blip r:embed="rId1"/>
          <a:srcRect l="0" t="0" r="45347" b="0"/>
          <a:stretch/>
        </p:blipFill>
        <p:spPr>
          <a:xfrm>
            <a:off x="4143240" y="1571760"/>
            <a:ext cx="4556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even interpretation elements provide guidelines to recognise certain object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one/hu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extur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atter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hap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iz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height/elev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ocation/associ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one is the relative brightness in a black-and-white image. Hue refers to the colour spac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onal variations are related to the amount of light reflected (or emitted)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Variations in hue are related to spectral characteristic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he human eye has a greater sensitivity for hue (10,000 colours) than for tone (200 grey levels)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exture relates to the frequency of tonal change and may be described as coarse or fine, smooth or rough, et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attern refers to spatial arrangement: concentric, radial, checkerboard, rivers with their branches, patterns related to erosion, et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Jeroen Verplanke</dc:creator>
  <dc:description/>
  <cp:keywords>pgis training kit</cp:keywords>
  <dc:language>en-US</dc:language>
  <cp:lastModifiedBy>Jeroen Verplanke</cp:lastModifiedBy>
  <dcterms:modified xsi:type="dcterms:W3CDTF">2010-06-21T09:55:30Z</dcterms:modified>
  <cp:revision>59</cp:revision>
  <dc:subject/>
  <dc:title>Presentation No. 1 - Interpreting Aerial Photos and Satellite Ima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