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666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7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52B1-740B-40E3-9761-66CFD2516B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9E56-8B23-42CE-B35D-7ECF85C83D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using this presentation, study Exercise No.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Header Placeholder 3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A62F-5DC9-4433-AF7F-C14013FCD3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Header Placeholder 3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9D3C-3D65-4036-A5AC-53D07A4A52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Header Placeholder 3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F6B5-F867-4CE4-8CE5-F00CB6AAD3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Header Placeholder 3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5697-D65B-462B-95D4-5855389876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Header Placeholder 3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44CA-B557-40DE-B4EA-DB3D54F561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5865-2AF5-494C-A523-28FD720685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7718-1DD5-4E8C-A760-FFDEA75EC7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E1BA-5648-4BD5-8623-8EB4C4C47A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8238-F6FC-4D7C-9561-8A5A1CA00A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9E7C-C158-419D-9A66-3528B4C460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Header Placeholder 3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999F-6D45-40B7-8600-4BBF3EFD0B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63113-3ABC-4D9F-ADB7-E5AA27BD9A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71B2A-89C7-429B-AE23-371F3C45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61ED6-F064-49D4-BD05-FE94822E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B1042-DF0C-4CB3-B40F-8F7632BB54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4946A-A3B5-4257-B6B5-9750261C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08340-5949-4117-9882-DF9AEE75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83FDA-4322-4A62-B869-80995AD6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33EFC-BBD9-443F-8E47-73071474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2B0AB-5371-46DD-AD44-644EBC4B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56679-6420-4328-80D1-9710219C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69B41-1E5E-4D2D-AABF-02E552EF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99ED7-8D73-4B5C-8D05-4E93D250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D4DA7-7A61-44EA-A394-03136699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41838-4E2F-4828-A314-884837F2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1AE87-2A35-4A5C-A895-363E6198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49DF3-4B43-49A6-B9C7-A0AA5644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D554B-BCF0-4D43-B03B-1282925C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4CF0B-B75A-412F-AB4E-28B22D09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6B5E4-549F-414D-9DDE-4D117F14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A1095-1FE0-4B94-B605-5D7F33DC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4E6BD-A5C4-46CD-8A48-A4C3DB49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40F1B-22C8-4046-8867-162A99F9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0058B-684D-41B8-9F8F-B531208B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A0669-1B68-40E5-9FC6-638DC983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9022-7D13-46F0-8F10-29B1B26C55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44AD-827C-471A-AF6F-467BFADF3F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816200"/>
            <a:ext cx="7772400" cy="18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Exercise No.1: </a:t>
            </a:r>
            <a:br>
              <a:rPr sz="4400"/>
            </a:b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Land-cover Mapping with Aerial Photographs</a:t>
            </a: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384720" y="550080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By: Jeroen Verpla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: M11U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Assignment 3: Interpret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ractical hint: Start with the clearest (easiest) units firs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Optional assignment: Field surve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 purpose of the field survey is to observe the different interpretation units on the aerial photographs in realit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ssess whether  the land cover and land use are consistently the same within one interpretation uni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Optional assignment: Field surve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ssess the land cover and land use at several places in each uni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lways ensure the participation of local residents to assist you in finding your way around the are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Arial"/>
              </a:rPr>
              <a:t>Optional assignment: Field survey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6" name="Picture 4" descr="Bild2"/>
          <p:cNvPicPr/>
          <p:nvPr/>
        </p:nvPicPr>
        <p:blipFill>
          <a:blip r:embed="rId1"/>
          <a:stretch/>
        </p:blipFill>
        <p:spPr>
          <a:xfrm>
            <a:off x="755640" y="1268280"/>
            <a:ext cx="4849920" cy="4926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Bild2"/>
          <p:cNvPicPr/>
          <p:nvPr/>
        </p:nvPicPr>
        <p:blipFill>
          <a:blip r:embed="rId2"/>
          <a:stretch/>
        </p:blipFill>
        <p:spPr>
          <a:xfrm>
            <a:off x="755640" y="1281240"/>
            <a:ext cx="4849920" cy="4925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5718240" y="4329720"/>
            <a:ext cx="310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Table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Field data observation sheet for land cover and land use</a:t>
            </a:r>
            <a:r>
              <a:rPr b="0" lang="de-DE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ssignment 4: Interpreting</a:t>
            </a:r>
            <a:br>
              <a:rPr sz="4400"/>
            </a:b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multi-temporal imag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-445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1131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2056680" y="5395680"/>
            <a:ext cx="49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969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2" descr="Wesseler1969"/>
          <p:cNvPicPr/>
          <p:nvPr/>
        </p:nvPicPr>
        <p:blipFill>
          <a:blip r:embed="rId1"/>
          <a:stretch/>
        </p:blipFill>
        <p:spPr>
          <a:xfrm>
            <a:off x="1092240" y="1989000"/>
            <a:ext cx="3063960" cy="345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Wesseler2009"/>
          <p:cNvPicPr/>
          <p:nvPr/>
        </p:nvPicPr>
        <p:blipFill>
          <a:blip r:embed="rId2"/>
          <a:stretch/>
        </p:blipFill>
        <p:spPr>
          <a:xfrm>
            <a:off x="5045040" y="1989000"/>
            <a:ext cx="2975040" cy="3456000"/>
          </a:xfrm>
          <a:prstGeom prst="rect">
            <a:avLst/>
          </a:prstGeom>
          <a:ln w="0">
            <a:noFill/>
          </a:ln>
        </p:spPr>
      </p:pic>
      <p:sp>
        <p:nvSpPr>
          <p:cNvPr id="165" name="Line 14"/>
          <p:cNvSpPr/>
          <p:nvPr/>
        </p:nvSpPr>
        <p:spPr>
          <a:xfrm flipH="1" flipV="1">
            <a:off x="2916360" y="2707920"/>
            <a:ext cx="71280" cy="336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"/>
          <p:cNvSpPr/>
          <p:nvPr/>
        </p:nvSpPr>
        <p:spPr>
          <a:xfrm flipH="1" flipV="1">
            <a:off x="7651440" y="3557160"/>
            <a:ext cx="88920" cy="374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9"/>
          <p:cNvSpPr/>
          <p:nvPr/>
        </p:nvSpPr>
        <p:spPr>
          <a:xfrm>
            <a:off x="1030320" y="57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Figure 5: Abundance of land-cover change over 40 years; a new urban area in the Nether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ssignment 4: Interpreting</a:t>
            </a:r>
            <a:br>
              <a:rPr sz="4400"/>
            </a:b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multi-temporal imag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-445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1131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2055600" y="4906440"/>
            <a:ext cx="474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989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 flipH="1" flipV="1">
            <a:off x="2916360" y="2707920"/>
            <a:ext cx="71280" cy="336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 flipH="1" flipV="1">
            <a:off x="7651440" y="3557160"/>
            <a:ext cx="88920" cy="374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1030320" y="53730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Figure 6: Land-cover change over 10 years in an urban area in the Netherlands; hard to see differences</a:t>
            </a:r>
            <a:r>
              <a:rPr b="0" lang="de-DE" sz="1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1" descr="Horst1989"/>
          <p:cNvPicPr/>
          <p:nvPr/>
        </p:nvPicPr>
        <p:blipFill>
          <a:blip r:embed="rId1"/>
          <a:stretch/>
        </p:blipFill>
        <p:spPr>
          <a:xfrm>
            <a:off x="1071720" y="1989000"/>
            <a:ext cx="3068640" cy="2927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Horst1998"/>
          <p:cNvPicPr/>
          <p:nvPr/>
        </p:nvPicPr>
        <p:blipFill>
          <a:blip r:embed="rId2"/>
          <a:stretch/>
        </p:blipFill>
        <p:spPr>
          <a:xfrm>
            <a:off x="4824360" y="1989000"/>
            <a:ext cx="31719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3300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o practise the basic concepts of land-cover and land-use mapping based on aerial photo interpretation, and make a preliminary interpretation legend based on photo characteristic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Four assignments and an optional field survey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ssignment 1: Investigating an aerial photograph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ssignment 2: Preliminary legend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ssignment 3: Interpretation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Optional assignment: Field survey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ssignment 4: Interpreting multi-temporal images for land-use change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Assignment 1: Investigating an aerial photograph</a:t>
            </a:r>
            <a:r>
              <a:rPr b="0" lang="de-DE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8" name="Picture 5" descr="Horst1989 zoom"/>
          <p:cNvPicPr/>
          <p:nvPr/>
        </p:nvPicPr>
        <p:blipFill>
          <a:blip r:embed="rId1"/>
          <a:stretch/>
        </p:blipFill>
        <p:spPr>
          <a:xfrm>
            <a:off x="971640" y="1701720"/>
            <a:ext cx="4392360" cy="429264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14"/>
          <p:cNvGrpSpPr/>
          <p:nvPr/>
        </p:nvGrpSpPr>
        <p:grpSpPr>
          <a:xfrm>
            <a:off x="2124000" y="2494080"/>
            <a:ext cx="3240000" cy="2736360"/>
            <a:chOff x="2124000" y="2494080"/>
            <a:chExt cx="3240000" cy="2736360"/>
          </a:xfrm>
        </p:grpSpPr>
        <p:sp>
          <p:nvSpPr>
            <p:cNvPr id="100" name="Oval 20"/>
            <p:cNvSpPr/>
            <p:nvPr/>
          </p:nvSpPr>
          <p:spPr>
            <a:xfrm>
              <a:off x="3008880" y="2494080"/>
              <a:ext cx="982800" cy="94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9"/>
            <p:cNvSpPr/>
            <p:nvPr/>
          </p:nvSpPr>
          <p:spPr>
            <a:xfrm>
              <a:off x="2124000" y="4284000"/>
              <a:ext cx="982800" cy="94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8"/>
            <p:cNvSpPr/>
            <p:nvPr/>
          </p:nvSpPr>
          <p:spPr>
            <a:xfrm>
              <a:off x="4381200" y="4070520"/>
              <a:ext cx="982800" cy="94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7"/>
            <p:cNvSpPr/>
            <p:nvPr/>
          </p:nvSpPr>
          <p:spPr>
            <a:xfrm>
              <a:off x="3567960" y="2741400"/>
              <a:ext cx="3528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6"/>
            <p:cNvSpPr/>
            <p:nvPr/>
          </p:nvSpPr>
          <p:spPr>
            <a:xfrm>
              <a:off x="2140920" y="4571280"/>
              <a:ext cx="35280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5"/>
            <p:cNvSpPr/>
            <p:nvPr/>
          </p:nvSpPr>
          <p:spPr>
            <a:xfrm>
              <a:off x="4814280" y="4127760"/>
              <a:ext cx="3528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29"/>
          <p:cNvSpPr/>
          <p:nvPr/>
        </p:nvSpPr>
        <p:spPr>
          <a:xfrm>
            <a:off x="5724360" y="490356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Figure 1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Detail of photo </a:t>
            </a:r>
            <a:r>
              <a:rPr b="1" i="1" lang="en-GB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Horst1989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Assignment 2: Preliminary legend </a:t>
            </a: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-47160" y="1309680"/>
            <a:ext cx="6491520" cy="5688720"/>
            <a:chOff x="-47160" y="1309680"/>
            <a:chExt cx="6491520" cy="5688720"/>
          </a:xfrm>
        </p:grpSpPr>
        <p:pic>
          <p:nvPicPr>
            <p:cNvPr id="109" name="Picture 20" descr="Horst1989 zoom"/>
            <p:cNvPicPr/>
            <p:nvPr/>
          </p:nvPicPr>
          <p:blipFill>
            <a:blip r:embed="rId1"/>
            <a:stretch/>
          </p:blipFill>
          <p:spPr>
            <a:xfrm>
              <a:off x="1229760" y="2164680"/>
              <a:ext cx="3875040" cy="379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Group 42"/>
            <p:cNvGrpSpPr/>
            <p:nvPr/>
          </p:nvGrpSpPr>
          <p:grpSpPr>
            <a:xfrm>
              <a:off x="1060200" y="1987560"/>
              <a:ext cx="356040" cy="351360"/>
              <a:chOff x="1060200" y="1987560"/>
              <a:chExt cx="356040" cy="351360"/>
            </a:xfrm>
          </p:grpSpPr>
          <p:sp>
            <p:nvSpPr>
              <p:cNvPr id="111" name="Oval 45"/>
              <p:cNvSpPr/>
              <p:nvPr/>
            </p:nvSpPr>
            <p:spPr>
              <a:xfrm>
                <a:off x="1060200" y="1987920"/>
                <a:ext cx="355680" cy="35100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2" name="AutoShape 44"/>
              <p:cNvCxnSpPr/>
              <p:nvPr/>
            </p:nvCxnSpPr>
            <p:spPr>
              <a:xfrm>
                <a:off x="1233720" y="1987560"/>
                <a:ext cx="1080" cy="35136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113" name="AutoShape 43"/>
              <p:cNvCxnSpPr/>
              <p:nvPr/>
            </p:nvCxnSpPr>
            <p:spPr>
              <a:xfrm>
                <a:off x="1060200" y="2159280"/>
                <a:ext cx="356400" cy="108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14" name="Group 38"/>
            <p:cNvGrpSpPr/>
            <p:nvPr/>
          </p:nvGrpSpPr>
          <p:grpSpPr>
            <a:xfrm>
              <a:off x="1042560" y="5783400"/>
              <a:ext cx="356040" cy="351360"/>
              <a:chOff x="1042560" y="5783400"/>
              <a:chExt cx="356040" cy="351360"/>
            </a:xfrm>
          </p:grpSpPr>
          <p:sp>
            <p:nvSpPr>
              <p:cNvPr id="115" name="Oval 41"/>
              <p:cNvSpPr/>
              <p:nvPr/>
            </p:nvSpPr>
            <p:spPr>
              <a:xfrm>
                <a:off x="1042560" y="5783760"/>
                <a:ext cx="355680" cy="35100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6" name="AutoShape 40"/>
              <p:cNvCxnSpPr/>
              <p:nvPr/>
            </p:nvCxnSpPr>
            <p:spPr>
              <a:xfrm>
                <a:off x="1216080" y="5783400"/>
                <a:ext cx="1080" cy="35136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117" name="AutoShape 39"/>
              <p:cNvCxnSpPr/>
              <p:nvPr/>
            </p:nvCxnSpPr>
            <p:spPr>
              <a:xfrm>
                <a:off x="1042560" y="5955120"/>
                <a:ext cx="356400" cy="108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18" name="Group 34"/>
            <p:cNvGrpSpPr/>
            <p:nvPr/>
          </p:nvGrpSpPr>
          <p:grpSpPr>
            <a:xfrm>
              <a:off x="4928760" y="1987560"/>
              <a:ext cx="356040" cy="351360"/>
              <a:chOff x="4928760" y="1987560"/>
              <a:chExt cx="356040" cy="351360"/>
            </a:xfrm>
          </p:grpSpPr>
          <p:sp>
            <p:nvSpPr>
              <p:cNvPr id="119" name="Oval 37"/>
              <p:cNvSpPr/>
              <p:nvPr/>
            </p:nvSpPr>
            <p:spPr>
              <a:xfrm>
                <a:off x="4928760" y="1987920"/>
                <a:ext cx="355680" cy="35100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0" name="AutoShape 36"/>
              <p:cNvCxnSpPr/>
              <p:nvPr/>
            </p:nvCxnSpPr>
            <p:spPr>
              <a:xfrm>
                <a:off x="5102280" y="1987560"/>
                <a:ext cx="1080" cy="35136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121" name="AutoShape 35"/>
              <p:cNvCxnSpPr/>
              <p:nvPr/>
            </p:nvCxnSpPr>
            <p:spPr>
              <a:xfrm>
                <a:off x="4928760" y="2159280"/>
                <a:ext cx="356400" cy="108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22" name="Group 29"/>
            <p:cNvGrpSpPr/>
            <p:nvPr/>
          </p:nvGrpSpPr>
          <p:grpSpPr>
            <a:xfrm>
              <a:off x="4915080" y="5783400"/>
              <a:ext cx="356040" cy="351360"/>
              <a:chOff x="4915080" y="5783400"/>
              <a:chExt cx="356040" cy="351360"/>
            </a:xfrm>
          </p:grpSpPr>
          <p:sp>
            <p:nvSpPr>
              <p:cNvPr id="123" name="Oval 32"/>
              <p:cNvSpPr/>
              <p:nvPr/>
            </p:nvSpPr>
            <p:spPr>
              <a:xfrm>
                <a:off x="4915080" y="5783760"/>
                <a:ext cx="355680" cy="35100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4" name="AutoShape 31"/>
              <p:cNvCxnSpPr/>
              <p:nvPr/>
            </p:nvCxnSpPr>
            <p:spPr>
              <a:xfrm>
                <a:off x="5088600" y="5783400"/>
                <a:ext cx="1080" cy="35136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125" name="AutoShape 30"/>
              <p:cNvCxnSpPr/>
              <p:nvPr/>
            </p:nvCxnSpPr>
            <p:spPr>
              <a:xfrm>
                <a:off x="4915080" y="5955120"/>
                <a:ext cx="356400" cy="108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26" name="Rectangle 49"/>
            <p:cNvSpPr/>
            <p:nvPr/>
          </p:nvSpPr>
          <p:spPr>
            <a:xfrm>
              <a:off x="665640" y="1774800"/>
              <a:ext cx="4820040" cy="460944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8"/>
            <p:cNvSpPr/>
            <p:nvPr/>
          </p:nvSpPr>
          <p:spPr>
            <a:xfrm>
              <a:off x="1224360" y="1309680"/>
              <a:ext cx="1182960" cy="69300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475" h="282">
                  <a:moveTo>
                    <a:pt x="49" y="115"/>
                  </a:moveTo>
                  <a:cubicBezTo>
                    <a:pt x="199" y="140"/>
                    <a:pt x="169" y="146"/>
                    <a:pt x="349" y="130"/>
                  </a:cubicBezTo>
                  <a:cubicBezTo>
                    <a:pt x="384" y="135"/>
                    <a:pt x="433" y="117"/>
                    <a:pt x="454" y="145"/>
                  </a:cubicBezTo>
                  <a:cubicBezTo>
                    <a:pt x="475" y="173"/>
                    <a:pt x="469" y="231"/>
                    <a:pt x="439" y="250"/>
                  </a:cubicBezTo>
                  <a:cubicBezTo>
                    <a:pt x="388" y="282"/>
                    <a:pt x="319" y="260"/>
                    <a:pt x="259" y="265"/>
                  </a:cubicBezTo>
                  <a:cubicBezTo>
                    <a:pt x="199" y="260"/>
                    <a:pt x="139" y="258"/>
                    <a:pt x="79" y="250"/>
                  </a:cubicBezTo>
                  <a:cubicBezTo>
                    <a:pt x="63" y="248"/>
                    <a:pt x="36" y="251"/>
                    <a:pt x="34" y="235"/>
                  </a:cubicBezTo>
                  <a:cubicBezTo>
                    <a:pt x="0" y="0"/>
                    <a:pt x="102" y="221"/>
                    <a:pt x="49" y="115"/>
                  </a:cubicBezTo>
                  <a:close/>
                </a:path>
              </a:pathLst>
            </a:custGeom>
            <a:solidFill>
              <a:srgbClr val="ddd8c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7"/>
            <p:cNvSpPr/>
            <p:nvPr/>
          </p:nvSpPr>
          <p:spPr>
            <a:xfrm>
              <a:off x="3737880" y="1309680"/>
              <a:ext cx="1182960" cy="69300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475" h="282">
                  <a:moveTo>
                    <a:pt x="49" y="115"/>
                  </a:moveTo>
                  <a:cubicBezTo>
                    <a:pt x="199" y="140"/>
                    <a:pt x="169" y="146"/>
                    <a:pt x="349" y="130"/>
                  </a:cubicBezTo>
                  <a:cubicBezTo>
                    <a:pt x="384" y="135"/>
                    <a:pt x="433" y="117"/>
                    <a:pt x="454" y="145"/>
                  </a:cubicBezTo>
                  <a:cubicBezTo>
                    <a:pt x="475" y="173"/>
                    <a:pt x="469" y="231"/>
                    <a:pt x="439" y="250"/>
                  </a:cubicBezTo>
                  <a:cubicBezTo>
                    <a:pt x="388" y="282"/>
                    <a:pt x="319" y="260"/>
                    <a:pt x="259" y="265"/>
                  </a:cubicBezTo>
                  <a:cubicBezTo>
                    <a:pt x="199" y="260"/>
                    <a:pt x="139" y="258"/>
                    <a:pt x="79" y="250"/>
                  </a:cubicBezTo>
                  <a:cubicBezTo>
                    <a:pt x="63" y="248"/>
                    <a:pt x="36" y="251"/>
                    <a:pt x="34" y="235"/>
                  </a:cubicBezTo>
                  <a:cubicBezTo>
                    <a:pt x="0" y="0"/>
                    <a:pt x="102" y="221"/>
                    <a:pt x="49" y="115"/>
                  </a:cubicBezTo>
                  <a:close/>
                </a:path>
              </a:pathLst>
            </a:custGeom>
            <a:solidFill>
              <a:srgbClr val="ddd8c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6"/>
            <p:cNvSpPr/>
            <p:nvPr/>
          </p:nvSpPr>
          <p:spPr>
            <a:xfrm rot="2133600">
              <a:off x="5169960" y="6017040"/>
              <a:ext cx="1182960" cy="69300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475" h="282">
                  <a:moveTo>
                    <a:pt x="49" y="115"/>
                  </a:moveTo>
                  <a:cubicBezTo>
                    <a:pt x="199" y="140"/>
                    <a:pt x="169" y="146"/>
                    <a:pt x="349" y="130"/>
                  </a:cubicBezTo>
                  <a:cubicBezTo>
                    <a:pt x="384" y="135"/>
                    <a:pt x="433" y="117"/>
                    <a:pt x="454" y="145"/>
                  </a:cubicBezTo>
                  <a:cubicBezTo>
                    <a:pt x="475" y="173"/>
                    <a:pt x="469" y="231"/>
                    <a:pt x="439" y="250"/>
                  </a:cubicBezTo>
                  <a:cubicBezTo>
                    <a:pt x="388" y="282"/>
                    <a:pt x="319" y="260"/>
                    <a:pt x="259" y="265"/>
                  </a:cubicBezTo>
                  <a:cubicBezTo>
                    <a:pt x="199" y="260"/>
                    <a:pt x="139" y="258"/>
                    <a:pt x="79" y="250"/>
                  </a:cubicBezTo>
                  <a:cubicBezTo>
                    <a:pt x="63" y="248"/>
                    <a:pt x="36" y="251"/>
                    <a:pt x="34" y="235"/>
                  </a:cubicBezTo>
                  <a:cubicBezTo>
                    <a:pt x="0" y="0"/>
                    <a:pt x="102" y="221"/>
                    <a:pt x="49" y="115"/>
                  </a:cubicBezTo>
                  <a:close/>
                </a:path>
              </a:pathLst>
            </a:custGeom>
            <a:solidFill>
              <a:srgbClr val="ddd8c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3"/>
            <p:cNvSpPr/>
            <p:nvPr/>
          </p:nvSpPr>
          <p:spPr>
            <a:xfrm rot="19353600">
              <a:off x="41400" y="6017040"/>
              <a:ext cx="1182960" cy="69300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475" h="282">
                  <a:moveTo>
                    <a:pt x="49" y="115"/>
                  </a:moveTo>
                  <a:cubicBezTo>
                    <a:pt x="199" y="140"/>
                    <a:pt x="169" y="146"/>
                    <a:pt x="349" y="130"/>
                  </a:cubicBezTo>
                  <a:cubicBezTo>
                    <a:pt x="384" y="135"/>
                    <a:pt x="433" y="117"/>
                    <a:pt x="454" y="145"/>
                  </a:cubicBezTo>
                  <a:cubicBezTo>
                    <a:pt x="475" y="173"/>
                    <a:pt x="469" y="231"/>
                    <a:pt x="439" y="250"/>
                  </a:cubicBezTo>
                  <a:cubicBezTo>
                    <a:pt x="388" y="282"/>
                    <a:pt x="319" y="260"/>
                    <a:pt x="259" y="265"/>
                  </a:cubicBezTo>
                  <a:cubicBezTo>
                    <a:pt x="199" y="260"/>
                    <a:pt x="139" y="258"/>
                    <a:pt x="79" y="250"/>
                  </a:cubicBezTo>
                  <a:cubicBezTo>
                    <a:pt x="63" y="248"/>
                    <a:pt x="36" y="251"/>
                    <a:pt x="34" y="235"/>
                  </a:cubicBezTo>
                  <a:cubicBezTo>
                    <a:pt x="0" y="0"/>
                    <a:pt x="102" y="221"/>
                    <a:pt x="49" y="115"/>
                  </a:cubicBezTo>
                  <a:close/>
                </a:path>
              </a:pathLst>
            </a:custGeom>
            <a:solidFill>
              <a:srgbClr val="ddd8c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59"/>
          <p:cNvSpPr/>
          <p:nvPr/>
        </p:nvSpPr>
        <p:spPr>
          <a:xfrm>
            <a:off x="5653080" y="4504680"/>
            <a:ext cx="288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Figure 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Fixing photo and transparency to a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Assignment 2: Preliminary legend </a:t>
            </a: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Rectangle 59"/>
          <p:cNvSpPr/>
          <p:nvPr/>
        </p:nvSpPr>
        <p:spPr>
          <a:xfrm>
            <a:off x="611280" y="5380560"/>
            <a:ext cx="77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Figure 3: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Example of an interpretation leg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7" descr=""/>
          <p:cNvPicPr/>
          <p:nvPr/>
        </p:nvPicPr>
        <p:blipFill>
          <a:blip r:embed="rId1"/>
          <a:stretch/>
        </p:blipFill>
        <p:spPr>
          <a:xfrm>
            <a:off x="658800" y="1684440"/>
            <a:ext cx="784872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Table 1. Interpretation legend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85840" y="2214720"/>
          <a:ext cx="8572320" cy="3489120"/>
        </p:xfrm>
        <a:graphic>
          <a:graphicData uri="http://schemas.openxmlformats.org/drawingml/2006/table">
            <a:tbl>
              <a:tblPr/>
              <a:tblGrid>
                <a:gridCol w="671400"/>
                <a:gridCol w="1090800"/>
                <a:gridCol w="1090440"/>
                <a:gridCol w="1090800"/>
                <a:gridCol w="1090440"/>
                <a:gridCol w="1090440"/>
                <a:gridCol w="1090800"/>
                <a:gridCol w="135720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ne/h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te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 / assoc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97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Assignment 3: Interpretation </a:t>
            </a: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2124000" y="2494080"/>
            <a:ext cx="3240000" cy="2736360"/>
            <a:chOff x="2124000" y="2494080"/>
            <a:chExt cx="3240000" cy="2736360"/>
          </a:xfrm>
        </p:grpSpPr>
        <p:sp>
          <p:nvSpPr>
            <p:cNvPr id="139" name="Oval 5"/>
            <p:cNvSpPr/>
            <p:nvPr/>
          </p:nvSpPr>
          <p:spPr>
            <a:xfrm>
              <a:off x="3008880" y="2494080"/>
              <a:ext cx="982800" cy="94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"/>
            <p:cNvSpPr/>
            <p:nvPr/>
          </p:nvSpPr>
          <p:spPr>
            <a:xfrm>
              <a:off x="2124000" y="4284000"/>
              <a:ext cx="982800" cy="94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7"/>
            <p:cNvSpPr/>
            <p:nvPr/>
          </p:nvSpPr>
          <p:spPr>
            <a:xfrm>
              <a:off x="4381200" y="4070520"/>
              <a:ext cx="982800" cy="94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8"/>
            <p:cNvSpPr/>
            <p:nvPr/>
          </p:nvSpPr>
          <p:spPr>
            <a:xfrm>
              <a:off x="3567960" y="2741400"/>
              <a:ext cx="3528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9"/>
            <p:cNvSpPr/>
            <p:nvPr/>
          </p:nvSpPr>
          <p:spPr>
            <a:xfrm>
              <a:off x="2140920" y="4571280"/>
              <a:ext cx="35280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0"/>
            <p:cNvSpPr/>
            <p:nvPr/>
          </p:nvSpPr>
          <p:spPr>
            <a:xfrm>
              <a:off x="4814280" y="4127760"/>
              <a:ext cx="3528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Rectangle 11"/>
          <p:cNvSpPr/>
          <p:nvPr/>
        </p:nvSpPr>
        <p:spPr>
          <a:xfrm>
            <a:off x="5292720" y="3908880"/>
            <a:ext cx="331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Figure 4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Example of land-unit mapping, mixing image characteristics and land-use characteristics</a:t>
            </a:r>
            <a:r>
              <a:rPr b="0" lang="de-DE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2" descr="WesselerClassEx"/>
          <p:cNvPicPr/>
          <p:nvPr/>
        </p:nvPicPr>
        <p:blipFill>
          <a:blip r:embed="rId1"/>
          <a:stretch/>
        </p:blipFill>
        <p:spPr>
          <a:xfrm>
            <a:off x="755640" y="1341360"/>
            <a:ext cx="4095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Assignment 3: Interpret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Basic cartographic rules on polygon map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ll polygons should be closed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Each polygon with the same characteristics should have the same symbol (label)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The smallest polygon is generally 5 x 5 mm, or 2 x 10 mm for elongated unit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5:28:43Z</dcterms:created>
  <dc:creator>Jeroen Verplanke</dc:creator>
  <dc:description/>
  <cp:keywords>pgis training kit</cp:keywords>
  <dc:language>en-US</dc:language>
  <cp:lastModifiedBy>Jeroen Verplanke</cp:lastModifiedBy>
  <dcterms:modified xsi:type="dcterms:W3CDTF">2010-06-21T09:54:53Z</dcterms:modified>
  <cp:revision>97</cp:revision>
  <dc:subject/>
  <dc:title>Presentation No. 2 - Exercise No. 1 - Land Cover Mapping with Aerial Photograph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