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868536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80808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799C-F8FE-42E4-B56D-836404DBDFF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BD80-10CB-410A-8D11-D468E5FB2C7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D9F6-BE0E-4459-B131-2FB7AE8A8AB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 from GIS Core Curriculum for Technical Programmes. Written by Lesley-Ann Dupigny-Giroux,Geography Department, University of Vermont. Trainers may wish to refer to this re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BE9E-0386-4281-B81A-E26AC9E7F9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iners may wish to open QGIS and demonstrate the process of creating and editing a new layer. Following this, trainers could invite trainees to discuss when on-screen digitising would be usefu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AFB5-9838-46BB-B611-1B6A30A76E0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0A95-F306-4475-87F7-FF7809C9D3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2C3E-6FD3-492A-A34D-FEE31F58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A1EC-E0BB-47F6-A2C1-AFD5FE5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37C51-E2D8-4ED1-AB01-D7E67F8C07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46433-8DB2-48F9-A5EB-6B88BE32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B0394-BAE6-4745-8CE4-14103F5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9043B-83DD-4CEA-8344-F367838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0A061-E775-424A-BE0D-8F562FB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AE9FF-F587-492B-9B5C-91A2D3CD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B3A7D-C790-48BF-9DEC-F2FB7C00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6686F-695F-404E-8C24-590DDC65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57D1-DF5A-43FF-99E2-641AD5D1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3953C-A0CF-42C4-9405-0FBB9259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28607-DE71-4101-BF45-6D7D443A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260FB-039A-444D-9E5E-824AAF4B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5D8C1-0D7A-4CB6-B502-0944EC8A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36C38-AA17-408D-998B-759EB047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BCEE-929F-4032-A72E-C67CD4BF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9F7E-15C6-497A-87E2-133C0A2D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0CAF-4566-4099-A705-C7815C6D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191F-4E1B-40A3-95AC-40CEF992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93EE-E717-455B-88EA-117C905F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6134-3E82-4A95-A3B8-A9C7D999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47B2-1B76-46AA-B7DB-3C1E6177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99A-DC55-4E03-A047-1FAF2CCEF01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c_license_by-nc-sa"/>
          <p:cNvPicPr/>
          <p:nvPr/>
        </p:nvPicPr>
        <p:blipFill>
          <a:blip r:embed="rId2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A11-1EB3-4B04-84A0-5AD0852486D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Introduction to GIS for the Purpose of Practising PGI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On-screen Digiti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559240" y="486900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69696"/>
                </a:solidFill>
                <a:latin typeface="Arial"/>
              </a:rPr>
              <a:t>By: Jon Corbett and Kasondra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f5f5f"/>
                </a:solidFill>
                <a:latin typeface="Arial"/>
              </a:rPr>
              <a:t>Unit: M12U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cc_license_by-nc-sa"/>
          <p:cNvPicPr/>
          <p:nvPr/>
        </p:nvPicPr>
        <p:blipFill>
          <a:blip r:embed="rId1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The process of extracting spatial features from a digital imag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These include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scanned map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aeri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5f5f5f"/>
                </a:solidFill>
                <a:latin typeface="Arial"/>
              </a:rPr>
              <a:t>digital photograph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Useful for turning data into georeferenced map laye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Digitis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Converting a paper map into a digital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Incorporating this into a GI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lso known as geocod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Points, linear features and areas often employ manual digitis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ssociating coordinates and topographical dat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cc3300"/>
                </a:solidFill>
                <a:latin typeface="Arial"/>
              </a:rPr>
              <a:t>On-screen digitising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Captures data from digital images using the mou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Grants a higher level of accurac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Allows for editing of featur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User creates the layer on the screen with the mous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5f5f5f"/>
                </a:solidFill>
                <a:latin typeface="Arial"/>
              </a:rPr>
              <a:t>Referenced information as a backgroun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00:34:05Z</dcterms:created>
  <dc:creator>Jon Corbett and KasondraWhite</dc:creator>
  <dc:description/>
  <dc:language>en-US</dc:language>
  <cp:lastModifiedBy>martens</cp:lastModifiedBy>
  <dcterms:modified xsi:type="dcterms:W3CDTF">2010-01-12T15:27:21Z</dcterms:modified>
  <cp:revision>20</cp:revision>
  <dc:subject/>
  <dc:title>Presentation - On Screen Digitiz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Document</vt:lpwstr>
  </property>
  <property fmtid="{D5CDD505-2E9C-101B-9397-08002B2CF9AE}" pid="6" name="Keywords">
    <vt:lpwstr/>
  </property>
  <property fmtid="{D5CDD505-2E9C-101B-9397-08002B2CF9AE}" pid="7" name="Slides">
    <vt:lpwstr>4</vt:lpwstr>
  </property>
  <property fmtid="{D5CDD505-2E9C-101B-9397-08002B2CF9AE}" pid="8" name="Subject">
    <vt:lpwstr/>
  </property>
  <property fmtid="{D5CDD505-2E9C-101B-9397-08002B2CF9AE}" pid="9" name="_Author">
    <vt:lpwstr>Kasondra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