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D147-0192-47CF-A854-FB9A51A9B42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D279-C86F-418D-A5EA-3C7D17B8A4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at www.qgis.org. The QGIS User Guide has been provided as an e-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ABE8-6165-413E-A4F9-A0A1E0CC903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an important step in understanding how to use any kind of software is becoming familiar with the tools and features that are available and their functions, trainers may wish to take a moment to allow trainees to experiment with the graphical user interface. It would be useful to allow trainees several minutes to work through the different commands, having first opened one or two sample layers with which to experiment and referring to the guide provided in the Handout for Trainee. The best time for this would be following Slide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7CD5-787F-4BB9-A9AF-BC05FB12B1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 - </a:t>
            </a:r>
            <a:r>
              <a:rPr b="0" lang="en-GB" sz="1200" spc="-1" strike="noStrike">
                <a:solidFill>
                  <a:srgbClr val="000000"/>
                </a:solidFill>
                <a:latin typeface="Arial"/>
              </a:rPr>
              <a:t>Map canvas:  This is the area where the data are displayed. It is also the primary canvas for editing the map or creating new feature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br>
              <a:rPr sz="1200"/>
            </a:br>
            <a:r>
              <a:rPr b="0" lang="en-GB" sz="1200" spc="-1" strike="noStrike">
                <a:solidFill>
                  <a:srgbClr val="000000"/>
                </a:solidFill>
                <a:latin typeface="Arial"/>
              </a:rPr>
              <a:t>2 - Map legend:  All of the data layers that have been opened are displayed in the legend. Data layers can be turned on or off by clicking on the check box next to the name of the layer (in this example, the two layers that have been opened are ‘Trees’ and ‘Alaska’ and both are turned on). Information associated with data layers can be viewed from the legend and changes can be made to the data itself by right-clicking on the name in the legend and selecting from a variety of opti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 Map overview canvas:</a:t>
            </a:r>
            <a:r>
              <a:rPr b="1" lang="en-GB" sz="1200" spc="-1" strike="noStrike">
                <a:solidFill>
                  <a:srgbClr val="000000"/>
                </a:solidFill>
                <a:latin typeface="Arial"/>
              </a:rPr>
              <a:t> </a:t>
            </a:r>
            <a:r>
              <a:rPr b="0" lang="en-GB" sz="1200" spc="-1" strike="noStrike">
                <a:solidFill>
                  <a:srgbClr val="000000"/>
                </a:solidFill>
                <a:latin typeface="Arial"/>
              </a:rPr>
              <a:t> This canvas displays an overview of layers that are turned on in the map canvas. It is used for locating certain features because it displays the extent of the entire map with a red rectangle outlining the present view if the user has zoomed in or panned the map to a particular loc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br>
              <a:rPr sz="1200"/>
            </a:br>
            <a:r>
              <a:rPr b="0" lang="en-GB" sz="1200" spc="-1" strike="noStrike">
                <a:solidFill>
                  <a:srgbClr val="000000"/>
                </a:solidFill>
                <a:latin typeface="Arial"/>
              </a:rPr>
              <a:t>4 -Toolbar:  The toolbar is home to the different tools that are provided with the Quantum GIS software package. The function of each of these tools will be explained in greater detail in the following sec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 </a:t>
            </a:r>
            <a:r>
              <a:rPr b="0" lang="en-GB" sz="1200" spc="-1" strike="noStrike">
                <a:solidFill>
                  <a:srgbClr val="000000"/>
                </a:solidFill>
                <a:latin typeface="Arial"/>
              </a:rPr>
              <a:t>Map coordinates:</a:t>
            </a:r>
            <a:r>
              <a:rPr b="1" lang="en-GB" sz="1200" spc="-1" strike="noStrike">
                <a:solidFill>
                  <a:srgbClr val="000000"/>
                </a:solidFill>
                <a:latin typeface="Arial"/>
              </a:rPr>
              <a:t>  </a:t>
            </a:r>
            <a:r>
              <a:rPr b="0" lang="en-GB" sz="1200" spc="-1" strike="noStrike">
                <a:solidFill>
                  <a:srgbClr val="000000"/>
                </a:solidFill>
                <a:latin typeface="Arial"/>
              </a:rPr>
              <a:t>This box displays the maps coordinates at any given location. The coordinates that are shown relate to the position of the mouse at any given time. Therefore, these numbers will always be changing when the cursor is mov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a:t>
            </a:r>
            <a:r>
              <a:rPr b="0" lang="en-GB" sz="1200" spc="-1" strike="noStrike">
                <a:solidFill>
                  <a:srgbClr val="000000"/>
                </a:solidFill>
                <a:latin typeface="Arial"/>
              </a:rPr>
              <a:t> Map scale:</a:t>
            </a:r>
            <a:r>
              <a:rPr b="1" lang="en-GB" sz="1200" spc="-1" strike="noStrike">
                <a:solidFill>
                  <a:srgbClr val="000000"/>
                </a:solidFill>
                <a:latin typeface="Arial"/>
              </a:rPr>
              <a:t>  </a:t>
            </a:r>
            <a:r>
              <a:rPr b="0" lang="en-GB" sz="1200" spc="-1" strike="noStrike">
                <a:solidFill>
                  <a:srgbClr val="000000"/>
                </a:solidFill>
                <a:latin typeface="Arial"/>
              </a:rPr>
              <a:t>This box displays the scale of the map. This will change whenever users zoom in or out. Users can set this manually by typing the desired scale into this box.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C5A5-8517-4299-8FE4-94D0A91D49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fer to the Handout for Trainee for a description of each of the tools included in the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E949-4871-4EEB-A1B8-8481E011A4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questions should be asked prior to using PGIS. Trainers should feel free to open up the floor to discussion at this point, allowing trainees the opportunity to draw out the pros and cons of using PGIS. Ask trainees to envision how they feel PGIS could be useful and empowering and the ways that PGIS could be disempowering for communities. How might practitioners caution against the potential negative aspects of PGI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CFEC-CB29-4F80-BBEC-02A600DF49F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F96C-FAFE-48AA-8188-55B83E9C71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epending on available resources, trainers may wish to demonstrate how a GPS is used.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7DB1-049E-4153-B809-0BC879E1642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lide provides an overview of the presentation. Trainers may wish to provide examples at the outset of this presentation of participatory GIS projects, emphasising its growing popularity.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B343-8EA5-49C6-B9F1-81A69AFA11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ch of these components will be explored throughout this Module using interactive exercises and tutorials.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3028-F6A1-4876-B277-BDAE4140F11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EAE1-CA6C-4CD0-9A56-889D6A8922B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have several examples of these functions ready. For example, presenters may wish to leave QGIS running in the background (i.e. behind their presentation) and switch over to this programme to show the difference between information that is presented on a map and that which is displayed textually (i.e. in an Attribute Table).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AC7E-9687-40AA-A0EC-D662805C283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Trainers may wish to leave QGIS running in the background and open it at this time to discuss the nature of “geospatial data”. Trainers should emphasise that points placed on a map can represent an unlimited number of things or events. For example, points could indicate a settlement, locations of medical facilities or incidents of violent crimes. Trainers may wish to allow for a moment of discussion, asking trainees to put forth ideas of what kind of information could be displayed and analysed using a GIS. Trainers may wish to have a volunteer write these ideas on a large sheet of paper or a white boar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C2EF-85AC-4B32-8B47-64E8183AA86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visit (or may wish to direct trainees towards) the Geospatial Resource Portal, located at http://www.gisdevelopment.net/tutorials/tuman006b.ht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6571-1F5A-4169-B799-1B16A13B8F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can demonstrate the difference between points, lines and polygons using the sample data and QGIS.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F122-EAB8-4647-A49E-E73320DE855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walk through the process of opening different layers, turning layers on and off and rearranging the order of data layers. Trainees may not realise that each layer is actually its own file that needs to be opened independently. </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A3FD-9532-41AE-9D01-7E78836329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A1D605-4E90-4251-B5DB-C2EDB57759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D1E355B6-C7AA-45BB-82FC-6A71FA9F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B4BE9C21-0315-4E00-AA91-F2077E4E8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7C928103-0413-47E9-92DC-3F3B1FD130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11DEFEF-C366-47B3-A178-D97828E9D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1E6BE94-672F-4EBE-B61C-5F2631805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74AF0F33-73C7-42FE-941D-28707533C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46841AA-C28A-43FF-84E4-90DA0C883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58DC4CA-CC8E-4567-A774-95BD0E002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ADFEE33-03E0-4129-835A-71B86CBAC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20C95AF-C84F-40EA-B443-591621058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1605F51-B649-4381-9A88-E6E0F12D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7106DCA-B043-4F98-A3EF-C3069A0F6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91A6483-A28A-4355-B279-96921A6FD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091D563-C5DA-4CDA-A004-79CB4AFCC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58B31697-E170-40F8-872E-39CFE669BF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2EFB7F4-695B-4648-BD77-9A3A8987AC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37F554C9-2760-4338-9125-A8E11ECDD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9E785B7-0C19-4901-A345-64874858E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BBFD0C4F-95D7-4F63-920A-BECBA38C2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3767D695-62F0-4838-9A80-570B206F30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907B816-E96A-4E97-9E89-F60D50607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33B0D48-A3F4-4594-8B79-FA03FB18C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68EF659-3867-4B0F-8F69-F618C41398B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C726-067A-4670-A9F5-B0F8FFF4BA93}"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19D0-A622-4829-A540-D7CD8988153D}"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to GIS for the Purpose of Practising PGIS</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troduction to GIS</a:t>
            </a:r>
            <a:endParaRPr b="0" lang="en-US" sz="3200" spc="-1" strike="noStrike">
              <a:solidFill>
                <a:srgbClr val="5f5f5f"/>
              </a:solidFill>
              <a:latin typeface="Arial"/>
            </a:endParaRPr>
          </a:p>
        </p:txBody>
      </p:sp>
      <p:sp>
        <p:nvSpPr>
          <p:cNvPr id="92" name="Rectangle 4"/>
          <p:cNvSpPr/>
          <p:nvPr/>
        </p:nvSpPr>
        <p:spPr>
          <a:xfrm>
            <a:off x="2559240" y="501336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2U01</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Quantum GIS</a:t>
            </a:r>
            <a:endParaRPr b="0" lang="en-US" sz="4400" spc="-1" strike="noStrike">
              <a:solidFill>
                <a:srgbClr val="cc3300"/>
              </a:solidFill>
              <a:latin typeface="Arial"/>
            </a:endParaRPr>
          </a:p>
        </p:txBody>
      </p:sp>
      <p:sp>
        <p:nvSpPr>
          <p:cNvPr id="114"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pen sourc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freely availab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pported by a community of programmers and technician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r-friendly</a:t>
            </a:r>
            <a:endParaRPr b="0" lang="en-US" sz="32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5" name="Picture 6" descr=""/>
          <p:cNvPicPr/>
          <p:nvPr/>
        </p:nvPicPr>
        <p:blipFill>
          <a:blip r:embed="rId1"/>
          <a:stretch/>
        </p:blipFill>
        <p:spPr>
          <a:xfrm>
            <a:off x="4357800" y="4214880"/>
            <a:ext cx="3889440" cy="1143000"/>
          </a:xfrm>
          <a:prstGeom prst="rect">
            <a:avLst/>
          </a:prstGeom>
          <a:ln w="9360">
            <a:solidFill>
              <a:srgbClr val="000000"/>
            </a:solidFill>
            <a:miter/>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c3300"/>
                </a:solidFill>
                <a:latin typeface="Arial"/>
              </a:rPr>
              <a:t>The graphical user interface (GUI)</a:t>
            </a:r>
            <a:endParaRPr b="0" lang="en-US" sz="4000" spc="-1" strike="noStrike">
              <a:solidFill>
                <a:srgbClr val="cc33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implifying interactions with softw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lickable symbol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ext</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nderstanding GUI functions is an important part of learning GIS</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he graphical user interface</a:t>
            </a:r>
            <a:endParaRPr b="0" lang="en-US" sz="4400" spc="-1" strike="noStrike">
              <a:solidFill>
                <a:srgbClr val="cc3300"/>
              </a:solidFill>
              <a:latin typeface="Arial"/>
            </a:endParaRPr>
          </a:p>
        </p:txBody>
      </p:sp>
      <p:pic>
        <p:nvPicPr>
          <p:cNvPr id="119" name="Picture 5" descr=""/>
          <p:cNvPicPr/>
          <p:nvPr/>
        </p:nvPicPr>
        <p:blipFill>
          <a:blip r:embed="rId1"/>
          <a:stretch/>
        </p:blipFill>
        <p:spPr>
          <a:xfrm>
            <a:off x="1309680" y="1500120"/>
            <a:ext cx="6620040" cy="453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he toolbar</a:t>
            </a:r>
            <a:endParaRPr b="0" lang="en-US" sz="4400" spc="-1" strike="noStrike">
              <a:solidFill>
                <a:srgbClr val="cc3300"/>
              </a:solidFill>
              <a:latin typeface="Arial"/>
            </a:endParaRPr>
          </a:p>
        </p:txBody>
      </p:sp>
      <p:pic>
        <p:nvPicPr>
          <p:cNvPr id="121" name="Picture 2" descr=""/>
          <p:cNvPicPr/>
          <p:nvPr/>
        </p:nvPicPr>
        <p:blipFill>
          <a:blip r:embed="rId1"/>
          <a:stretch/>
        </p:blipFill>
        <p:spPr>
          <a:xfrm>
            <a:off x="330120" y="2857680"/>
            <a:ext cx="8528040" cy="928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articipatory mapping and GIS</a:t>
            </a:r>
            <a:endParaRPr b="0" lang="en-US" sz="4400" spc="-1" strike="noStrike">
              <a:solidFill>
                <a:srgbClr val="cc33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es GIS fit with the community’s vis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es GIS directly address mapping nee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s GIS anti-participator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xpertise requir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y require technicians from outside the community</a:t>
            </a:r>
            <a:endParaRPr b="0" lang="en-US" sz="28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articipatory mapping and GIS</a:t>
            </a:r>
            <a:endParaRPr b="0" lang="en-US" sz="4400" spc="-1" strike="noStrike">
              <a:solidFill>
                <a:srgbClr val="cc33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actitioners of participatory development should avoid technologies that ar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omplex</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xpensiv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ime-consuming</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y, however, still be usefu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t>
            </a:r>
            <a:r>
              <a:rPr b="0" lang="en-CA" sz="3200" spc="-1" strike="noStrike">
                <a:solidFill>
                  <a:srgbClr val="5f5f5f"/>
                </a:solidFill>
                <a:latin typeface="Arial"/>
              </a:rPr>
              <a:t>Chauffeur-driven” system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7" descr="File:GPS menu.jpg"/>
          <p:cNvPicPr/>
          <p:nvPr/>
        </p:nvPicPr>
        <p:blipFill>
          <a:blip r:embed="rId1"/>
          <a:stretch/>
        </p:blipFill>
        <p:spPr>
          <a:xfrm>
            <a:off x="6659640" y="2205000"/>
            <a:ext cx="2190600" cy="2921040"/>
          </a:xfrm>
          <a:prstGeom prst="rect">
            <a:avLst/>
          </a:prstGeom>
          <a:ln w="9360">
            <a:solidFill>
              <a:srgbClr val="000000"/>
            </a:solidFill>
            <a:miter/>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PS</a:t>
            </a:r>
            <a:endParaRPr b="0" lang="en-US" sz="4400" spc="-1" strike="noStrike">
              <a:solidFill>
                <a:srgbClr val="cc3300"/>
              </a:solidFill>
              <a:latin typeface="Arial"/>
            </a:endParaRPr>
          </a:p>
        </p:txBody>
      </p:sp>
      <p:sp>
        <p:nvSpPr>
          <p:cNvPr id="128" name=""/>
          <p:cNvSpPr txBox="1"/>
          <p:nvPr/>
        </p:nvSpPr>
        <p:spPr>
          <a:xfrm>
            <a:off x="395280" y="1413000"/>
            <a:ext cx="662472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isplays points collected through a Global Positioning System (GPS)</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ptures coordinates of  locations of interest</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ints can be uploaded and displayed</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ful for depicting locations or boundar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articipatory GIS (P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ocumenting, presenting and protecting local knowled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at is a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presenting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Quantum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articipatory mapping and G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system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p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to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aly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nage; an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esent geographic dat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packages work wit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mote sens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and survey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erial photograph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databas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other tool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applications allow users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reate queri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alyse spatial inform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edit data and ma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esent result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formation can be presented:</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 a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 a textual form.</a:t>
            </a:r>
            <a:endParaRPr b="0" lang="en-US" sz="28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hat is a GIS?</a:t>
            </a:r>
            <a:endParaRPr b="0" lang="en-US" sz="4400" spc="-1" strike="noStrike">
              <a:solidFill>
                <a:srgbClr val="cc33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eospatial data:</a:t>
            </a:r>
            <a:endParaRPr b="0" lang="en-US" sz="32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formation related to a location that can be expressed using coordinates</a:t>
            </a:r>
            <a:endParaRPr b="0" lang="en-US" sz="28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IS can be used for:</a:t>
            </a:r>
            <a:endParaRPr b="0" lang="en-US" sz="32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reating map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visualising the relationship between places and event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earching for geospatial associations</a:t>
            </a:r>
            <a:endParaRPr b="0" lang="en-US" sz="2800" spc="-1" strike="noStrike">
              <a:solidFill>
                <a:srgbClr val="5f5f5f"/>
              </a:solidFill>
              <a:latin typeface="Arial"/>
            </a:endParaRPr>
          </a:p>
          <a:p>
            <a:pPr lvl="1" marL="727920" indent="-280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alysing geospatial dat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Representing data</a:t>
            </a:r>
            <a:endParaRPr b="0" lang="en-US" sz="4400" spc="-1" strike="noStrike">
              <a:solidFill>
                <a:srgbClr val="cc3300"/>
              </a:solidFill>
              <a:latin typeface="Arial"/>
            </a:endParaRPr>
          </a:p>
        </p:txBody>
      </p:sp>
      <p:sp>
        <p:nvSpPr>
          <p:cNvPr id="106" name=""/>
          <p:cNvSpPr txBox="1"/>
          <p:nvPr/>
        </p:nvSpPr>
        <p:spPr>
          <a:xfrm>
            <a:off x="457200" y="17600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Kinds of questions that GIS can answe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is located at a given poi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kinds of changes have occurr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kinds of patterns exis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What would happen if some kind of a change were to occur?</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oints, lines and polygons</a:t>
            </a:r>
            <a:endParaRPr b="0" lang="en-US" sz="4400" spc="-1" strike="noStrike">
              <a:solidFill>
                <a:srgbClr val="cc3300"/>
              </a:solidFill>
              <a:latin typeface="Arial"/>
            </a:endParaRPr>
          </a:p>
        </p:txBody>
      </p:sp>
      <p:sp>
        <p:nvSpPr>
          <p:cNvPr id="108" name=""/>
          <p:cNvSpPr txBox="1"/>
          <p:nvPr/>
        </p:nvSpPr>
        <p:spPr>
          <a:xfrm>
            <a:off x="200160" y="1332000"/>
            <a:ext cx="8229600" cy="4525920"/>
          </a:xfrm>
          <a:prstGeom prst="rect">
            <a:avLst/>
          </a:prstGeom>
          <a:noFill/>
          <a:ln w="0">
            <a:noFill/>
          </a:ln>
        </p:spPr>
        <p:txBody>
          <a:bodyPr anchor="t">
            <a:normAutofit fontScale="92000"/>
          </a:bodyPr>
          <a:p>
            <a:pPr marL="315360" indent="-3153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Point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one spot on a map</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represent exact locations</a:t>
            </a:r>
            <a:endParaRPr b="0" lang="en-US" sz="2400" spc="-1" strike="noStrike">
              <a:solidFill>
                <a:srgbClr val="5f5f5f"/>
              </a:solidFill>
              <a:latin typeface="Arial"/>
            </a:endParaRPr>
          </a:p>
          <a:p>
            <a:pPr marL="315360" indent="-3153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Line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string of point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can be measured </a:t>
            </a:r>
            <a:endParaRPr b="0" lang="en-US" sz="2400" spc="-1" strike="noStrike">
              <a:solidFill>
                <a:srgbClr val="5f5f5f"/>
              </a:solidFill>
              <a:latin typeface="Arial"/>
            </a:endParaRPr>
          </a:p>
          <a:p>
            <a:pPr lvl="1" marL="6832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	</a:t>
            </a:r>
            <a:r>
              <a:rPr b="0" lang="en-CA" sz="2400" spc="-1" strike="noStrike">
                <a:solidFill>
                  <a:srgbClr val="5f5f5f"/>
                </a:solidFill>
                <a:latin typeface="Arial"/>
              </a:rPr>
              <a:t>for distance</a:t>
            </a:r>
            <a:endParaRPr b="0" lang="en-US" sz="2400" spc="-1" strike="noStrike">
              <a:solidFill>
                <a:srgbClr val="5f5f5f"/>
              </a:solidFill>
              <a:latin typeface="Arial"/>
            </a:endParaRPr>
          </a:p>
          <a:p>
            <a:pPr marL="315360" indent="-3153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Polygons</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enclosed area</a:t>
            </a:r>
            <a:endParaRPr b="0" lang="en-US" sz="2400" spc="-1" strike="noStrike">
              <a:solidFill>
                <a:srgbClr val="5f5f5f"/>
              </a:solidFill>
              <a:latin typeface="Arial"/>
            </a:endParaRPr>
          </a:p>
          <a:p>
            <a:pPr lvl="1" marL="683280" indent="-2628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defined by often</a:t>
            </a:r>
            <a:endParaRPr b="0" lang="en-US" sz="2400" spc="-1" strike="noStrike">
              <a:solidFill>
                <a:srgbClr val="5f5f5f"/>
              </a:solidFill>
              <a:latin typeface="Arial"/>
            </a:endParaRPr>
          </a:p>
          <a:p>
            <a:pPr lvl="1" marL="6832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5f5f5f"/>
                </a:solidFill>
                <a:latin typeface="Arial"/>
              </a:rPr>
              <a:t> </a:t>
            </a:r>
            <a:r>
              <a:rPr b="0" lang="en-CA" sz="2400" spc="-1" strike="noStrike">
                <a:solidFill>
                  <a:srgbClr val="5f5f5f"/>
                </a:solidFill>
                <a:latin typeface="Arial"/>
              </a:rPr>
              <a:t>	</a:t>
            </a:r>
            <a:r>
              <a:rPr b="0" lang="en-CA" sz="2400" spc="-1" strike="noStrike">
                <a:solidFill>
                  <a:srgbClr val="5f5f5f"/>
                </a:solidFill>
                <a:latin typeface="Arial"/>
              </a:rPr>
              <a:t>complex boundaries</a:t>
            </a:r>
            <a:endParaRPr b="0" lang="en-US" sz="2400" spc="-1" strike="noStrike">
              <a:solidFill>
                <a:srgbClr val="5f5f5f"/>
              </a:solidFill>
              <a:latin typeface="Arial"/>
            </a:endParaRPr>
          </a:p>
          <a:p>
            <a:pPr lvl="2" marL="1051560" indent="-210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lvl="2" marL="1051560" indent="-210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09" name="Picture 6" descr=""/>
          <p:cNvPicPr/>
          <p:nvPr/>
        </p:nvPicPr>
        <p:blipFill>
          <a:blip r:embed="rId1"/>
          <a:stretch/>
        </p:blipFill>
        <p:spPr>
          <a:xfrm>
            <a:off x="3876840" y="2708280"/>
            <a:ext cx="5087880" cy="340056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Data layers</a:t>
            </a:r>
            <a:endParaRPr b="0" lang="en-US" sz="4400" spc="-1" strike="noStrike">
              <a:solidFill>
                <a:srgbClr val="cc33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eatures are displayed through data lay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ntain thematic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yers can b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urned on or off</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laced on top of or below </a:t>
            </a:r>
            <a:endParaRPr b="0" lang="en-US" sz="2800" spc="-1" strike="noStrike">
              <a:solidFill>
                <a:srgbClr val="5f5f5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	</a:t>
            </a:r>
            <a:r>
              <a:rPr b="0" lang="en-CA" sz="2800" spc="-1" strike="noStrike">
                <a:solidFill>
                  <a:srgbClr val="5f5f5f"/>
                </a:solidFill>
                <a:latin typeface="Arial"/>
              </a:rPr>
              <a:t>one another</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ultiple layers can be open at one time</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2" name="Picture 6" descr=""/>
          <p:cNvPicPr/>
          <p:nvPr/>
        </p:nvPicPr>
        <p:blipFill>
          <a:blip r:embed="rId1"/>
          <a:stretch/>
        </p:blipFill>
        <p:spPr>
          <a:xfrm>
            <a:off x="5857920" y="2214720"/>
            <a:ext cx="2090520" cy="3139920"/>
          </a:xfrm>
          <a:prstGeom prst="rect">
            <a:avLst/>
          </a:prstGeom>
          <a:ln w="936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orbett and Kasondra White</dc:creator>
  <dc:description/>
  <dc:language>en-US</dc:language>
  <cp:lastModifiedBy>martens</cp:lastModifiedBy>
  <dcterms:modified xsi:type="dcterms:W3CDTF">2010-01-12T14:26:14Z</dcterms:modified>
  <cp:revision>2</cp:revision>
  <dc:subject/>
  <dc:title>Introduction to GIS for the Purpose of Practising PG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ContentTypeId">
    <vt:lpwstr>0x010100524DE4F4C995CC49A2E3EBF903E298A700444F003324912E469596FEA97841A527</vt:lpwstr>
  </property>
  <property fmtid="{D5CDD505-2E9C-101B-9397-08002B2CF9AE}" pid="7" name="Keywords">
    <vt:lpwstr/>
  </property>
  <property fmtid="{D5CDD505-2E9C-101B-9397-08002B2CF9AE}" pid="8" name="Slides">
    <vt:lpwstr>16</vt:lpwstr>
  </property>
  <property fmtid="{D5CDD505-2E9C-101B-9397-08002B2CF9AE}" pid="9" name="Subject">
    <vt:lpwstr/>
  </property>
  <property fmtid="{D5CDD505-2E9C-101B-9397-08002B2CF9AE}" pid="10" name="_Author">
    <vt:lpwstr/>
  </property>
  <property fmtid="{D5CDD505-2E9C-101B-9397-08002B2CF9AE}" pid="11" name="_Category">
    <vt:lpwstr/>
  </property>
  <property fmtid="{D5CDD505-2E9C-101B-9397-08002B2CF9AE}" pid="12" name="_Comments">
    <vt:lpwstr/>
  </property>
</Properties>
</file>