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3AD-46B9-4ADD-AC3C-E6547C332F8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E5A-84EA-4DEF-9646-C6E300C9404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051F-2677-41CA-91DA-E84E302525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 from GIS Core Curriculum for Technical Programmes. Written by Lesley-Ann Dupigny-Giroux,Geography Department, University of Vermont. Trainers may wish to refer to this re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F5FB-B0E6-4C1A-9288-72553BE021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iners may wish to open QGIS and demonstrate the process of creating and editing a new layer. Following this, trainers could invite trainees to discuss when on-screen digitising would be usefu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D632-2C58-49E5-B1CF-7BAD49743BF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C4E6-4865-46E9-A949-C4B576D08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81E5-677B-4915-B2E1-B4CED58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B16D-9798-4ACB-AAE5-9095D81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AC81-0696-4D04-8F20-EC22A912A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CF7D9-2A18-4568-A854-0BF94E98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0B8B-59E5-4C0D-BBF3-9ED8B35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68CF-E369-4344-B230-0004DBBD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ACA33-EEB4-40B2-A7FE-34FEF2D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A29CB-E8CD-4CFC-A023-AA69717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2F37F-BB03-4571-82AD-3C480E3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F5BA-6E8F-4363-9A20-FE24ECB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0BAA-806C-4E65-A35C-A83A1227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52363-BA79-4F24-BF6A-FCE015E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67255-2638-4FEF-B60A-F51A86F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AF328-C790-40CB-86D2-BDC6F62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58776-102A-44FF-8DA5-2DEBD937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3F0C-A4A7-43DE-B24C-FC38B5D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4D8A-DA3A-4C9C-8BAC-761AF66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7167-9883-4976-8F64-2766541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BC27-7D7A-4C56-B8AE-53AD5E97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445A-E0CC-4351-85BF-01E80F53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FD53-A0F7-4B87-A1B6-975BBC86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9F1C-44C4-40FF-B0F3-9AA4833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2C56-2E11-4B76-BC94-B1AABE0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A44-5250-44A4-9FF8-DFAFABAE303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886B-0AB0-420E-8CF0-5E915B5F7C3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 to GIS for the Purpose of Practising PG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n-screen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59240" y="48690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69696"/>
                </a:solidFill>
                <a:latin typeface="Arial"/>
              </a:rPr>
              <a:t>By: Jon Corbett and Kasondra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f5f5f"/>
                </a:solidFill>
                <a:latin typeface="Arial"/>
              </a:rPr>
              <a:t>Unit: M12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 process of extracting spatial features from a digital imag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se inclu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scanned map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aeri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digit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ful for turning data into georeferenced map lay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onverting a paper map into a digital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Incorporating this into a GI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so known as geocod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Points, linear features and areas often employ manual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ssociating coordinates and topographical dat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n-screen 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aptures data from digital images using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Grants a higher level of accurac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lows for editing of featu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r creates the layer on the screen with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Referenced information as a backgroun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0:34:05Z</dcterms:created>
  <dc:creator>Jon Corbett and KasondraWhite</dc:creator>
  <dc:description/>
  <dc:language>en-US</dc:language>
  <cp:lastModifiedBy>martens</cp:lastModifiedBy>
  <dcterms:modified xsi:type="dcterms:W3CDTF">2010-01-12T15:27:21Z</dcterms:modified>
  <cp:revision>20</cp:revision>
  <dc:subject/>
  <dc:title>Presentation - On Screen Digitiz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/>
  </property>
  <property fmtid="{D5CDD505-2E9C-101B-9397-08002B2CF9AE}" pid="7" name="Slides">
    <vt:lpwstr>4</vt:lpwstr>
  </property>
  <property fmtid="{D5CDD505-2E9C-101B-9397-08002B2CF9AE}" pid="8" name="Subject">
    <vt:lpwstr/>
  </property>
  <property fmtid="{D5CDD505-2E9C-101B-9397-08002B2CF9AE}" pid="9" name="_Author">
    <vt:lpwstr>Kasondr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