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EF8C-A0C7-421D-BAF8-FA6659A7FF79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0D61-294F-4247-851B-0DCD1403AF9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E8FE-DB08-4D01-A9C6-F3B0D582E27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ed from GIS Core Curriculum for Technical Programmes. Written by Lesley-Ann Dupigny-Giroux,Geography Department, University of Vermont. Trainers may wish to refer to this resour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76ED-87EB-4DBF-9CEF-E8E47D90383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iners may wish to open QGIS and demonstrate the process of creating and editing a new layer. Following this, trainers could invite trainees to discuss when on-screen digitising would be usefu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645E-A69E-4133-A565-22AF208DB4E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B719E-7317-456B-9BC6-53D40271CD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B35C-E046-498E-A410-C1959504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83B33-20A3-4BD7-B89E-6CA047DE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9C83-0C28-4EED-AB56-75B0507677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C39CA-7041-43CB-9ABF-ACB89F9C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E602E-87DC-49C4-94C9-CDFCAC9F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A4CC5-39C1-4FD1-8D6F-0A7E16A9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416D1-DA41-4AA3-926C-75A9A5B1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75748-5650-41E4-8D3A-076D3177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BD092-5040-4870-8BDD-DB1949F6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F372F-AA6B-4B46-9F7E-E13E0B43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0DF2B-E492-4278-BB52-8E9A48B6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B7AAF-EAAD-413B-875F-615C8EB4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568A0-4AF1-4FEA-94E5-0F7FD32B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E0DC6-B256-4EFD-AB14-BA111422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99CA6-6F63-414B-92D1-271743A5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6F27B-11AB-49FA-B8DE-702F723F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F8B83-0711-4B78-A5EA-AE558A91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3403B-44A6-4F33-B603-7456BA03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A7A63-527A-4D67-81EC-5288915C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6BFD-BA49-4327-8093-2E82E2E5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7402-5965-4C2F-8493-D1DD9319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677D9-E1CE-4F77-BA33-92433974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75FF-03D9-4CEF-A48F-2547425B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965C-FC79-4BF7-8420-1484303DE32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B60E-B473-4406-AAE9-AFA4E5DFEDB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roduction to GIS for the Purpose of Practising PGI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On-screen Digitis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559240" y="4869000"/>
            <a:ext cx="38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69696"/>
                </a:solidFill>
                <a:latin typeface="Arial"/>
              </a:rPr>
              <a:t>By: Jon Corbett and Kasondra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5f5f5f"/>
                </a:solidFill>
                <a:latin typeface="Arial"/>
              </a:rPr>
              <a:t>Unit: M12U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The process of extracting spatial features from a digital imag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These includ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5f5f5f"/>
                </a:solidFill>
                <a:latin typeface="Arial"/>
              </a:rPr>
              <a:t>scanned map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5f5f5f"/>
                </a:solidFill>
                <a:latin typeface="Arial"/>
              </a:rPr>
              <a:t>aerial photograph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5f5f5f"/>
                </a:solidFill>
                <a:latin typeface="Arial"/>
              </a:rPr>
              <a:t>digital photograph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Useful for turning data into georeferenced map laye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Digitis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Converting a paper map into a digital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Incorporating this into a GI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Also known as geocod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Points, linear features and areas often employ manual digitis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Associating coordinates and topographical dat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On-screen digitis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Captures data from digital images using the mous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Grants a higher level of accuracy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Allows for editing of featur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User creates the layer on the screen with the mous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Referenced information as a background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00:34:05Z</dcterms:created>
  <dc:creator>Jon Corbett and KasondraWhite</dc:creator>
  <dc:description/>
  <dc:language>en-US</dc:language>
  <cp:lastModifiedBy>martens</cp:lastModifiedBy>
  <dcterms:modified xsi:type="dcterms:W3CDTF">2010-01-12T15:27:21Z</dcterms:modified>
  <cp:revision>20</cp:revision>
  <dc:subject/>
  <dc:title>Presentation - On Screen Digitiz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/>
  </property>
  <property fmtid="{D5CDD505-2E9C-101B-9397-08002B2CF9AE}" pid="7" name="Slides">
    <vt:lpwstr>4</vt:lpwstr>
  </property>
  <property fmtid="{D5CDD505-2E9C-101B-9397-08002B2CF9AE}" pid="8" name="Subject">
    <vt:lpwstr/>
  </property>
  <property fmtid="{D5CDD505-2E9C-101B-9397-08002B2CF9AE}" pid="9" name="_Author">
    <vt:lpwstr>Kasondra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