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CD32-5A6F-46BF-879B-AFBA838BA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mas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rm “mashup” refers to the process of combining information from multiple Web-based applications to create a new product. An example of a mashup would be taking photos stored in an online Web album and integrating them, along with any data that may have been attributed to them, into a map created using different Web-based tools. Data are integrated into mapping tools by defining points, lines or polygons and associating the information with these place 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hups are used for many different purposes. They can be used by advertisers who wish to demonstrate the locations of and sales offered at retail centres, by health practitioners merging data regarding the incidence of illnesses with geographic data or by employment agencies wishing to spatialise their job listings. For the purposes of participatory mapping, they could be used to link items such as videos, blogs and photos to a geographic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4B3A-06E6-4A90-9BAA-01B97DD6A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ogle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gle Maps is a Web-based application that was originally designed primarily to allow users to search for geographic points and features and plan routes between locations. However, with the addition of a ‘My Maps’ feature, users are now able to create data layers and share them with one another. Users are able to link to Web-based data storage tools, such as Picasa Web Albums or YouTube, and attribute a spatial location to information that they have stored on these websites. Users can choose whether the maps they create should be public or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gle Maps can be used in conjunction with Google Earth (which is discussed below) and any maps that are created using Google Maps can be viewed i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5723-7E25-435A-96CC-B069252D4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ogl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gle Earth is a program that can be downloaded which displays a virtual globe that is comprised of satellite imagery. While images displayed in Google Earth are generally two-dimensional, there are a number of areas where three-dimensional imagery is also available. The resolution of the images varies among areas, with higher populated or frequently visited areas generally appearing at a higher re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number of data layers are included with Google Earth, such as roads, places of interest, weather information and photos and videos sent in by users. Users also are able to create and save points to which they can attach information using a kind of file called a “.kml file”. These kinds of files are used to save the information that map makers add to Google Earth and also allow users to display information that was created in other programs in Google Earth. For example, some GIS programs now allow users to save data as .kml files, which can subsequently be viewed i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087F-DF49-46B6-80E5-E92D3C33D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ogle Sketc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gle SketchUp is software that allows users to create three-dimensional models of features such as buildings, parks or furniture. These models can be integrated with Google Earth by associating them with a geographic location and then saving them as a .kml file. Google SketchUp is particularly useful for adding features that do not appear clearly within Google Maps or Google Earth, but that would be of interest to the map-making community. It is also a useful tool for modelling proposed features (e.g. a community centre or fire hall) that do not ye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79FD-47F7-4ED8-ADDD-2784EBA70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ikim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kimapia is an online map that users are able to edit. A wiki is a series of Web pages to which users can add content or modify the content that has been added by past users. Wikimapia draws upon this process by allowing users to contribute textual information, including links to other websites, to geographic locations that are broken down into a series of boxes. Users are also responsible for creating the boxes that represent various places. Wikimapia stores and displays information associated with locations all around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20FA-66A5-4D59-8D93-B56401B6E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SA Wor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 to Google Earth, NASA World Wind is a viewer that can be used to zoom in to various features of the Earth’s surface. In addition to being able to view the Earth’s surface, users can also view the moon, Venus, Mars, Neptune and the stars and galaxies of the night sky. NASA World Wind is open-source software. Data that are available in NASA World Wind can be extracted and used in other mapping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orld Wind project closed in 2008; however, the software remains operational.</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79B3-0E97-4E2B-9B17-F152139AA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casa Web Alb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asa Web Albums is an online photo-sharing application that allows users to create and organise photo albums. The photo albums, or individual photographs from the albums, can be made public or kept private. If users choose to keep their albums private, then they have the option of sharing them with only those users who they select. Picasa Web Albums can be used in conjunction with Web-based mapping tools (such as Google Maps) by linking photos stored in albums with geographic locations and displaying these through the mapping applications. Users also are able to spatialise their photos directly through Picasa Web Albums by selecting a photo location which will be displayed alongside the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B91A-E63A-44FB-9FE3-10DF637D6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u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Tube is an online video-sharing community. Users can upload videos that they have created and share videos with other users. Also, users can comment on videos that are being displayed. Users may choose whether they would like to keep their videos private or display them publicly, as with Picasa Web Albums. Videos that have been added to YouTube can be embedded in maps created using Web-based mapping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377B-D80A-4C66-8C54-2DEC157C6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 more information and services are available on the Internet than ever. Once a tool that was largely unavailable to the general public, the Internet is now much more accessible to communities and individual users all over the world. Not only has usage increased, but the way the Internet is being used also has changed considerably since its early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se changes is the evolution of what has been termed the “Geospatial Web” (or GeoWeb), representing the fusion of geography with the different types of information and expressions of knowledge that are being or could be displayed on the Internet. With the emergence of the GeoWeb, any Internet user is now able to spatialise and share content such as personal blogs, photographs or vide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will provide an introduction to Web-based mapping, using the tools of the GeoWeb, for the purposes of participatory development. It will explore the capabilities of the GeoWeb, including some of the benefits associated with using these tools, and provide an introduction to some of the online mapping tools that ar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6413-8667-4359-8F32-3B25E3B75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ospatial Web is one component of what has often been called  the “Web 2.0”. This term refers to what many perceive to be a second wave, or evolution, of the Internet in which it has become more interactive, allowing users to contribute their own content more easily, communicate and collaborate with one another and draw upon Web-based applications for a variety of needs, such as sharing or displaying files. This differs from earlier models of the Internet, in which the average users generally would use the Web to retrieve information, seldom contributing content of their own. Some examples of Web 2.0 technologies include blogs, wikis, photo management and sharing applications (e.g. Flickr, Picasa Web Albums), social networking sites (e.g. My Space, Facebook) and video-sharing applications (e.g. You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CB2D-DB4A-4BFA-A584-B3BA55410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sing the Internet to enhanc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net can be used to enhance community by bringing citizens together via online forums, such as discussion boards, instant messaging, social networking services, or photo sharing Web-sites. Particularly when working with dispersed communities, the Internet as it exists today has the capacity to bring together citizens who share cultural characteristics and/or areas of origin. This can be useful when attempting to establish rights to territories or traditional land use practices that may have been interrupted, and that community members are seeking to re-establish. This is also useful for creating knowledge about and preserving various cultural practices that may be lost when communities dissol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F3C8-E6BE-4EA2-B1E4-3B43B0A9A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tion and the Geospatial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Web-based mapping tools are recognised as having a number of risks and limitations (this will be discussed in detail in Unit Three), they are often credited with allowing enhanced participation from community members interested in mapping various features of the local geography. Communities can use tools of the GeoWeb to upload their own content and link the content to points on a map. These maps can be saved, displayed and shared solely within the community or with the general public. Ultimately, an end product can be created and left in the hands of the community, with community members being responsible for adding or modifying content as they see 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D580-0C70-42C4-9AD9-ED9BB66B8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Web-based map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mmunity members use various Web-based mapping tools, they may be able to become more involved in map making and create an end product that is considered to be more locally satisfying. Web-based mapping, in certain instances, also may be more suitable for participatory mapping projects for reasons related to cost, the ease of using the technologies, the representativeness that is achieved and the access to dat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raditional GIS, cost has often been a major constraint for communities hoping to engage in local map making. However, many of the Web-based mapping tools that community members might use are now available for free online. Also, software that can be used with these Web-based tools is now much more accessible to potential map makers due to the proliferation of open-source software. Previously, these tools could have taken up a substantial portion of a project’s budge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since the map can be maintained by community members and the data that are being displayed and shared are now stored freely online, it is no longer necessary to spend large sums of money to hire professionals to work with and house the dat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ertain components of Web-based map making may be available at a substantially lower cost than conventional methods (such as GIS), there are still costs associated with this technique. These include fees for upgraded versions of Web-based applications or the need to hire professionals when communities wish to create features that are beyond the capabilities of the freely available Web-based tool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se of u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rging tools of the GeoWeb are often considered to be easier to understand and use than many of the tools that map makers may have had to consult in the past. These tools are inherently more accessible to map makers who do not  understand complicated programs and operations since the target group for them is amateurs, as opposed to GIS technicians. With technologies that are easier to understand and use, the map making process becomes more democratic because more community members are able to get involved, unconstrained by a lack of familiarity with the tools being used. However, there are limits to the kinds of things that can be done using Web-based technologies and some expertise still may be required for certain oper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present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resentation of data refers not only to spatial accuracy, but also to how local knowledge is depicted in a way that is satisfying to community members and aligned with their knowledge systems. One benefit of using Web-based mapping tools is that many different types of data can be integrated easily into online maps using the numerous tools that are available. However, the available base maps may not reflect the ways that community members perceive their spaces and wish to express themselves. Furthermore, since these tools are free, maps are often outdated and inaccu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cess to dat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ing certain types of data has become easier because the amount of information that is available on the Internet has expanded. Basic maps, such as topographic maps or satellite images, are now widely available for free for many regions around the world. Furthermore, accessing items such as government documents or census data is often simpler than it once was because these often are stored online for fast and easy retrieval. While certain types of information are now more widely available, there are others that remain less accessible or that require cooperation with different partners, which often can be time-consuming or costly. Also, practitioners must be aware that the available data may not be up to da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49DC-31F5-4E8D-8F8C-31BA73474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o is the ‘exp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ospatial Web and Web 2.0 technologies, in general, are challenging the idea of the expert. They provide a forum for individual and community expression where local knowledge is recognised and becomes a central component of the map. It is not surprising that debate has emerged regarding the role of the expert, if indeed any one person may be called an expert. Certainly, nobody knows about their communities better than those who live within their boundaries. However, some individuals may be more qualified than others to understand certain features of the community (such as the functioning of the local hydrological system) and it is inevitable that disagreement will exist in some instances within the community as to who’s perspective is accurate and representative. Project facilitators must be aware of this possibility and may at times be required to mediate in order to work towards a product that is acceptable to the entire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639B-AFE0-4D37-BD97-CBB084D1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oWeb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makers can draw on the GeoWeb to create and integrate different features, which may in turn be mapped. Using Web-based tools, communities can engage in activities focused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atialising features: This includes creating maps or adding points, lines, polygons or other content (such as photos or  videos) to the map. These activities revolve around actually spatialising the features that are important to community members using tools that are available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nt management:  This includes uploading and organising content, such as photos and videos. This may also include features that allow community members or other contributors to comment on, modify and share content. When engaging in a mapping project, community members will want to draw upon content management applications that are easily integrated into mapping applications, such as Google Maps and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B90B-09C9-45A4-9BDF-95E812CA8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different tools exist on the Internet for creating, editing and storing content that communities may wish to map. The tools that are used will depend upon the needs and desires of community members. Communities working with Web-based tools will need to determ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eatures they would like to see mapp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content will be accepted for integration into the 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allowed to edit the map and to what deg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done with the end product and where will it b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nformation that is added to maps can be open to the general public, communities may wish to keep this information restricted, allowing access only to members. Generally, users of Web-based tools are able to determine their privacy settings and it is possible to create a forum where only those who are granted access will be able to comment upon, edit and add content to the map. </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3682-F4EB-4143-97A9-88C8C8E6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FE340-D978-43A6-A838-8A51AD3C2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10BB-D674-4A40-9ED9-C2E2915A3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249AD-F838-40FF-97C8-CBD385913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EAE1E-BA03-4F48-8A49-B9CFD3F62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A28000-066D-4A0F-A4C6-47A04F1A2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B7CC64-0083-4A4D-BA0F-72E44E620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603070-781E-4625-810A-5D265F4B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53199C-0125-4EDB-8DCF-470B9099E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D7AB08-1B35-4CE5-A07F-7A172A11D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F1241B-EBF1-4325-BB52-066DE07E1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C51F0C-A69A-458F-8665-01BEFB73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6953-A957-431C-A638-7572180B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AA54E2-F3E3-428B-A7E2-B3CCC6B3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5753DC-C95A-4C9B-93BA-81F2486D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0E9B7B-6A44-4479-A9B8-349B24222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CAFD5C-AFCB-4F1E-8416-6D2BE29E1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5D9CD1-F68D-4D89-88AA-9779928BF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EC65-759A-4FEA-9710-35968CE4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156E-1939-4292-B462-76EF5367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037A3-AC38-4A33-873D-1077905A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BB5E-0751-4FC6-95DC-26C58632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5CE9-8B58-45F7-B209-F5FE9857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B1B1-9669-4FCF-87B0-D5914FD9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B844-0A8A-454A-827E-1327B7B56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A142-4EA7-40EA-B83A-6AEBBF5EA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1915-805A-418A-BBE4-7A2EA2B52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Internet-based Mapping</a:t>
            </a:r>
            <a:endParaRPr b="0" lang="en-US" sz="4400" spc="-1" strike="noStrike">
              <a:solidFill>
                <a:srgbClr val="cc3300"/>
              </a:solidFill>
              <a:latin typeface="Arial"/>
            </a:endParaRPr>
          </a:p>
        </p:txBody>
      </p:sp>
      <p:sp>
        <p:nvSpPr>
          <p:cNvPr id="91" name="PlaceHolder 2"/>
          <p:cNvSpPr>
            <a:spLocks noGrp="1"/>
          </p:cNvSpPr>
          <p:nvPr>
            <p:ph type="subTitle"/>
          </p:nvPr>
        </p:nvSpPr>
        <p:spPr>
          <a:xfrm>
            <a:off x="1309680" y="384336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asics of Internet-based Mapping</a:t>
            </a:r>
            <a:endParaRPr b="0" lang="en-US" sz="3200" spc="-1" strike="noStrike">
              <a:solidFill>
                <a:srgbClr val="5f5f5f"/>
              </a:solidFill>
              <a:latin typeface="Arial"/>
            </a:endParaRPr>
          </a:p>
        </p:txBody>
      </p:sp>
      <p:sp>
        <p:nvSpPr>
          <p:cNvPr id="92" name="Rectangle 4"/>
          <p:cNvSpPr/>
          <p:nvPr/>
        </p:nvSpPr>
        <p:spPr>
          <a:xfrm>
            <a:off x="2645640" y="51055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3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he mashup</a:t>
            </a:r>
            <a:endParaRPr b="0" lang="en-US" sz="4400" spc="-1" strike="noStrike">
              <a:solidFill>
                <a:srgbClr val="cc3300"/>
              </a:solidFill>
              <a:latin typeface="Arial"/>
            </a:endParaRPr>
          </a:p>
        </p:txBody>
      </p:sp>
      <p:sp>
        <p:nvSpPr>
          <p:cNvPr id="11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ess of combining information from multiple Web-based applicat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is integrate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fining poin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fining lin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fining polyg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sociating information with these plac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Google Maps</a:t>
            </a:r>
            <a:endParaRPr b="0" lang="en-US" sz="4400" spc="-1" strike="noStrike">
              <a:solidFill>
                <a:srgbClr val="cc3300"/>
              </a:solidFill>
              <a:latin typeface="Arial"/>
            </a:endParaRPr>
          </a:p>
        </p:txBody>
      </p:sp>
      <p:sp>
        <p:nvSpPr>
          <p:cNvPr id="114" name=""/>
          <p:cNvSpPr txBox="1"/>
          <p:nvPr/>
        </p:nvSpPr>
        <p:spPr>
          <a:xfrm>
            <a:off x="456840" y="1500120"/>
            <a:ext cx="33526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a:r>
            <a:r>
              <a:rPr b="0" lang="en-US" sz="3200" spc="-1" strike="noStrike">
                <a:solidFill>
                  <a:srgbClr val="5f5f5f"/>
                </a:solidFill>
                <a:latin typeface="Arial"/>
              </a:rPr>
              <a:t>My Maps’ feature allows users to create data layers and share with one another</a:t>
            </a:r>
            <a:endParaRPr b="0" lang="en-US" sz="3200" spc="-1" strike="noStrike">
              <a:solidFill>
                <a:srgbClr val="5f5f5f"/>
              </a:solidFill>
              <a:latin typeface="Arial"/>
            </a:endParaRPr>
          </a:p>
        </p:txBody>
      </p:sp>
      <p:pic>
        <p:nvPicPr>
          <p:cNvPr id="115" name="Picture 2" descr=""/>
          <p:cNvPicPr/>
          <p:nvPr/>
        </p:nvPicPr>
        <p:blipFill>
          <a:blip r:embed="rId1"/>
          <a:stretch/>
        </p:blipFill>
        <p:spPr>
          <a:xfrm>
            <a:off x="4419720" y="2743200"/>
            <a:ext cx="3838320" cy="33433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16" name="Picture 5" descr=""/>
          <p:cNvPicPr/>
          <p:nvPr/>
        </p:nvPicPr>
        <p:blipFill>
          <a:blip r:embed="rId2"/>
          <a:stretch/>
        </p:blipFill>
        <p:spPr>
          <a:xfrm>
            <a:off x="5334120" y="1676520"/>
            <a:ext cx="2006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Google Earth</a:t>
            </a:r>
            <a:endParaRPr b="0" lang="en-US" sz="4400" spc="-1" strike="noStrike">
              <a:solidFill>
                <a:srgbClr val="cc3300"/>
              </a:solidFill>
              <a:latin typeface="Arial"/>
            </a:endParaRPr>
          </a:p>
        </p:txBody>
      </p:sp>
      <p:sp>
        <p:nvSpPr>
          <p:cNvPr id="118" name=""/>
          <p:cNvSpPr txBox="1"/>
          <p:nvPr/>
        </p:nvSpPr>
        <p:spPr>
          <a:xfrm>
            <a:off x="457200" y="1571760"/>
            <a:ext cx="51148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sed on satellite imagery</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rs can create and save points as a .kml file</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splaying data created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    </a:t>
            </a:r>
            <a:r>
              <a:rPr b="0" lang="en-CA" sz="3200" spc="-1" strike="noStrike">
                <a:solidFill>
                  <a:srgbClr val="5f5f5f"/>
                </a:solidFill>
                <a:latin typeface="Arial"/>
              </a:rPr>
              <a:t>with other programs</a:t>
            </a:r>
            <a:endParaRPr b="0" lang="en-US" sz="3200" spc="-1" strike="noStrike">
              <a:solidFill>
                <a:srgbClr val="5f5f5f"/>
              </a:solidFill>
              <a:latin typeface="Arial"/>
            </a:endParaRPr>
          </a:p>
        </p:txBody>
      </p:sp>
      <p:pic>
        <p:nvPicPr>
          <p:cNvPr id="119" name="Picture 2" descr=""/>
          <p:cNvPicPr/>
          <p:nvPr/>
        </p:nvPicPr>
        <p:blipFill>
          <a:blip r:embed="rId1"/>
          <a:stretch/>
        </p:blipFill>
        <p:spPr>
          <a:xfrm>
            <a:off x="6033960" y="2933640"/>
            <a:ext cx="2652840" cy="354348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0" name="Picture 5" descr=""/>
          <p:cNvPicPr/>
          <p:nvPr/>
        </p:nvPicPr>
        <p:blipFill>
          <a:blip r:embed="rId2"/>
          <a:stretch/>
        </p:blipFill>
        <p:spPr>
          <a:xfrm>
            <a:off x="6515280" y="99072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Google Sketch-Up</a:t>
            </a:r>
            <a:endParaRPr b="0" lang="en-US" sz="4400" spc="-1" strike="noStrike">
              <a:solidFill>
                <a:srgbClr val="cc3300"/>
              </a:solidFill>
              <a:latin typeface="Arial"/>
            </a:endParaRPr>
          </a:p>
        </p:txBody>
      </p:sp>
      <p:sp>
        <p:nvSpPr>
          <p:cNvPr id="122" name=""/>
          <p:cNvSpPr txBox="1"/>
          <p:nvPr/>
        </p:nvSpPr>
        <p:spPr>
          <a:xfrm>
            <a:off x="457200" y="1600200"/>
            <a:ext cx="556272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rs can create 3-D models of feature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dels can be integrated with Google Earth</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 adding features that do not show up on the map</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 modelling proposed features</a:t>
            </a:r>
            <a:endParaRPr b="0" lang="en-US" sz="3200" spc="-1" strike="noStrike">
              <a:solidFill>
                <a:srgbClr val="5f5f5f"/>
              </a:solidFill>
              <a:latin typeface="Arial"/>
            </a:endParaRPr>
          </a:p>
        </p:txBody>
      </p:sp>
      <p:pic>
        <p:nvPicPr>
          <p:cNvPr id="123" name="Picture 4" descr=""/>
          <p:cNvPicPr/>
          <p:nvPr/>
        </p:nvPicPr>
        <p:blipFill>
          <a:blip r:embed="rId1"/>
          <a:stretch/>
        </p:blipFill>
        <p:spPr>
          <a:xfrm>
            <a:off x="6324480" y="1752480"/>
            <a:ext cx="1905120" cy="685800"/>
          </a:xfrm>
          <a:prstGeom prst="rect">
            <a:avLst/>
          </a:prstGeom>
          <a:ln w="0">
            <a:noFill/>
          </a:ln>
        </p:spPr>
      </p:pic>
      <p:pic>
        <p:nvPicPr>
          <p:cNvPr id="124" name="Picture 5" descr=""/>
          <p:cNvPicPr/>
          <p:nvPr/>
        </p:nvPicPr>
        <p:blipFill>
          <a:blip r:embed="rId2"/>
          <a:stretch/>
        </p:blipFill>
        <p:spPr>
          <a:xfrm>
            <a:off x="5410080" y="28195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Wikimapia</a:t>
            </a:r>
            <a:endParaRPr b="0" lang="en-US" sz="4400" spc="-1" strike="noStrike">
              <a:solidFill>
                <a:srgbClr val="cc3300"/>
              </a:solidFill>
              <a:latin typeface="Arial"/>
            </a:endParaRPr>
          </a:p>
        </p:txBody>
      </p:sp>
      <p:sp>
        <p:nvSpPr>
          <p:cNvPr id="126" name=""/>
          <p:cNvSpPr txBox="1"/>
          <p:nvPr/>
        </p:nvSpPr>
        <p:spPr>
          <a:xfrm>
            <a:off x="380880" y="2057400"/>
            <a:ext cx="31147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ditable, online map</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lows users to contribute textual informatio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2" descr=""/>
          <p:cNvPicPr/>
          <p:nvPr/>
        </p:nvPicPr>
        <p:blipFill>
          <a:blip r:embed="rId1"/>
          <a:stretch/>
        </p:blipFill>
        <p:spPr>
          <a:xfrm>
            <a:off x="3429000" y="2666880"/>
            <a:ext cx="5376960" cy="314820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8" name="Picture 5" descr=""/>
          <p:cNvPicPr/>
          <p:nvPr/>
        </p:nvPicPr>
        <p:blipFill>
          <a:blip r:embed="rId2"/>
          <a:stretch/>
        </p:blipFill>
        <p:spPr>
          <a:xfrm>
            <a:off x="5105520" y="1905120"/>
            <a:ext cx="208260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ASA World Wind</a:t>
            </a:r>
            <a:endParaRPr b="0" lang="en-US" sz="4400" spc="-1" strike="noStrike">
              <a:solidFill>
                <a:srgbClr val="cc3300"/>
              </a:solidFill>
              <a:latin typeface="Arial"/>
            </a:endParaRPr>
          </a:p>
        </p:txBody>
      </p:sp>
      <p:sp>
        <p:nvSpPr>
          <p:cNvPr id="130" name=""/>
          <p:cNvSpPr txBox="1"/>
          <p:nvPr/>
        </p:nvSpPr>
        <p:spPr>
          <a:xfrm>
            <a:off x="457200" y="1428840"/>
            <a:ext cx="41148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viewer used to zoom to various features of the Earth’s surf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extracted and used elsewhere</a:t>
            </a:r>
            <a:endParaRPr b="0" lang="en-US" sz="3200" spc="-1" strike="noStrike">
              <a:solidFill>
                <a:srgbClr val="5f5f5f"/>
              </a:solidFill>
              <a:latin typeface="Arial"/>
            </a:endParaRPr>
          </a:p>
        </p:txBody>
      </p:sp>
      <p:pic>
        <p:nvPicPr>
          <p:cNvPr id="131" name="Picture 2" descr=""/>
          <p:cNvPicPr/>
          <p:nvPr/>
        </p:nvPicPr>
        <p:blipFill>
          <a:blip r:embed="rId1"/>
          <a:stretch/>
        </p:blipFill>
        <p:spPr>
          <a:xfrm>
            <a:off x="4648320" y="3276720"/>
            <a:ext cx="4219560" cy="259056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2" name="Picture 6" descr=""/>
          <p:cNvPicPr/>
          <p:nvPr/>
        </p:nvPicPr>
        <p:blipFill>
          <a:blip r:embed="rId2"/>
          <a:stretch/>
        </p:blipFill>
        <p:spPr>
          <a:xfrm>
            <a:off x="5715000" y="1371600"/>
            <a:ext cx="1878120" cy="160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Picasa Web Albums</a:t>
            </a:r>
            <a:endParaRPr b="0" lang="en-US" sz="4400" spc="-1" strike="noStrike">
              <a:solidFill>
                <a:srgbClr val="cc3300"/>
              </a:solidFill>
              <a:latin typeface="Arial"/>
            </a:endParaRPr>
          </a:p>
        </p:txBody>
      </p:sp>
      <p:sp>
        <p:nvSpPr>
          <p:cNvPr id="134" name=""/>
          <p:cNvSpPr txBox="1"/>
          <p:nvPr/>
        </p:nvSpPr>
        <p:spPr>
          <a:xfrm>
            <a:off x="456840" y="1600200"/>
            <a:ext cx="38098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nline photo-sharing applicatio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n be used alongside Web-based mapping applications</a:t>
            </a:r>
            <a:endParaRPr b="0" lang="en-US" sz="3200" spc="-1" strike="noStrike">
              <a:solidFill>
                <a:srgbClr val="5f5f5f"/>
              </a:solidFill>
              <a:latin typeface="Arial"/>
            </a:endParaRPr>
          </a:p>
        </p:txBody>
      </p:sp>
      <p:pic>
        <p:nvPicPr>
          <p:cNvPr id="135" name="Picture 2" descr=""/>
          <p:cNvPicPr/>
          <p:nvPr/>
        </p:nvPicPr>
        <p:blipFill>
          <a:blip r:embed="rId1"/>
          <a:stretch/>
        </p:blipFill>
        <p:spPr>
          <a:xfrm>
            <a:off x="6553080" y="3124080"/>
            <a:ext cx="1825920" cy="32101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6" name="Picture 5" descr=""/>
          <p:cNvPicPr/>
          <p:nvPr/>
        </p:nvPicPr>
        <p:blipFill>
          <a:blip r:embed="rId2"/>
          <a:stretch/>
        </p:blipFill>
        <p:spPr>
          <a:xfrm>
            <a:off x="4419720" y="1523880"/>
            <a:ext cx="2082600" cy="208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5214960" y="2571840"/>
            <a:ext cx="3848040" cy="288612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applications: YouTube</a:t>
            </a:r>
            <a:endParaRPr b="0" lang="en-US" sz="4400" spc="-1" strike="noStrike">
              <a:solidFill>
                <a:srgbClr val="cc3300"/>
              </a:solidFill>
              <a:latin typeface="Arial"/>
            </a:endParaRPr>
          </a:p>
        </p:txBody>
      </p:sp>
      <p:sp>
        <p:nvSpPr>
          <p:cNvPr id="139" name=""/>
          <p:cNvSpPr txBox="1"/>
          <p:nvPr/>
        </p:nvSpPr>
        <p:spPr>
          <a:xfrm>
            <a:off x="380880" y="1752120"/>
            <a:ext cx="5029200" cy="3916440"/>
          </a:xfrm>
          <a:prstGeom prst="rect">
            <a:avLst/>
          </a:prstGeom>
          <a:noFill/>
          <a:ln w="0">
            <a:noFill/>
          </a:ln>
        </p:spPr>
        <p:txBody>
          <a:bodyPr anchor="t">
            <a:normAutofit fontScale="90000"/>
          </a:bodyPr>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nline video-sharing community</a:t>
            </a: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rs can upload videos</a:t>
            </a: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rs can comment on videos</a:t>
            </a: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ideos stored on YouTube can be embedded in online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creased accessibility of th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mergence of th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hancing community involv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y Web-based mapp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pabilities of th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ools of the GeoWeb</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eb 2.0</a:t>
            </a:r>
            <a:endParaRPr b="0" lang="en-US" sz="4400" spc="-1" strike="noStrike">
              <a:solidFill>
                <a:srgbClr val="cc3300"/>
              </a:solidFill>
              <a:latin typeface="Arial"/>
            </a:endParaRPr>
          </a:p>
        </p:txBody>
      </p:sp>
      <p:sp>
        <p:nvSpPr>
          <p:cNvPr id="98" name=""/>
          <p:cNvSpPr txBox="1"/>
          <p:nvPr/>
        </p:nvSpPr>
        <p:spPr>
          <a:xfrm>
            <a:off x="457200" y="1523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activ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cation and collabor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ributors, instead of viewers, of cont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s inclu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lo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iki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cial networking sit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hoto management and sharing applica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nhancing community involvement</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ringing people together vi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nline forum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scussion board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stant messag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cial network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hoto sharing.</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elpful when working with dispersed commun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ion and the Geospatial Web</a:t>
            </a:r>
            <a:endParaRPr b="0" lang="en-US" sz="4400" spc="-1" strike="noStrike">
              <a:solidFill>
                <a:srgbClr val="cc3300"/>
              </a:solidFill>
              <a:latin typeface="Arial"/>
            </a:endParaRPr>
          </a:p>
        </p:txBody>
      </p:sp>
      <p:sp>
        <p:nvSpPr>
          <p:cNvPr id="102" name=""/>
          <p:cNvSpPr txBox="1"/>
          <p:nvPr/>
        </p:nvSpPr>
        <p:spPr>
          <a:xfrm>
            <a:off x="457200" y="19033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pporting high level of community involv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ploading community-generated cont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aring with other community memb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nking digital media (sound, video and photo files) to points on a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Web-based mapping?</a:t>
            </a:r>
            <a:endParaRPr b="0" lang="en-US" sz="44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e of participation for those with Internet ac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angible and satisfying end produ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itable for reasons related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s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ase of u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presentativenes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ess to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o is the expert?</a:t>
            </a:r>
            <a:endParaRPr b="0" lang="en-US" sz="4400" spc="-1" strike="noStrike">
              <a:solidFill>
                <a:srgbClr val="cc3300"/>
              </a:solidFill>
              <a:latin typeface="Arial"/>
            </a:endParaRPr>
          </a:p>
        </p:txBody>
      </p:sp>
      <p:sp>
        <p:nvSpPr>
          <p:cNvPr id="106" name=""/>
          <p:cNvSpPr txBox="1"/>
          <p:nvPr/>
        </p:nvSpPr>
        <p:spPr>
          <a:xfrm>
            <a:off x="457200" y="1785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pports notion of “community exper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knowledge a central compon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putes may aris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diation may be necessa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Web capabilities</a:t>
            </a:r>
            <a:endParaRPr b="0" lang="en-US" sz="4400" spc="-1" strike="noStrike">
              <a:solidFill>
                <a:srgbClr val="cc3300"/>
              </a:solidFill>
              <a:latin typeface="Arial"/>
            </a:endParaRPr>
          </a:p>
        </p:txBody>
      </p:sp>
      <p:sp>
        <p:nvSpPr>
          <p:cNvPr id="108" name=""/>
          <p:cNvSpPr txBox="1"/>
          <p:nvPr/>
        </p:nvSpPr>
        <p:spPr>
          <a:xfrm>
            <a:off x="457200" y="1600200"/>
            <a:ext cx="8229600" cy="46483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patialising features:</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reating map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dding points, lines or polygon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ttaching content, such as photographs or video</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tent management:</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ploading and organising content</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haring and modifying content</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tegrating content with online maps</a:t>
            </a:r>
            <a:endParaRPr b="0" lang="en-US" sz="28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reating and modifying virtual content</a:t>
            </a:r>
            <a:endParaRPr b="0" lang="en-US" sz="4400" spc="-1" strike="noStrike">
              <a:solidFill>
                <a:srgbClr val="cc3300"/>
              </a:solidFill>
              <a:latin typeface="Arial"/>
            </a:endParaRPr>
          </a:p>
        </p:txBody>
      </p:sp>
      <p:sp>
        <p:nvSpPr>
          <p:cNvPr id="110"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oosing the right too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need to deci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ich features they would like to see mapp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kind of content will be accessible through the map interfa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o will be allowed to edit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will be done with the end produc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ing appropriate privacy setting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09-08-18T08:58:08Z</dcterms:modified>
  <cp:revision>34</cp:revision>
  <dc:subject/>
  <dc:title>Presentation - Participatory Internet-based Mapping : Basics of Internet-based Map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7</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