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14FD-92AD-4D92-B177-6C551704A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awing lines an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other basic feature that likely will be available when making a Web-based map is the option to draw lines and shapes. Within some applications, such as Google’s ‘My Maps’, lines also can be drawn to automatically match up with roads. These features are useful when trying to separate polygons or regions or when adding features that may not be present on the base map. Information is attributed to shapes and lines in a manner similar to the one used for the pushp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EAB6-4FC4-4E33-9E5E-D47F291A7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ng tex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p makers have different options for adding text to maps. First, they could type text directly into the Properties boxes that are associated with points that they add to a map. This is the way that the information about the country of Ghana was added in the above example. However, when map-makers wish to attach a greater amount of information to the maps, they could also link an actual document to the ma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in Tex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rograms will present a number of different options for adding and modifying content that map-makers wish to associate with the points, lines or polygons that they have crea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gle ‘My Maps’ provides users with a numb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options for adding and editing cont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users select the ‘plain text’ option, the text that they enter will appear in the information boxes in a standard form. They do not have any control over the appearance of the text, as the same font and size are always used for the text that is entered into the body of the information box.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ch Tex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he option to enter rich text is made available, users will find that they have much greater control over the appearance of the text that shows up in the information boxes. For example, map-makers can change the font, font size, and font colour, and add features such as bold or italicised text. This is also where map-makers would go to add photographs to their information box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diting HTM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ption to Edit HTML will almost always be available to map-makers. In order to make use of this option, map-makers would need some basic knowledge of writing Internet code. However, this is often complicated, as even minor typographical errors can result in the text not appearing properly. Map-makers can easily get around this by choosing one of the other options that are available for adding and editing text. However, adventurous map-makers can always experiment with basic codes by searching for them online, and adding them into the text box that shows up when they click on ‘Edit HTML’. Being able to do this will give map-makers even greater control over the appearance of the content in the information box.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ng Link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p-makers can easily create links to other Web-sites that will appear in association with the location based points, lines or polygons. This is useful for map-makers wanting to link to items such as community Web-sites, articles pertaining to the geographic point of interest, or discussion boards or blogs relating to the content included in the ma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D32B-11F9-4853-8470-0579442C4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ng photos (This is covered in the training exerci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s will be added in slightly different ways depending on the application that is chosen. However, in order for the Web-based application to be able to retrieve the photos, they need to be stored somewhere on the Web and linked to the map. For this reason, it probably will be useful for community map makers to create a customised email address and photo storage account devoted solely to managing content related to the map. One example of a place that this might be done is Picasa Web Albu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y have created an account and logged in, users will be able to add photo albums that will be stored online. These albums can be set to public or private status. Once an album has been created, photos from it (or the entire album) can be mapped in different way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casa Web Album allows users to map their photos directly on-site. Once the photos have been mapped, users are able to view an album map, which shows the locations of all of the photos from the album that have been geotagged. This album map can be opened and viewed in Google Earth and incorporated with any other points that map makers may have already add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way that users might add photos to a map is by embedding them directly into the points that they place on their map. This means that they assign a Web-based location to the points that they have added to the map, which link with the photos that have been stored online in the Picasa Web Album. A link is assigned to each photo and is available for users to copy and paste out of their Picasa Web Album accou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4EE7-EC34-4D66-954F-9605EE47C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ng videos (This is covered in the training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s can add videos to their maps in much the same way as they add photographs. It will be useful to create an account with some kind of video-storage website, such as YouTube. Users will be able to identify the appropriate privacy settings for their videos depending on the sensitivity of the material. Similar to Picasa Web Albums, YouTube provides an ‘Embed Video’ link that map makers can copy and embed within their ma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3761-A4E8-4F12-BE9B-252C6F63A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ewing the map in Googl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Web-based mapping applications allow users to view their maps in Google Earth. While Google products and applications are more likely to include this option, other companies often make this option available as well. Also, a number of programs are available on the Internet that will convert different file types into .kml files, the file type that is compatible with Google Earth. Once files have been converted, users can view any spatial data in Google Earth. This is useful for putting the data into one standard format. It is also useful because map makers working with Google Earth can create a .kml file that can be shared easily via email or some other file-sharing mech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E563-52D6-4BF4-B119-1441196FC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playing the ma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ay that the map is displayed will depend upon the audience with whom community members wish to share their map. This could range from only showing the map to members of the community and those who are closely connected with them, to making it completely accessible for anyone who is interes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llabor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ption for sharing the map is simply by collaborating with parties such as other community members. This method is best when communities do not want the map to be broadly accessed. Within Google ‘My Maps’, collaborators can be formally invited to access and/or edit the map by sending them an email permitting them to do so. Of course, collaboration can also occur by simply emailing files, such as .kml files, to anyone who would like to contribute to the ma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bedding the ma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tire map can be embedded into a website that has been created to display the map using a process similar to the one used to embed a photograph or video into the map. The way the map will appear once it is embedded can be customised prior to embedding it (e.g. by changing the size of the map).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playing the ma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ing the map represents one of the greater challenges in Web-based mapping because some more complicated steps are involved in creating a website to display a map that community members wish to make publicly available. Even if community members want the map to be private, they may wish to create a website for displaying the map that only registered users can acce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891A-0657-4105-90A6-9A045574A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w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map has been created and has been displayed in a satisfying manner, someone should be left in charge of maintaining and updating the map as necessary. If community members want to be able to continually add to the map, a moderator may be needed to oversee the content that is being added and ensure that the map is accurate, up to date and in line with community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E8B7-66F9-4AB0-89A9-55729FA18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will focus on creating a Web-based map as a way of becoming familiar with the available tools and processes. Creating an Internet-based map can be a dynamic and interactive process. The scope and intent of the participatory mapping project will determine the characteristics of the map and the way the map is created, including how local-level interaction is incorporated and mediated. This Unit will also discuss the ways that content created by community members can become an integral part of the map and how the map might be shared among and used by the community once it has been created. The benefits of engaging in a Web-based mapping project can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nging community members together through the process of creating the m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ing an end product that is useful to community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B6DF-CB4B-4B05-B0FD-64C04AB23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oosing the right too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variety of free map-making and content management applications are available online that may be of use to communities interested in creating and sharing a Web-based map. The tools that will be most suitable for a particular project will depend upon the community members’ goals. In order to determine what kinds of tools would be most beneficial for the project, practitioners and community collaborators should ask the following ques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budget for the map-making component of the project? (While an Internet map can be made for free, there are upgraded versions of many Web-based applications that have additional features which can be downloaded for a fee).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will be viewing and/or using the map?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the map be publicly available or will it only be available to members of the community?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re any components of the map that will contain sensitive material?</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re any restrictions within the community, region or country about the kind of information that is appropriate to display?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kinds of items will be tagged to the map (e.g. photos, videos, etc.)?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there be any limits on who can contribute?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one person or a small group of people be moderating the map and approving content?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community members wish to create a map that will continue to be interactive (i.e. open for contributions and modification) or static (i.e. once it has been created, it will be used for display purposes only)?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will community map makers receive feedback from other interested partie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do community members ultimately wish to display the ma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swers to these questions will determine which tools are necessary (such as online photo storage if community members want to attach images) and which would be most appropriate. Furthermore, certain tools have been designed to be used together, so they will complement each other more than other tools might. For example, it is relatively easy to display photos stored in Picasa Web Albums and in Google Earth because they were both developed by the same compan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7073-768E-4AF1-9087-96026626F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ding Web applic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a community has formed a general outline of what kind of map they would like to create, they will want to search for the appropriate Web applications. A number of popular applications have been outlined in this Module (see Unit One) and can be downloaded freely online. Often, it will not even be necessary to download anything because many of these applications are entirely Web-based and all of the information that is created can be stored directly on-site. It is a good idea to experiment with a variety of applications to determine which one is best suited to the needs of the communit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outset of the project, map makers may wish to search for other applications that might be appropriate and read some reviews outlining the capabilities and shortcomings of various applications. While general recommendations have been made based on present technologies, the Internet and the kinds of applications that are being developed are constantly changing and new products are released continuall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EDD9-E941-40C2-8C68-47E71CFB6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retriev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y map makers will most likely want to begin with a base map. A base map is some kind of lower-level map upon which map makers can place geo-coded points that are attached to the content they wish to display. Examples of commonly used base maps are satellite images and street maps. These are readily available online and almost certainly will be provided with the chosen mapping applic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patial data that could be incorporated into a community map can be found online. Some of this data may be provided with the mapping application that is chos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9C7A-D6CD-4E46-9195-8DCC6C849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retriev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programs like Google Earth provide additional data layers with which users can experiment. Examples include traffic information, points of interest or photos added by users of Google Ear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users may wish to incorporate data from other sources, such as census data from government databases. Often, this information is available online with varying levels of access. The amount of information that is available will differ from one country to another. However, in certain instances, this kind of data can be retrieved and incorporated into community maps. </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AFB4-D232-4A65-8551-6FB10C8A1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corporating user-generated dat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ch or all of the data that will inform community maps will likely be user-generated. This includes items such a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s taken by community member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s depicting some element of community life;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dio recordings, such as interviews with knowledgeable community member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cuments (e.g. historic documents, newspaper or journal articles about the community, government documents like birth or death certificates, etc.);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ks to other online material, such as community blogs or information about the communi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urse, the search for this kind of information probably will not be Web-based, but will take place within the community. Once the goals of the project have been determined, community members and practitioners will need to collect the information they wish to incorporate into the map from sources within the community. In smaller communities, where many people are able to become involved with the project and give their input (and most people will at least be aware of the project), this should not be overly difficult. However, when dealing with larger or dispersed communities, these kinds of data may not be so readily available and some kind of a call for information will need to be sent out. It is important that effort be made to include all of the people for and with whom the map is being crea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2C48-853A-4662-84EF-E9AD15D14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ng the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community map makers have determined which features they wish to map and have a basic idea of which tools they would like to use, it will be time to start making the map!  However, once the map-making process is underway, community members may discover new tools or develop new aspirations for the map. Instead of viewing this as a setback, map makers should be aware that this is part of the process and the map may change substantially from the original vision that community members had of it, often for the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03F9-41CD-4B43-9774-BF443DA7A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reating customised pushpi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gardless of which Web-based mapping tool is used, most will employ some variant of the “customised pushpin”. A pushpin is a marker which designates a point of interest. Map makers determine the geographic location where they would like to set the pushpin. Then they are able to associate information, such as text, photos or videos, with that location. Some programs, which are designed specifically for storing and viewing photos, will allow the use of a small icon of the photo in place of a pushpi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 order to customise the appearance of the pushpins on the map and allow for differentiation among types of features, most applications will allow map makers to change the appearance of the pushpin. Users are also able to create custom icons that they can use, such as logos or photo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3F18-BDB0-4148-A021-3D5E2C951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C281BC-C9A6-4DDC-8FE2-2F712F71F5C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B8AB226E-08C8-45CB-B867-8145F346F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BB0BEEF2-1720-4C9D-8B3F-2731CD2D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0DA5E983-EB11-4E6B-A68D-914953764E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8FEF4D3-9FF7-4B47-940E-8C1CD2B06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D0A994D-4CB4-46FC-8A7E-CDEE04678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EDFEF7E-F1BC-4B95-B4E3-CD853A75F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85EB08A-8A2B-4E56-A071-D61769234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44B3942-354C-4BAF-A5C1-6D59D148C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404CEE6-A102-460D-9C7D-DA3261CE4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53A85E1-3E5B-4C0A-B39A-E6BDB710C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15144B13-7E2B-481B-84B7-0F844B210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D7AED4E-07F5-42FD-8671-03918F3D0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840BD4F-16CE-496E-AC85-10EDB0EDF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71E42C3-87F3-4BAA-80E6-A883C53CA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75C6CE5-40C1-44F8-B48D-1D23E92332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522474F-0E08-47FF-9500-D6D5AE772A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988445F3-5E4F-42E9-8E0A-4BF81D484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1CBFCA6-04D6-44F7-850C-943644D2F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7A4892D1-2B31-497F-BAE6-7B9561C81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09D92E09-94F6-4C85-B88D-8A9D62592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EA19D2A-06F9-4CF3-B092-4A7D39B79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30CE994-8E22-40A7-A7B8-81A0F6D68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349DA9F-4019-4F66-AE5E-4BD856A94BB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E447-F2B7-4172-865A-D53A37D070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3FE3-1B30-4789-857C-45FAF89FA9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rticipatory Internet-based Mapping</a:t>
            </a:r>
            <a:endParaRPr b="0" lang="en-US" sz="4400" spc="-1" strike="noStrike">
              <a:solidFill>
                <a:srgbClr val="cc3300"/>
              </a:solidFill>
              <a:latin typeface="Arial"/>
            </a:endParaRPr>
          </a:p>
        </p:txBody>
      </p:sp>
      <p:sp>
        <p:nvSpPr>
          <p:cNvPr id="90" name="PlaceHolder 2"/>
          <p:cNvSpPr>
            <a:spLocks noGrp="1"/>
          </p:cNvSpPr>
          <p:nvPr>
            <p:ph type="subTitle"/>
          </p:nvPr>
        </p:nvSpPr>
        <p:spPr>
          <a:xfrm>
            <a:off x="1382760" y="3914280"/>
            <a:ext cx="640080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ap Creation</a:t>
            </a:r>
            <a:endParaRPr b="0" lang="en-US" sz="3200" spc="-1" strike="noStrike">
              <a:solidFill>
                <a:srgbClr val="5f5f5f"/>
              </a:solidFill>
              <a:latin typeface="Arial"/>
            </a:endParaRPr>
          </a:p>
        </p:txBody>
      </p:sp>
      <p:sp>
        <p:nvSpPr>
          <p:cNvPr id="91" name="Rectangle 4"/>
          <p:cNvSpPr/>
          <p:nvPr/>
        </p:nvSpPr>
        <p:spPr>
          <a:xfrm>
            <a:off x="2612520" y="51055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13U02</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lines and shapes</a:t>
            </a:r>
            <a:endParaRPr b="0" lang="en-US" sz="4400" spc="-1" strike="noStrike">
              <a:solidFill>
                <a:srgbClr val="cc3300"/>
              </a:solidFill>
              <a:latin typeface="Arial"/>
            </a:endParaRPr>
          </a:p>
        </p:txBody>
      </p:sp>
      <p:sp>
        <p:nvSpPr>
          <p:cNvPr id="113" name=""/>
          <p:cNvSpPr txBox="1"/>
          <p:nvPr/>
        </p:nvSpPr>
        <p:spPr>
          <a:xfrm>
            <a:off x="457200" y="1600200"/>
            <a:ext cx="50292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formation attributed to lines and shapes in the same manner as pushpi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ful fo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parating polygons or reg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dding features that are not present on the map</a:t>
            </a:r>
            <a:endParaRPr b="0" lang="en-US" sz="28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4" name="Picture 4" descr=""/>
          <p:cNvPicPr/>
          <p:nvPr/>
        </p:nvPicPr>
        <p:blipFill>
          <a:blip r:embed="rId1"/>
          <a:stretch/>
        </p:blipFill>
        <p:spPr>
          <a:xfrm>
            <a:off x="5486400" y="1981080"/>
            <a:ext cx="3246480" cy="385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ding text</a:t>
            </a:r>
            <a:endParaRPr b="0" lang="en-US" sz="4400" spc="-1" strike="noStrike">
              <a:solidFill>
                <a:srgbClr val="cc3300"/>
              </a:solidFill>
              <a:latin typeface="Arial"/>
            </a:endParaRPr>
          </a:p>
        </p:txBody>
      </p:sp>
      <p:sp>
        <p:nvSpPr>
          <p:cNvPr id="116" name=""/>
          <p:cNvSpPr txBox="1"/>
          <p:nvPr/>
        </p:nvSpPr>
        <p:spPr>
          <a:xfrm>
            <a:off x="394920" y="1484280"/>
            <a:ext cx="6095880" cy="4525920"/>
          </a:xfrm>
          <a:prstGeom prst="rect">
            <a:avLst/>
          </a:prstGeom>
          <a:noFill/>
          <a:ln w="0">
            <a:noFill/>
          </a:ln>
        </p:spPr>
        <p:txBody>
          <a:bodyPr anchor="t">
            <a:normAutofit fontScale="86000"/>
          </a:bodyPr>
          <a:p>
            <a:pPr marL="294840" indent="-294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xt can be added by:</a:t>
            </a:r>
            <a:endParaRPr b="0" lang="en-US" sz="3200" spc="-1" strike="noStrike">
              <a:solidFill>
                <a:srgbClr val="5f5f5f"/>
              </a:solidFill>
              <a:latin typeface="Arial"/>
            </a:endParaRPr>
          </a:p>
          <a:p>
            <a:pPr lvl="1" marL="639000" indent="-2455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yping directly into the </a:t>
            </a:r>
            <a:br>
              <a:rPr sz="2800"/>
            </a:br>
            <a:r>
              <a:rPr b="0" lang="en-US" sz="2800" spc="-1" strike="noStrike">
                <a:solidFill>
                  <a:srgbClr val="5f5f5f"/>
                </a:solidFill>
                <a:latin typeface="Arial"/>
              </a:rPr>
              <a:t>‘Properties’ box;</a:t>
            </a:r>
            <a:endParaRPr b="0" lang="en-US" sz="2800" spc="-1" strike="noStrike">
              <a:solidFill>
                <a:srgbClr val="5f5f5f"/>
              </a:solidFill>
              <a:latin typeface="Arial"/>
            </a:endParaRPr>
          </a:p>
          <a:p>
            <a:pPr lvl="1" marL="639000" indent="-2455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inking documents to the</a:t>
            </a:r>
            <a:endParaRPr b="0" lang="en-US" sz="2800" spc="-1" strike="noStrike">
              <a:solidFill>
                <a:srgbClr val="5f5f5f"/>
              </a:solidFill>
              <a:latin typeface="Arial"/>
            </a:endParaRPr>
          </a:p>
          <a:p>
            <a:pPr lvl="1" marL="639000" indent="-24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r>
              <a:rPr b="0" lang="en-US" sz="2800" spc="-1" strike="noStrike">
                <a:solidFill>
                  <a:srgbClr val="5f5f5f"/>
                </a:solidFill>
                <a:latin typeface="Arial"/>
              </a:rPr>
              <a:t>map.</a:t>
            </a:r>
            <a:endParaRPr b="0" lang="en-US" sz="2800" spc="-1" strike="noStrike">
              <a:solidFill>
                <a:srgbClr val="5f5f5f"/>
              </a:solidFill>
              <a:latin typeface="Arial"/>
            </a:endParaRPr>
          </a:p>
          <a:p>
            <a:pPr marL="294840" indent="-294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ays to modify content: </a:t>
            </a:r>
            <a:endParaRPr b="0" lang="en-US" sz="3200" spc="-1" strike="noStrike">
              <a:solidFill>
                <a:srgbClr val="5f5f5f"/>
              </a:solidFill>
              <a:latin typeface="Arial"/>
            </a:endParaRPr>
          </a:p>
          <a:p>
            <a:pPr lvl="1" marL="639000" indent="-2455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lain text</a:t>
            </a:r>
            <a:endParaRPr b="0" lang="en-US" sz="2800" spc="-1" strike="noStrike">
              <a:solidFill>
                <a:srgbClr val="5f5f5f"/>
              </a:solidFill>
              <a:latin typeface="Arial"/>
            </a:endParaRPr>
          </a:p>
          <a:p>
            <a:pPr lvl="1" marL="639000" indent="-2455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ch text</a:t>
            </a:r>
            <a:endParaRPr b="0" lang="en-US" sz="2800" spc="-1" strike="noStrike">
              <a:solidFill>
                <a:srgbClr val="5f5f5f"/>
              </a:solidFill>
              <a:latin typeface="Arial"/>
            </a:endParaRPr>
          </a:p>
          <a:p>
            <a:pPr lvl="1" marL="639000" indent="-2455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diting HTML</a:t>
            </a:r>
            <a:endParaRPr b="0" lang="en-US" sz="2800" spc="-1" strike="noStrike">
              <a:solidFill>
                <a:srgbClr val="5f5f5f"/>
              </a:solidFill>
              <a:latin typeface="Arial"/>
            </a:endParaRPr>
          </a:p>
          <a:p>
            <a:pPr lvl="1" marL="639000" indent="-2455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reating links</a:t>
            </a:r>
            <a:endParaRPr b="0" lang="en-US" sz="2800" spc="-1" strike="noStrike">
              <a:solidFill>
                <a:srgbClr val="5f5f5f"/>
              </a:solidFill>
              <a:latin typeface="Arial"/>
            </a:endParaRPr>
          </a:p>
          <a:p>
            <a:pPr lvl="2" marL="982800" indent="-19656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7" name="Picture 4" descr=""/>
          <p:cNvPicPr/>
          <p:nvPr/>
        </p:nvPicPr>
        <p:blipFill>
          <a:blip r:embed="rId1"/>
          <a:stretch/>
        </p:blipFill>
        <p:spPr>
          <a:xfrm>
            <a:off x="5364000" y="1844640"/>
            <a:ext cx="356724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ding photos</a:t>
            </a:r>
            <a:endParaRPr b="0" lang="en-US" sz="4400" spc="-1" strike="noStrike">
              <a:solidFill>
                <a:srgbClr val="cc33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hotos first must be stored on the Web.</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ing a customised email address and photo storage account for the project will be usefu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hotos can be mappe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irectly through storage applica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y embedding them directly into the map.</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ding videos</a:t>
            </a:r>
            <a:endParaRPr b="0" lang="en-US" sz="4400" spc="-1" strike="noStrike">
              <a:solidFill>
                <a:srgbClr val="cc3300"/>
              </a:solidFill>
              <a:latin typeface="Arial"/>
            </a:endParaRPr>
          </a:p>
        </p:txBody>
      </p:sp>
      <p:sp>
        <p:nvSpPr>
          <p:cNvPr id="121"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milar to adding photograph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n account with a video-storage si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mbed videos directly into the map</a:t>
            </a:r>
            <a:endParaRPr b="0" lang="en-US" sz="3200" spc="-1" strike="noStrike">
              <a:solidFill>
                <a:srgbClr val="5f5f5f"/>
              </a:solidFill>
              <a:latin typeface="Arial"/>
            </a:endParaRPr>
          </a:p>
        </p:txBody>
      </p:sp>
      <p:pic>
        <p:nvPicPr>
          <p:cNvPr id="122" name="Picture 4" descr=""/>
          <p:cNvPicPr/>
          <p:nvPr/>
        </p:nvPicPr>
        <p:blipFill>
          <a:blip r:embed="rId1"/>
          <a:stretch/>
        </p:blipFill>
        <p:spPr>
          <a:xfrm>
            <a:off x="4876920" y="1600200"/>
            <a:ext cx="367668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6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iewing the map in Google Earth</a:t>
            </a:r>
            <a:endParaRPr b="0" lang="en-US" sz="4400" spc="-1" strike="noStrike">
              <a:solidFill>
                <a:srgbClr val="cc3300"/>
              </a:solidFill>
              <a:latin typeface="Arial"/>
            </a:endParaRPr>
          </a:p>
        </p:txBody>
      </p:sp>
      <p:sp>
        <p:nvSpPr>
          <p:cNvPr id="124" name=""/>
          <p:cNvSpPr txBox="1"/>
          <p:nvPr/>
        </p:nvSpPr>
        <p:spPr>
          <a:xfrm>
            <a:off x="457200" y="21034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ost maps created using Google Maps on the Web can be saved and viewed in Google Ear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ing a .kml file convert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utting data into a standard form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kml files are easily stored and share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to display on the map</a:t>
            </a:r>
            <a:endParaRPr b="0" lang="en-US" sz="4400" spc="-1" strike="noStrike">
              <a:solidFill>
                <a:srgbClr val="cc33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ill depend upon intended audie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llabor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mbedding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y involve creating a website for displaying the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ong-term map upkeep</a:t>
            </a:r>
            <a:endParaRPr b="0" lang="en-US" sz="44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will maintain and update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moderator may be requi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nsure that the map i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ccurat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p to dat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igned with community objectiv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5"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Module will cove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hoosing the right tools to create an Internet-based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ow to create a map using the Interne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corporating user-generated material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isplaying the map.</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the right tools</a:t>
            </a:r>
            <a:endParaRPr b="0" lang="en-US" sz="4400" spc="-1" strike="noStrike">
              <a:solidFill>
                <a:srgbClr val="cc3300"/>
              </a:solidFill>
              <a:latin typeface="Arial"/>
            </a:endParaRPr>
          </a:p>
        </p:txBody>
      </p:sp>
      <p:sp>
        <p:nvSpPr>
          <p:cNvPr id="97" name=""/>
          <p:cNvSpPr txBox="1"/>
          <p:nvPr/>
        </p:nvSpPr>
        <p:spPr>
          <a:xfrm>
            <a:off x="380880" y="1646280"/>
            <a:ext cx="830592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itability depends on community goa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se questions may help in deciding which tools to use:</a:t>
            </a:r>
            <a:endParaRPr b="0" lang="en-US" sz="32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What is the budget for making the map?</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o whom will the map be made available?</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Will the map contain sensitive material?</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What kinds of items will be tagged to the map?</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Who will be the main contributors/moderator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How will the map be shared?</a:t>
            </a: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inding Web-based applications</a:t>
            </a:r>
            <a:endParaRPr b="0" lang="en-US" sz="4400" spc="-1" strike="noStrike">
              <a:solidFill>
                <a:srgbClr val="cc3300"/>
              </a:solidFill>
              <a:latin typeface="Arial"/>
            </a:endParaRPr>
          </a:p>
        </p:txBody>
      </p:sp>
      <p:sp>
        <p:nvSpPr>
          <p:cNvPr id="99" name=""/>
          <p:cNvSpPr txBox="1"/>
          <p:nvPr/>
        </p:nvSpPr>
        <p:spPr>
          <a:xfrm>
            <a:off x="457200" y="1689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reely available for download onlin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ny entirely Web-based (no download requi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net is always evolving and new products are constantly emerg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d reviews and keep inform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ccessing map data</a:t>
            </a:r>
            <a:endParaRPr b="0" lang="en-US" sz="4400" spc="-1" strike="noStrike">
              <a:solidFill>
                <a:srgbClr val="cc3300"/>
              </a:solidFill>
              <a:latin typeface="Arial"/>
            </a:endParaRPr>
          </a:p>
        </p:txBody>
      </p:sp>
      <p:sp>
        <p:nvSpPr>
          <p:cNvPr id="101"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egin with a base map</a:t>
            </a:r>
            <a:endParaRPr b="0" lang="en-US" sz="32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atellite images</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treet maps</a:t>
            </a:r>
            <a:endParaRPr b="0" lang="en-US" sz="2800" spc="-1" strike="noStrike">
              <a:solidFill>
                <a:srgbClr val="5f5f5f"/>
              </a:solidFill>
              <a:latin typeface="Arial"/>
            </a:endParaRPr>
          </a:p>
          <a:p>
            <a:pPr lvl="1" marL="690840" indent="-26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opographic maps</a:t>
            </a:r>
            <a:endParaRPr b="0" lang="en-US" sz="2800" spc="-1" strike="noStrike">
              <a:solidFill>
                <a:srgbClr val="5f5f5f"/>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 </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t>
            </a:r>
            <a:r>
              <a:rPr b="0" lang="en-GB" sz="2000" spc="-1" strike="noStrike">
                <a:solidFill>
                  <a:srgbClr val="5f5f5f"/>
                </a:solidFill>
                <a:latin typeface="Arial"/>
              </a:rPr>
              <a:t>Terrain’ View  ‘Satellite’ View ‘Map’ View</a:t>
            </a:r>
            <a:endParaRPr b="0" lang="en-US" sz="20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02" name="Picture 4" descr=""/>
          <p:cNvPicPr/>
          <p:nvPr/>
        </p:nvPicPr>
        <p:blipFill>
          <a:blip r:embed="rId1"/>
          <a:stretch/>
        </p:blipFill>
        <p:spPr>
          <a:xfrm>
            <a:off x="1752480" y="3554280"/>
            <a:ext cx="5715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ccessing map data</a:t>
            </a:r>
            <a:endParaRPr b="0" lang="en-US" sz="4400" spc="-1" strike="noStrike">
              <a:solidFill>
                <a:srgbClr val="cc3300"/>
              </a:solidFill>
              <a:latin typeface="Arial"/>
            </a:endParaRPr>
          </a:p>
        </p:txBody>
      </p:sp>
      <p:sp>
        <p:nvSpPr>
          <p:cNvPr id="104"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 data will be provided with the applic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ther information, such as census data, often can be found onlin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st of the data included in an Internet-based map will come from the community.</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corporating community-generated data</a:t>
            </a:r>
            <a:endParaRPr b="0" lang="en-US" sz="4400" spc="-1" strike="noStrike">
              <a:solidFill>
                <a:srgbClr val="cc3300"/>
              </a:solidFill>
              <a:latin typeface="Arial"/>
            </a:endParaRPr>
          </a:p>
        </p:txBody>
      </p:sp>
      <p:sp>
        <p:nvSpPr>
          <p:cNvPr id="106" name=""/>
          <p:cNvSpPr txBox="1"/>
          <p:nvPr/>
        </p:nvSpPr>
        <p:spPr>
          <a:xfrm>
            <a:off x="457200" y="1951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generated data can includ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mmunity members’ photographs and vide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udio recordings, such as interview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ocuments, such as newspaper article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inks to other online material.</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formation gathering within the community and by community member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reating the map</a:t>
            </a:r>
            <a:endParaRPr b="0" lang="en-US" sz="4400" spc="-1" strike="noStrike">
              <a:solidFill>
                <a:srgbClr val="cc3300"/>
              </a:solidFill>
              <a:latin typeface="Arial"/>
            </a:endParaRPr>
          </a:p>
        </p:txBody>
      </p:sp>
      <p:sp>
        <p:nvSpPr>
          <p:cNvPr id="108" name=""/>
          <p:cNvSpPr txBox="1"/>
          <p:nvPr/>
        </p:nvSpPr>
        <p:spPr>
          <a:xfrm>
            <a:off x="457200" y="2117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ew tools may be discovered throughout the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ew aspirations for the map may ari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may change from the original vis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reating customised pushpins</a:t>
            </a:r>
            <a:endParaRPr b="0" lang="en-US" sz="4400" spc="-1" strike="noStrike">
              <a:solidFill>
                <a:srgbClr val="cc3300"/>
              </a:solidFill>
              <a:latin typeface="Arial"/>
            </a:endParaRPr>
          </a:p>
        </p:txBody>
      </p:sp>
      <p:sp>
        <p:nvSpPr>
          <p:cNvPr id="110" name=""/>
          <p:cNvSpPr txBox="1"/>
          <p:nvPr/>
        </p:nvSpPr>
        <p:spPr>
          <a:xfrm>
            <a:off x="228240" y="1676520"/>
            <a:ext cx="4800600" cy="4525920"/>
          </a:xfrm>
          <a:prstGeom prst="rect">
            <a:avLst/>
          </a:prstGeom>
          <a:noFill/>
          <a:ln w="0">
            <a:noFill/>
          </a:ln>
        </p:spPr>
        <p:txBody>
          <a:bodyPr anchor="t">
            <a:normAutofit/>
          </a:bodyPr>
          <a:p>
            <a:pPr marL="514440" indent="-5144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ree stages (using Google Maps):</a:t>
            </a:r>
            <a:endParaRPr b="0" lang="en-US" sz="3200" spc="-1" strike="noStrike">
              <a:solidFill>
                <a:srgbClr val="5f5f5f"/>
              </a:solidFill>
              <a:latin typeface="Arial"/>
            </a:endParaRPr>
          </a:p>
          <a:p>
            <a:pPr lvl="1" marL="914400" indent="-51444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lect and position a marker that designates a point of interest.</a:t>
            </a:r>
            <a:endParaRPr b="0" lang="en-US" sz="2800" spc="-1" strike="noStrike">
              <a:solidFill>
                <a:srgbClr val="5f5f5f"/>
              </a:solidFill>
              <a:latin typeface="Arial"/>
            </a:endParaRPr>
          </a:p>
          <a:p>
            <a:pPr lvl="1" marL="914400" indent="-51444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sociate data with pushpins.</a:t>
            </a:r>
            <a:endParaRPr b="0" lang="en-US" sz="2800" spc="-1" strike="noStrike">
              <a:solidFill>
                <a:srgbClr val="5f5f5f"/>
              </a:solidFill>
              <a:latin typeface="Arial"/>
            </a:endParaRPr>
          </a:p>
          <a:p>
            <a:pPr lvl="1" marL="914400" indent="-51444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ustomise pushpins.</a:t>
            </a:r>
            <a:endParaRPr b="0" lang="en-US" sz="2800" spc="-1" strike="noStrike">
              <a:solidFill>
                <a:srgbClr val="5f5f5f"/>
              </a:solidFill>
              <a:latin typeface="Arial"/>
            </a:endParaRPr>
          </a:p>
          <a:p>
            <a:pPr marL="514440" indent="-5144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514440" indent="-5144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1" name="Picture 4" descr=""/>
          <p:cNvPicPr/>
          <p:nvPr/>
        </p:nvPicPr>
        <p:blipFill>
          <a:blip r:embed="rId1"/>
          <a:stretch/>
        </p:blipFill>
        <p:spPr>
          <a:xfrm>
            <a:off x="5267160" y="2057400"/>
            <a:ext cx="35719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09-08-18T09:42:31Z</dcterms:modified>
  <cp:revision>55</cp:revision>
  <dc:subject/>
  <dc:title>Presentation - Participatory Internet-based Mapping: Map Cre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6</vt:lpwstr>
  </property>
  <property fmtid="{D5CDD505-2E9C-101B-9397-08002B2CF9AE}" pid="9" name="Subject">
    <vt:lpwstr/>
  </property>
  <property fmtid="{D5CDD505-2E9C-101B-9397-08002B2CF9AE}" pid="10" name="_Author">
    <vt:lpwstr/>
  </property>
  <property fmtid="{D5CDD505-2E9C-101B-9397-08002B2CF9AE}" pid="11" name="_Category">
    <vt:lpwstr/>
  </property>
  <property fmtid="{D5CDD505-2E9C-101B-9397-08002B2CF9AE}" pid="12" name="_Comments">
    <vt:lpwstr/>
  </property>
</Properties>
</file>