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73B4-B495-4935-A616-D95646C45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ng and modify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map has been shared, communities may wish to allow additional information to be contributed by other community members or even the general public. This may also involve some kind of discussion board, where viewers of the map can post their comments. Prior to releasing the map, it will be necessary for community members to dec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will be able to add or modify da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will be in charge of overseeing the additions and modif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there will be a limit on the amount or kinds of additions that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55DC-B3C5-4B8C-9A46-6479CA367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aling with offensiv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reating a map that is open to community input and editing, it is possible that some people may add content that would be offensive to others. At times, it may be obvious that this content has been added inappropriately. However, at other times, items that may seem perfectly acceptable to some contributors may be deemed inappropriate by others. For this reason, it is important to decide upon a set of standards to guide the nature of submissions and guidelines for potentially rejecting certain contrib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3021-DC22-428D-897B-1D433AF72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llectual property righ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llectual property refers to the rights that groups hold over their own knowledge, beliefs, practices, artwork and other cultural expressions. In light of expanding access to the Internet and subsequently greater levels of distribution of these cultural elements, many communities, especially many Indigenous Peoples and groups, are becoming concerned about the unlicensed use of traditional knowledge. It is important to protect the intellectual property of communities who may engage in the process of creating a Web-based map for reasons related to: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justice, whereby communities are seen as having a fundamental right to control the distribution and use of information that is tied to their collective identity;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s that are gained from their cultural knowledge base. There is a belief that the indigenous communities should be receiving any financial gains stemming from their knowledg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E552-547C-4B09-AAC2-6A63409C7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tecting local interes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e to the risks associated with posting material online, it is important to take measures to ensure that the rights of community members over the knowledge that they contribute are protected. The interests of community members can be protected from infringement upon their traditional knowledge base in a number of different ways. These includ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ociating the right holders’ information, such as name and contact information, with the data that they provide. This information does not necessarily need to be displayed online alongside the data, but could be housed in a separate database. Regardless of how it is done, it is important to keep track of where the information is coming from and who officially possesses the rights to that knowledge base. These rights could also be held collectively by groups, including entire commun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ights of contributors may also be protected by limiting access or by attaching some kind of statement outlining acceptable uses of the information. These statements can be displayed alongside the data when accessed by someone from outside the commun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ests can also be protected by establishing policies surrounding the use of certain types of data. This may include excluding certain information that is sensitive or that the group collectively feels should not be shared publicly. These policies may also necessitate that permission be granted exclusively by those individuals who can be seen as possessing some kind of right over the knowledge that is being displayed. This could be one person or an entire community, depending on the nature of the information that is being sha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91FC-1E23-4010-9428-1871BB392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nternet-based mapping can be an effective and inexpensive way to document and present community spatial knowledge, there are a number of risks and limitations to this method that community members and practitioners need to be conscious of before investing in the development of such a system. Armed with an awareness of some of the limitations, map makers may be able to mitigate potential problems before they occur. This Unit will discuss some of the risks and limitations related to Internet-based participatory map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279D-34C0-45FE-9AC9-5DC1C5249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st of displaying data for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earlier Units (M13U01 and M13U02) discussed some of the advantages of Web-based mapping (e.g. the current low cost, a format that is relatively easy to learn and flexible data integration), it should be noted that these benefits do not come without some sacrifices. These include a degree of inaccuracy, the challenge of working with often outdated data and an inability to perform more complex spatial analyses (such as are found in Geographic Information Systems (GIS) packages). If Web-based mapping can meet the mapping needs of a community despite these shortcomings, then these drawbacks may not be a major concern. However, community members need to be aware of these limitations before investing their time and resources into developing an Internet map and they should not expect to be able to create the same kind of product that might be made using more advanced (and often expensiv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3F81-61D2-4D67-A8C1-39652ACEE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presenting local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ith all forms of participatory mapping, it is important to remember that communities are rarely homogenous units with one unified perspective. Thus, the issue might arise of who’s voice within the community is being presented on the map. With Internet-based mapping, this issue is exacerbated because the representation of spatial knowledge is mediated and presented using levels of technology that usually are not universally understood and mastered by all members of a community. It is important to avoid a situation in which those with technological skills become the gatekeepers for other community members’ knowledge. This is especially the case when they assume a role that decides what information is incorporated into a map and how that information is 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EB5D-B919-43C7-8264-B8F97C17E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isk of ex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echnologies associated with the GeoWeb are generally credited with allowing more citizen involvement in the mapping process, it is possible that certain members of the community may be excluded if their perspectives do not fit with the dominant point of view in the community. This is especially the case if they are members of society who traditionally do not have a voice (such as women or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9230-A891-4D80-8186-9FD2772E1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tools of the GeoWeb are becoming more user-friendly and are generally easier to understand than traditional GIS, they may still present a barrier to certain sectors of society. Using these tools requires having access to a computer which many people do not have. Even in situations where a community collectively has one or several computers, access may not be equal when certain members become more skilled or are more forceful about becoming involved in the mapping process. Also, while the technologies are becoming simpler to use and understand, some people still may find them to be overly complicated, particularly if they are working with a computer for the fir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EF62-CB2C-4883-94A2-52C2C0578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going management of an Internet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map has been created and initial information has been added, the community likely will wish to continue adding points and updating the map. It may be necessary to put one person or a small group of people in charge of overseeing this. This role is usually referred to as a moderator (i.e. someone who will be in charge of monitoring and uploading information that community members submit to the map). The moderator(s) will play an important role in the early and ongoing stages of the map-making process. However, the controlling nature of this role could lead to a situation in which some community members become excluded from adding their own information to the map. This can be potentially mitigated by establishing a set of protocols for creating, submitting and uploading information to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0E12-DAED-4649-AF58-171962FBF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tecting onlin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formation contained on an Internet-based map is usually available to any user of the World Wide Web (although it is possible to keep the map private, protecting it by allowing access only to those users with a registered user name and password). Given this, it is important to ensure that no sensitive information is included in the map. Furthermore, all contributors to the map must be made aware of the way in which the data they provide ultimately will be displayed and they must confirm that they are comfortable with this. It is also possible to make certain aspects of the map publicly visible, with other aspects visible only to members who log in to view the map. </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973-B508-45F9-86DD-818D8254B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se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may be different requirements for disseminating the data, depending on the characteristics of the audience(s) for whom the map is being made. When dealing with dispersed communities, there should be some means of ensuring that all members have access to the map. When working with smaller communities, the dissemination process may simply involve holding a town meeting during which community members are introduced to the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B5D5-19DA-4E28-8187-909C8FC09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616E9D-3A64-4B5D-97AB-4C331316C2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66540F4-1954-4318-A5A5-88709FD95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444F6C75-B24E-4E9D-BF33-B4E736C14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F9654D87-0E6A-4619-8862-A15E8D9E7E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A6F004B-AC5D-408D-9190-0C4F44AA5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60F62BB-5810-4EF5-8DAA-40B9AFBB1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CBBF207-8FCD-4D13-87B5-C3E75E650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0D8FA3D-F892-409C-99F1-97116F32C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72C9D85-EE2D-482E-997D-CBC5BCCF6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2995479-7A7E-44C6-844A-8FA5F8B8C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DD30740-A5FC-4C1B-8205-40AA9074F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3C768FB-88B5-4289-865D-CE72AE99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6015928-C5A0-4958-932C-6AC3B011F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FD88EA5-353B-46BE-8F3D-F0E36979F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8147916-194D-40C1-AC6D-6BC898EAA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8729EF6-75D1-4F06-AC58-E50325B7C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847999D-5A33-4F75-801A-6CB33B0E2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9A67CF4-555C-4305-9089-E5D267A7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8546F31-78DD-425D-81EE-25496841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7B59C31D-3D7E-4AC8-B2A1-6F348334E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34779A2-F196-4FC3-90D2-7D3049BD1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D160FE3-5083-41E8-A2D8-F19EA6171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5A0D721-CFC4-4125-9A59-AC103C25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1A0554C-0D6A-4307-B14A-0E6BD0C599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A886-87FB-4924-9036-F22F68504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AAD5-D7C8-4F16-B4DA-71C1FFCEA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Internet-based Mapping</a:t>
            </a:r>
            <a:endParaRPr b="0" lang="en-US" sz="4400" spc="-1" strike="noStrike">
              <a:solidFill>
                <a:srgbClr val="cc3300"/>
              </a:solidFill>
              <a:latin typeface="Arial"/>
            </a:endParaRPr>
          </a:p>
        </p:txBody>
      </p:sp>
      <p:sp>
        <p:nvSpPr>
          <p:cNvPr id="90" name="PlaceHolder 2"/>
          <p:cNvSpPr>
            <a:spLocks noGrp="1"/>
          </p:cNvSpPr>
          <p:nvPr>
            <p:ph type="subTitle"/>
          </p:nvPr>
        </p:nvSpPr>
        <p:spPr>
          <a:xfrm>
            <a:off x="1382760" y="391428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isks and Limitations</a:t>
            </a:r>
            <a:endParaRPr b="0" lang="en-US" sz="3200" spc="-1" strike="noStrike">
              <a:solidFill>
                <a:srgbClr val="5f5f5f"/>
              </a:solidFill>
              <a:latin typeface="Arial"/>
            </a:endParaRPr>
          </a:p>
        </p:txBody>
      </p:sp>
      <p:sp>
        <p:nvSpPr>
          <p:cNvPr id="91" name="Rectangle 4"/>
          <p:cNvSpPr/>
          <p:nvPr/>
        </p:nvSpPr>
        <p:spPr>
          <a:xfrm>
            <a:off x="27039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3U03</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ding and modifying data</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ther or not to allow additional contribu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cussion boa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be able to add or modif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oversee th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ill there be any restrictio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aling with offensive content</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me content could offend oth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can be intended or uninten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portant to decide on a set of standard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llectual property rights</a:t>
            </a:r>
            <a:endParaRPr b="0" lang="en-US" sz="4400" spc="-1" strike="noStrike">
              <a:solidFill>
                <a:srgbClr val="cc33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ights that groups hold over their own:</a:t>
            </a:r>
            <a:endParaRPr b="0" lang="en-US" sz="32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knowledge;</a:t>
            </a:r>
            <a:endParaRPr b="0" lang="en-US" sz="28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eliefs; </a:t>
            </a:r>
            <a:endParaRPr b="0" lang="en-US" sz="28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actices;</a:t>
            </a:r>
            <a:endParaRPr b="0" lang="en-US" sz="28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twork;</a:t>
            </a:r>
            <a:endParaRPr b="0" lang="en-US" sz="28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ther cultural expressions.</a:t>
            </a:r>
            <a:endParaRPr b="0" lang="en-US" sz="28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portant to protect for reasons related to:</a:t>
            </a:r>
            <a:endParaRPr b="0" lang="en-US" sz="32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cial justice;</a:t>
            </a:r>
            <a:endParaRPr b="0" lang="en-US" sz="2800" spc="-1" strike="noStrike">
              <a:solidFill>
                <a:srgbClr val="5f5f5f"/>
              </a:solidFill>
              <a:latin typeface="Arial"/>
            </a:endParaRPr>
          </a:p>
          <a:p>
            <a:pPr lvl="1" marL="698400" indent="-2685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air distribution of benefits.</a:t>
            </a:r>
            <a:endParaRPr b="0" lang="en-US" sz="2800" spc="-1" strike="noStrike">
              <a:solidFill>
                <a:srgbClr val="5f5f5f"/>
              </a:solidFill>
              <a:latin typeface="Arial"/>
            </a:endParaRPr>
          </a:p>
          <a:p>
            <a:pPr lvl="2" marL="1074240" indent="-21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tecting local interests</a:t>
            </a:r>
            <a:endParaRPr b="0" lang="en-US" sz="44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ests can be protected b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toring right holders’ information alongside their contribu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miting access to da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utlining acceptable uses of da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cluding sensitive informatio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nly providing community members with access to more sensitive materi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coming aware of limit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itigating problem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esenting local perspecti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naging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tecting online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llectual property righ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cost of displaying data for free</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accurate and outdated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ability to perform complex spatial analy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backs may not be of concer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 not expect a more sophisticated produ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presenting local perspectives</a:t>
            </a:r>
            <a:endParaRPr b="0" lang="en-US" sz="4400" spc="-1" strike="noStrike">
              <a:solidFill>
                <a:srgbClr val="cc3300"/>
              </a:solidFill>
              <a:latin typeface="Arial"/>
            </a:endParaRPr>
          </a:p>
        </p:txBody>
      </p:sp>
      <p:sp>
        <p:nvSpPr>
          <p:cNvPr id="99"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ies are rarely homogenou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s voice is being presen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ology not universally understoo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are the gatekeepers of local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risk of exclusion</a:t>
            </a:r>
            <a:endParaRPr b="0" lang="en-US" sz="4400" spc="-1" strike="noStrike">
              <a:solidFill>
                <a:srgbClr val="cc33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cluding atypical perspecti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me people may not have a voic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om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hildr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elderl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sick or disabl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echnocracy</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ology may be a barrier for so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essing a computer and Internet conne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ess may not be equal within the commun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derstanding basic computer skill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naging an Internet-based map</a:t>
            </a:r>
            <a:endParaRPr b="0" lang="en-US" sz="4400" spc="-1" strike="noStrike">
              <a:solidFill>
                <a:srgbClr val="cc33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uture additions and upda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be in char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ld be exclusionar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tablishing protocols f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ing cont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ubmitting inform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pdating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tecting online information</a:t>
            </a:r>
            <a:endParaRPr b="0" lang="en-US" sz="4400" spc="-1" strike="noStrike">
              <a:solidFill>
                <a:srgbClr val="cc33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is often available to any Internet us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n be password protec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oid displaying sensitive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ributors must agree to having their contributions displayed onlin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ssemination</a:t>
            </a:r>
            <a:endParaRPr b="0" lang="en-US" sz="4400" spc="-1" strike="noStrike">
              <a:solidFill>
                <a:srgbClr val="cc33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r whom is the map being mad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aling with dispersed commun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roducing community members to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09-08-18T10:08:31Z</dcterms:modified>
  <cp:revision>2</cp:revision>
  <dc:subject/>
  <dc:title>Presentation - Participatory Internet-based Mapping: Risks and Limi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3</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