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3DAE-B5C7-4C2D-80D5-B9FC08251FE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D316-0A28-45B2-88DD-6326F520D7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n-ended versus closed-end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wo general types of questions interviewers use: open-ended and closed-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open-ended</a:t>
            </a:r>
            <a:r>
              <a:rPr b="1" lang="en-GB" sz="1200" spc="-1" strike="noStrike">
                <a:solidFill>
                  <a:srgbClr val="000000"/>
                </a:solidFill>
                <a:latin typeface="Arial"/>
              </a:rPr>
              <a:t> </a:t>
            </a:r>
            <a:r>
              <a:rPr b="0" lang="en-GB" sz="1200" spc="-1" strike="noStrike">
                <a:solidFill>
                  <a:srgbClr val="000000"/>
                </a:solidFill>
                <a:latin typeface="Arial"/>
              </a:rPr>
              <a:t>question cannot be answered with a simple “yes” or “no”. Open-ended questions are more conversational and can help an interviewee open up and provide mor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What is your favourite childhood mem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the other hand, a closed-ended question is a form of question that can be answered using a simple “yes” or “no”, a specific simple piece of information or a selection from a set of predefined choices established by the intervie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Do you like 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ep in mind that closed-ended or open-ended questions do not need to be used exclusively. Many interviewers use a combination of both. Closed-ended questions can help warm up an interviewee at the start of an int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ended questions encourage and support discussion.  They often trigger more</a:t>
            </a:r>
            <a:r>
              <a:rPr b="0" i="1" lang="en-GB" sz="1200" spc="-1" strike="noStrike">
                <a:solidFill>
                  <a:srgbClr val="000000"/>
                </a:solidFill>
                <a:latin typeface="Arial"/>
              </a:rPr>
              <a:t> </a:t>
            </a:r>
            <a:r>
              <a:rPr b="0" lang="en-GB" sz="1200" spc="-1" strike="noStrike">
                <a:solidFill>
                  <a:srgbClr val="000000"/>
                </a:solidFill>
                <a:latin typeface="Arial"/>
              </a:rPr>
              <a:t>questions for the interviewer because they encourage the interviewees to share and elaborate upon their perspectives – in other words, the interview becomes more of a conver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general tip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the respondents engaged in the discussion as soon as possible. They should be conversing with the interviewer, rather than merely providing answers to the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an open-ended question to encourage individuals to expand on a top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a closed-ended question to follow up on specific detai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questions about the present before asking questions about the past or the future; it’s usually easier for respondents to talk about the present and then work into the past or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rding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ay that the interviewer phrases a question is of great importance because it often shapes the way that an interviewee answers it. Therefore, the questions should not reflect the interviewer’s personal opinions regarding the issues. Instead, they should seek to explore the knowledge of the interview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viewer needs to develop questions that employ “neutral phrasing”. Neutral phrasing encourages the interviewees to answer freely, rather than encouraging them to provide an answer that they feel fits the interviewer’s views. When crafting research questions, the interviewer should ensure th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ding is open-ended. Respondents should be able to choose their own terms and ways of expressing their ideas when answering ques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s are perceived by the interviewees as being neutral. This means avoiding wording that might influence answ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s are asked one at a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s are worded clearly. This involves presenting questions in a way, and using language, that respondents underst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why” questions are used with caution. This type of question can make a respondent feel defensive (i.e. that they may have to justify their answers) and thus may inhibit further respon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questions are not phrased neutrally, the line of questioning is referred to as “leading”. Leading is when an interviewer tries (consciously or unconsciously) to get a specific answer (that often suits his or her own agenda) from the interviewees, rather than allowing them to answer the question fre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e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listening refers to the way that the interviewer listens to and interacts with the interviewees. It encourages developing a dialogue whereby the interviewees feel that their contribution is appreciated, interesting and respected. There are a number of ways that the interviewer can achiev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e the interviewees. Sit up straight or lean forward slightly to show attentiveness through body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ain eye contact, to the degree that everyone remains comfort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d appropriately to show that what is being said is understoo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 solely on what the interviewees are saying. Try not to think about what to say next. The conversation follows a logical flow after the speakers makes their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ep an open mind. Wait until the interviewees are finished before responding. Try not to make assumptions about what the interviewees are thinking. Ask for clarification if need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oid expressing personal opinions or experiences, unless the interviewees specifically a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interrupt the interviewees in the middle of a sentence or thought; wait until they have finished. That way, their train of thought is not br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using an active listening approach, the interviewer hears the essence of the story as it is told. Often, interviewees may only hint at important subjects in a story; the interviewers are better able to pick up on these hints and explore them in greater depth if they are actively listening. They can therefore much more effectively guide the interview and respond with perceptive and relevant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ing comfortable with long silences is crucial to the listening process. The timing of questions often requires the interviewers to sit through the silences of the interviewees' internal dialog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ed from http://tinyurl.com/nqkkj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knowledging 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it is important that the interviewees know that the interviewer is actively listening during the course of the interview, many “uh-huhs” can become distracting. Furthermore, if the interview is recorded using an audio recorder or video camera, those noises are heard on the final documented record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equently, the interviewer’s responses, except for questions, should be timely (i.e. at a point when they can be edited out and not overlap with the interviewees' comments) and kept to a minimum. When the interviewer feels a need to respond, eye contact, head nodding or smiling are useful visual affirmations to express that the interviewer is listening to the information being sh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aphr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interviewees need to be assured that they are being listened to and that their stories are understood, try to paraphrase an important part of the interview. Paraphrasing is restating a text or passage in the interviewer’s own words. This lets the interviewees know that the interviewer is connecting with them and their stories and is truly listening. However, as in the “Acknowledging answers” section above, it is important that any paraphrasing be done at a point in the interview when the interviewees have finished speaking so that the interviewer’s paraphrased words can be edited out and not overlap with the interviewees' spe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viewee:  “When I was young, we would spend all summer in camps around the territory. Life was fun; we would play by the sea and pick berries in the forest. It was hard too… I remember we would have to haul fresh water every day, gut fish and always eat the same food!  Happy mem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viewer’s paraphrase: “You had a wonderfully free life living so close to the land; it involved a lot of hard work too</a:t>
            </a:r>
            <a:r>
              <a:rPr b="0" i="1" lang="en-GB"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pping and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ing maps present during interviews can help interviewees focus on land-related information and st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interview:  It is important to be informed about the respondent prior to the interview. What knowledge do interviewees have that can be mapped?   For example, do the interviewees have knowledge about fish harvesting areas?  If so, it may be a good idea to bring maps that would help identify these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interview:  When asking interviewees to identify location-specific information on the map, the interviewer shou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 through the map with the interviewees and ensure that they are familiar with the map format and the area that it cov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ourage the interviewees to draw on the map when they are talking or sharing information that refers to a place or an area. It is a good idea to demonstrate a few examples first and then allow them to try doing it themsel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ign each feature on the map a unique number when locations on the map are identified. Be sure to record the location and number. This helps in identifying the information on the map after the interview has finish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different colours or symbols and make a legend in a notebook to keep things separate on the map if there are several features grouped together in a small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luding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concluding the interview, it is a good idea to ask the interviewees if there is anything else they would like to discuss. Concluding in this way gives the interviewees the chance to ask questions, while potentially opening up a new line of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end of the interview, the interviewers may also wish to take a break and review their notes for any questions that may have gone unasked. The interviewers could also spend some time with the interviewees reviewing what will be done with the interview. The interviewees may want to know a little bit about the interviewers. They may be interested in how the results will be used. Use these kinds of interests as a way to wrap up the conversation. It is important that the interviewees do not feel as if they have been rushed out upon completion of the int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interview has finished, thank the interviewees. Even if the interview did not go well, it is important to politely thank the interviewees for their time and sharing their thoughts, knowledge and opin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describes techniques to assist the interviewer in developing and delivering interviews with community members. It discusses the preparatory requirements for conducting the interview. It covers the equipment necessary, the choice of places to complete the interview and possibilities for recording the interview. The Unit discusses approaches to conducting interviews (e.g. structured, semi-structured, or more open-ended interview styles), focus group discussions and how the choice of interview style can affect the outcomes.  The Unit includes an analysis of biases that interviewers may impose upon subjects if interviewers are unaware of the positions they occupy and how these biases may be circumv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view process is an art, not a science. Interviews are a way to explore and document the stories behind an individual’s or family’s experiences and knowledge. The interview provides a place for the interviewees to tell their stories as they remember them and for the interviewer to encourage the sharing of those memories. For the interviewer and interviewee to get the most out of an interview, the questions are of central importance. It is crucial to prepare for the interview by becoming familiar with the persons who are being interviewed and the types of information that are of interest. Of equal importance is having the skills to document the information that is shared; this may involve taking notes or recording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paring for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any ways, a good interview is like a good conversation. However, it is important for the interviewer to clearly understand the topic and purpose of the interview to ensure that the conversation is produ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exactly the topic of discussion. The topic is often determined by why you are doing the interview in the first place. This likely involves input from community members on what topics they feel are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ft a preliminary set of questions discussing the relevant information and consult them throughout the int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initi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conducting an interview, potential interviewees need to be contacted to see if they are willing to be interviewed. A well-prepared interviewer understands the purpose of the interview project and is able to explain this clearly to the potential interviewee. After understanding the purpose of the project, an interviewee is more likely to feel comfortable with the interviewer and, therefore, more willing to participate. On the other hand, a poor explanation of the purpose for the interview may confuse the prospective interviewee; this may make the interviewer appear unprofessional and may discourage the potential interviewee from participating in an int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nitial contact is made, it is important that the potential interviewee be informed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about the project (its purpose, objec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ong the interview is expected to last and where it will take 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the interview will be used once it is comple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will be present at the int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expected of the interviewee (including sometimes the types of questions that may b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pare the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ually when an interview is conducted, it is recorded or documented so the knowledge that has been shared is not lost. Before beginning the interview, it is vital that the interviewer be familiar with the equipment in order to prevent problems from occurring during the interview. Equipment can include audio recorders, microphones or video cam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 the basics: power on/off, audio levels, enabling the recording function and auxiliary power suppl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that any batteries are fully charged the night before the interview. It is also a good idea to carry some back-up batter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e an unused cassette or other recording media for each interview that is conducted. This makes it easier to organise later. Once again, make sure that a spare cassette is on hand for those unexpected mom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 absolutely sure about how long the device or media records (e.g. 45 minutes, 60 minutes, 2 hours) and plan for the number of cassettes that will be need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during the interview that the device is actively recording. Often the way to do this with a video camera or digital audio recorder is to use headphones and ensure that the recording light or symbol is displayed on the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oosing a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 number of considerations when choosing a suitable location to conduct an interview. It should be free of distractions for the interviewer and, more importantly, for the respondent.  While some respondents may be comfortable with an interview in a more public setting, others may feel more relaxed and willing to open up in their own homes. Often the best course of action is to ask the interviewees where they would feel most comfortable being intervie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when conducting an interview, too much background noise can be distracting and may ruin the quality of an audio recording. Often the naked ear filters out background noises that the recording device does not  Every small sound – a car passing, a lawnmower cutting, children laughing – all are 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tting up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 audio recording device is used, it should be positioned close to the interviewee. If a microphone is placed on a table, ensure that it is lifted off the table using a stand or else there is the danger that the tabletop will reflect the sound and cause an echo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onsidering where the interviewee should sit in a room, pay attention to things around the room that might cause a distraction. For example, the interviewer should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 door that may open during the intervie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n open wind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n audible television or radio play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you close to a refrigerator, air conditioner or computer whose fans impact the audio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f these noises can be minimised by seating the interviewees with their backs to the quietest side of the room and with the microphone positioned in front of them, pointing towards the quie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preferable that windows be closed and that computers, air conditioners and telephone ringers be turned off during the interview. Remember that refrigerators and air conditioners turn on and off automatically and cause unnecessary noise – this</a:t>
            </a:r>
            <a:r>
              <a:rPr b="0" i="1" lang="en-GB" sz="1200" spc="-1" strike="noStrike">
                <a:solidFill>
                  <a:srgbClr val="000000"/>
                </a:solidFill>
                <a:latin typeface="Arial"/>
              </a:rPr>
              <a:t> </a:t>
            </a:r>
            <a:r>
              <a:rPr b="0" lang="en-GB" sz="1200" spc="-1" strike="noStrike">
                <a:solidFill>
                  <a:srgbClr val="000000"/>
                </a:solidFill>
                <a:latin typeface="Arial"/>
              </a:rPr>
              <a:t>is a good argument for not conducting the interview in a kitchen! Use judgment as to whether or not it is advisable to stop the interview for a loud noise. It might be more important at that moment to let the person continue 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viewer must always balance the sound quality of the interview with the general comfort and ease of the interview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o much fussing can make a person feel nervous and inhibited when it is finally time to start tal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k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 interview to be successful, the interviewees must feel comfortable, engaged and prepared to talk. Of critical importance in achieving this is for the interviewers to ask clear, relevant and searching questions in an inquisitive manner and to actively listen to responses so they are prepared to follow initial questions with further, probing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ood place to start when designing a successful interview is to consider what comprises a good question and, perhaps more importantly, what is a bad question. The type of questions that are asked during an interview relate directly to the type of information interviewees discuss. Therefore, a good question inspires a discussion that generates important and interesting information about the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the other hand, bad questions do exactly the opposite. A bad ques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esn’t provide insight about an interesting top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upset the interviewees or make them feel awkw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engages the interviewees so they soon tire of the interview and take less care in responding to the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disrupt the flow of the conversation and leave the interviewees feeling conf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where, who, how, when,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structuring the overall flow of an interview and designing a set of questions, it is often helpful to think about what, where, who, how, when, and why. These questions provide a formula for getting the full story on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if the topic of interest was harvesting Oolichan (a small fish used by the Indigenous People on the west coast of Canada), it would be helpful to first think about the topic (Oolichan harvesting) and the types of information that are sought. The goal is to ask the questions that produce the most information about the topic. Some examples of the types of questions that could be asked can be found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memories do you have of Oolichan harves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did you fish for Oolich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whom did you fis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kind of equipment did you use to harvest Oolich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old were you when you harvested Oolich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time of year did you harvest Oolic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277046-CD1E-4427-9CC2-43C8CEA075B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957CD13-9BFC-4367-AB9B-C8F79E465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1D1A0A50-DCC5-4580-96FF-F24886D1C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8A92DD8C-84A9-41C5-A6DE-150218E62F7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01AA785-1DFA-441A-A771-DBEF0356F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87896BD-3D6F-48EE-90FD-04F35A770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D649222-FAEB-4A6A-81CB-5FF441B23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D265DDF-5E2A-4020-9B9B-DEA1B42C0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6F4C00D-7636-4CBC-908D-41C206E8A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13DB804-AA47-43EC-8E32-B090EC4BC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B3268E7-4AF4-46D2-93A6-6646FD77F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1B9E430-B958-42B8-A42D-C09BD70D3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293FA7A-4977-471B-8CFC-829CB61CA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21AEBC2-E3B2-4606-9ED7-B72E1DAD7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E469593-48CD-405F-AE39-4AB7E24E4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EEC335B-2E1B-42F1-A2A3-3D298F859D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CC54DEC-624A-4326-8047-11A7AA50B9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968FD4B5-F8DA-40FD-9A55-2A176AD5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B71BA2C-9C72-49AB-9694-291716EB7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28A55294-8A9A-449B-9093-B02B87F8C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19EF700A-DB69-4377-BFB7-BB6B823D3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754342A-683B-45F0-B7FB-A1B5C53A9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79D17CC-19EB-4C06-B031-9657AD343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8C1C3CB-72C9-4DBB-B10A-1046862A616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5250-2EA7-4339-94D4-AFE1944CEFE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2350-EAEC-4A78-B017-397290D9666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ation</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viewing Techniques</a:t>
            </a:r>
            <a:endParaRPr b="0" lang="en-US" sz="3200" spc="-1" strike="noStrike">
              <a:solidFill>
                <a:srgbClr val="5f5f5f"/>
              </a:solidFill>
              <a:latin typeface="Arial"/>
            </a:endParaRPr>
          </a:p>
        </p:txBody>
      </p:sp>
      <p:sp>
        <p:nvSpPr>
          <p:cNvPr id="92" name="Rectangle 4"/>
          <p:cNvSpPr/>
          <p:nvPr/>
        </p:nvSpPr>
        <p:spPr>
          <a:xfrm>
            <a:off x="372996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f5f5f"/>
                </a:solidFill>
                <a:latin typeface="Arial"/>
              </a:rPr>
              <a:t>Unit: M14U02</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Open-ended vs. closed-ended questions</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pen-ended:</a:t>
            </a:r>
            <a:endParaRPr b="0" lang="en-US" sz="32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nnot be answered with “yes” or “no”</a:t>
            </a:r>
            <a:endParaRPr b="0" lang="en-US" sz="28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ore conversational</a:t>
            </a:r>
            <a:endParaRPr b="0" lang="en-US" sz="28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n help an interviewee open up</a:t>
            </a:r>
            <a:endParaRPr b="0" lang="en-US" sz="2800" spc="-1" strike="noStrike">
              <a:solidFill>
                <a:srgbClr val="5f5f5f"/>
              </a:solidFill>
              <a:latin typeface="Arial"/>
            </a:endParaRPr>
          </a:p>
          <a:p>
            <a:pPr lvl="3" marL="1551960" indent="-22140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losed-ended:</a:t>
            </a:r>
            <a:endParaRPr b="0" lang="en-US" sz="32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n be answered with “yes” or “no”</a:t>
            </a:r>
            <a:endParaRPr b="0" lang="en-US" sz="28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ovides specific information</a:t>
            </a:r>
            <a:endParaRPr b="0" lang="en-US" sz="28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n help warm up an interviewee at the outset</a:t>
            </a:r>
            <a:endParaRPr b="0" lang="en-US" sz="2800" spc="-1" strike="noStrike">
              <a:solidFill>
                <a:srgbClr val="5f5f5f"/>
              </a:solidFill>
              <a:latin typeface="Arial"/>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08440" indent="-2214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08440" indent="-2214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08440" indent="-2214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ording of questions</a:t>
            </a:r>
            <a:endParaRPr b="0" lang="en-US" sz="4400" spc="-1" strike="noStrike">
              <a:solidFill>
                <a:srgbClr val="cc33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hapes the way an interviewee will answ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eutral phras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eading question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Questions: one at a time and clearly ask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 “why” questions with cau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ctive listening</a:t>
            </a:r>
            <a:endParaRPr b="0" lang="en-US" sz="4400" spc="-1" strike="noStrike">
              <a:solidFill>
                <a:srgbClr val="cc3300"/>
              </a:solidFill>
              <a:latin typeface="Arial"/>
            </a:endParaRPr>
          </a:p>
        </p:txBody>
      </p:sp>
      <p:sp>
        <p:nvSpPr>
          <p:cNvPr id="116" name=""/>
          <p:cNvSpPr txBox="1"/>
          <p:nvPr/>
        </p:nvSpPr>
        <p:spPr>
          <a:xfrm>
            <a:off x="457200" y="1285920"/>
            <a:ext cx="8229600" cy="4525920"/>
          </a:xfrm>
          <a:prstGeom prst="rect">
            <a:avLst/>
          </a:prstGeom>
          <a:noFill/>
          <a:ln w="0">
            <a:noFill/>
          </a:ln>
        </p:spPr>
        <p:txBody>
          <a:bodyPr anchor="t">
            <a:normAutofit fontScale="90000"/>
          </a:bodyPr>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istening to and interacting with the interviewee</a:t>
            </a:r>
            <a:endParaRPr b="0" lang="en-US" sz="32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chieved by: </a:t>
            </a:r>
            <a:endParaRPr b="0" lang="en-US" sz="32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facing the interviewee</a:t>
            </a:r>
            <a:endParaRPr b="0" lang="en-US" sz="28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intaining eye contact</a:t>
            </a:r>
            <a:endParaRPr b="0" lang="en-US" sz="28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responding appropriately</a:t>
            </a:r>
            <a:endParaRPr b="0" lang="en-US" sz="28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focusing on what is being said</a:t>
            </a:r>
            <a:endParaRPr b="0" lang="en-US" sz="28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not interrupting</a:t>
            </a:r>
            <a:endParaRPr b="0" lang="en-US" sz="28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keeping an open mind</a:t>
            </a:r>
            <a:endParaRPr b="0" lang="en-US" sz="28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 not overuse</a:t>
            </a:r>
            <a:endParaRPr b="0" lang="en-US" sz="3200" spc="-1" strike="noStrike">
              <a:solidFill>
                <a:srgbClr val="5f5f5f"/>
              </a:solidFill>
              <a:latin typeface="Arial"/>
            </a:endParaRPr>
          </a:p>
          <a:p>
            <a:pPr lvl="2" marL="1028520" indent="-205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cknowledging answers</a:t>
            </a:r>
            <a:endParaRPr b="0" lang="en-US" sz="4400" spc="-1" strike="noStrike">
              <a:solidFill>
                <a:srgbClr val="cc3300"/>
              </a:solidFill>
              <a:latin typeface="Arial"/>
            </a:endParaRPr>
          </a:p>
        </p:txBody>
      </p:sp>
      <p:sp>
        <p:nvSpPr>
          <p:cNvPr id="118" name=""/>
          <p:cNvSpPr txBox="1"/>
          <p:nvPr/>
        </p:nvSpPr>
        <p:spPr>
          <a:xfrm>
            <a:off x="457200" y="1689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be distract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ill be heard on final record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hould be timely and kept to a minimu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on-verbal cu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head nodd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mil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eye contac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araphrasing</a:t>
            </a:r>
            <a:endParaRPr b="0" lang="en-US" sz="4400" spc="-1" strike="noStrike">
              <a:solidFill>
                <a:srgbClr val="cc33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statement in the interviewer’s own wor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hows understand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ne in a timely mann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 not interrupt interviewe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ping and interviews</a:t>
            </a:r>
            <a:endParaRPr b="0" lang="en-US" sz="4400" spc="-1" strike="noStrike">
              <a:solidFill>
                <a:srgbClr val="cc3300"/>
              </a:solidFill>
              <a:latin typeface="Arial"/>
            </a:endParaRPr>
          </a:p>
        </p:txBody>
      </p:sp>
      <p:sp>
        <p:nvSpPr>
          <p:cNvPr id="122" name=""/>
          <p:cNvSpPr txBox="1"/>
          <p:nvPr/>
        </p:nvSpPr>
        <p:spPr>
          <a:xfrm>
            <a:off x="45720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ool for focusing on land-related inform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stimulate memor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nsure interviewee is familiar with map form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ncourage interviewees to draw on the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oncluding the interview</a:t>
            </a:r>
            <a:endParaRPr b="0" lang="en-US" sz="4400" spc="-1" strike="noStrike">
              <a:solidFill>
                <a:srgbClr val="cc3300"/>
              </a:solidFill>
              <a:latin typeface="Arial"/>
            </a:endParaRPr>
          </a:p>
        </p:txBody>
      </p:sp>
      <p:sp>
        <p:nvSpPr>
          <p:cNvPr id="124" name=""/>
          <p:cNvSpPr txBox="1"/>
          <p:nvPr/>
        </p:nvSpPr>
        <p:spPr>
          <a:xfrm>
            <a:off x="457200" y="1928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s there anything you’d like to ad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view notes for unasked ques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rap up the intervie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ank the responden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
          <p:cNvSpPr txBox="1"/>
          <p:nvPr/>
        </p:nvSpPr>
        <p:spPr>
          <a:xfrm>
            <a:off x="457200" y="1546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xploring and documenting experiences and knowled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eparing for the intervie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viewing sty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viewing techniqu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pping interview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reparing for the interview</a:t>
            </a:r>
            <a:endParaRPr b="0" lang="en-US" sz="4400" spc="-1" strike="noStrike">
              <a:solidFill>
                <a:srgbClr val="cc3300"/>
              </a:solidFill>
              <a:latin typeface="Arial"/>
            </a:endParaRPr>
          </a:p>
        </p:txBody>
      </p:sp>
      <p:sp>
        <p:nvSpPr>
          <p:cNvPr id="98" name=""/>
          <p:cNvSpPr txBox="1"/>
          <p:nvPr/>
        </p:nvSpPr>
        <p:spPr>
          <a:xfrm>
            <a:off x="457200" y="2117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 good interview is like a good convers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nderstand the topic of discuss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raft preliminary question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king initial contact</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xplain purpose to potential interviewe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form potential interviewees about:</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formation about the project</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how long the interview will last</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ere it will take place</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o will be present</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at will be expected of the interviewee </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Equipment</a:t>
            </a:r>
            <a:endParaRPr b="0" lang="en-US" sz="4400" spc="-1" strike="noStrike">
              <a:solidFill>
                <a:srgbClr val="cc3300"/>
              </a:solidFill>
              <a:latin typeface="Arial"/>
            </a:endParaRPr>
          </a:p>
        </p:txBody>
      </p:sp>
      <p:sp>
        <p:nvSpPr>
          <p:cNvPr id="102" name=""/>
          <p:cNvSpPr txBox="1"/>
          <p:nvPr/>
        </p:nvSpPr>
        <p:spPr>
          <a:xfrm>
            <a:off x="457200" y="1474920"/>
            <a:ext cx="822960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ypes of equipment: </a:t>
            </a:r>
            <a:endParaRPr b="0" lang="en-US" sz="32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udio recorders</a:t>
            </a:r>
            <a:endParaRPr b="0" lang="en-US" sz="28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icrophones</a:t>
            </a:r>
            <a:endParaRPr b="0" lang="en-US" sz="28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video cameras</a:t>
            </a:r>
            <a:endParaRPr b="0" lang="en-US" sz="28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viewers should:</a:t>
            </a:r>
            <a:endParaRPr b="0" lang="en-US" sz="32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earn the basics of using the equipment</a:t>
            </a:r>
            <a:endParaRPr b="0" lang="en-US" sz="28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ensure that batteries are fully charged</a:t>
            </a:r>
            <a:endParaRPr b="0" lang="en-US" sz="28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heck that the device is recording throughout the interview</a:t>
            </a:r>
            <a:endParaRPr b="0" lang="en-US" sz="2800" spc="-1" strike="noStrike">
              <a:solidFill>
                <a:srgbClr val="5f5f5f"/>
              </a:solidFill>
              <a:latin typeface="Arial"/>
            </a:endParaRPr>
          </a:p>
          <a:p>
            <a:pPr lvl="2" marL="1097280" indent="-21924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097280" indent="-219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hoosing a location</a:t>
            </a:r>
            <a:endParaRPr b="0" lang="en-US" sz="4400" spc="-1" strike="noStrike">
              <a:solidFill>
                <a:srgbClr val="cc3300"/>
              </a:solidFill>
              <a:latin typeface="Arial"/>
            </a:endParaRPr>
          </a:p>
        </p:txBody>
      </p:sp>
      <p:sp>
        <p:nvSpPr>
          <p:cNvPr id="104" name=""/>
          <p:cNvSpPr txBox="1"/>
          <p:nvPr/>
        </p:nvSpPr>
        <p:spPr>
          <a:xfrm>
            <a:off x="457200" y="1617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ree of distrac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asily accessible for interviewe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sk interviewees where they would feel most comforta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void background noise</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Setting up the interview</a:t>
            </a:r>
            <a:endParaRPr b="0" lang="en-US" sz="4400" spc="-1" strike="noStrike">
              <a:solidFill>
                <a:srgbClr val="cc33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ositioning the recording device</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eating the interviewee:</a:t>
            </a:r>
            <a:endParaRPr b="0" lang="en-US" sz="32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 door that may open?</a:t>
            </a:r>
            <a:endParaRPr b="0" lang="en-US" sz="28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re there open windows?</a:t>
            </a:r>
            <a:endParaRPr b="0" lang="en-US" sz="28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n audible television or radio?</a:t>
            </a:r>
            <a:endParaRPr b="0" lang="en-US" sz="28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re there any other devices nearby that may detract from the quality of the recording?</a:t>
            </a:r>
            <a:endParaRPr b="0" lang="en-US" sz="28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lancing sound quality with comfort of interviewe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sking questions</a:t>
            </a:r>
            <a:endParaRPr b="0" lang="en-US" sz="4400" spc="-1" strike="noStrike">
              <a:solidFill>
                <a:srgbClr val="cc3300"/>
              </a:solidFill>
              <a:latin typeface="Arial"/>
            </a:endParaRPr>
          </a:p>
        </p:txBody>
      </p:sp>
      <p:graphicFrame>
        <p:nvGraphicFramePr>
          <p:cNvPr id="108" name=""/>
          <p:cNvGraphicFramePr/>
          <p:nvPr/>
        </p:nvGraphicFramePr>
        <p:xfrm>
          <a:off x="1357200" y="1571760"/>
          <a:ext cx="6500880" cy="3857400"/>
        </p:xfrm>
        <a:graphic>
          <a:graphicData uri="http://schemas.openxmlformats.org/drawingml/2006/table">
            <a:tbl>
              <a:tblPr/>
              <a:tblGrid>
                <a:gridCol w="3251160"/>
                <a:gridCol w="3249720"/>
              </a:tblGrid>
              <a:tr h="41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Arial"/>
                        </a:rPr>
                        <a:t>Good ques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Arial"/>
                        </a:rPr>
                        <a:t>Bad ques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3446280">
                <a:tc>
                  <a:txBody>
                    <a:bodyPr lIns="90000" rIns="90000" tIns="46800" bIns="46800" anchor="t">
                      <a:noAutofit/>
                    </a:bodyPr>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Inspire discussion</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Generate important and interesting information about the topic</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Flow naturally with the conversation</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Make the interviewee feel comfortable and at e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Don’t provide insight about an interesting topic</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Can upset the interviewees or make them feel awkward</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Will disengage the interviewee</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Can disrupt the flow of convers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hat, where, who, how, why, when</a:t>
            </a:r>
            <a:endParaRPr b="0" lang="en-US" sz="4400" spc="-1" strike="noStrike">
              <a:solidFill>
                <a:srgbClr val="cc3300"/>
              </a:solidFill>
              <a:latin typeface="Arial"/>
            </a:endParaRPr>
          </a:p>
        </p:txBody>
      </p:sp>
      <p:sp>
        <p:nvSpPr>
          <p:cNvPr id="110" name=""/>
          <p:cNvSpPr txBox="1"/>
          <p:nvPr/>
        </p:nvSpPr>
        <p:spPr>
          <a:xfrm>
            <a:off x="457200" y="2117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ormula for getting the full stor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at types of information are sough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sk questions that will produce the most information about the topic</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00:34:05Z</dcterms:created>
  <dc:creator>Kasondra White</dc:creator>
  <dc:description/>
  <dc:language>en-US</dc:language>
  <cp:lastModifiedBy>Kasondra</cp:lastModifiedBy>
  <dcterms:modified xsi:type="dcterms:W3CDTF">2009-10-15T05:03:39Z</dcterms:modified>
  <cp:revision>57</cp:revision>
  <dc:subject/>
  <dc:title>Presentation - Interviewing Techniq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6</vt:lpwstr>
  </property>
  <property fmtid="{D5CDD505-2E9C-101B-9397-08002B2CF9AE}" pid="9" name="Subject">
    <vt:lpwstr/>
  </property>
  <property fmtid="{D5CDD505-2E9C-101B-9397-08002B2CF9AE}" pid="10" name="_Author">
    <vt:lpwstr>Kasondra White</vt:lpwstr>
  </property>
  <property fmtid="{D5CDD505-2E9C-101B-9397-08002B2CF9AE}" pid="11" name="_Category">
    <vt:lpwstr/>
  </property>
  <property fmtid="{D5CDD505-2E9C-101B-9397-08002B2CF9AE}" pid="12" name="_Comments">
    <vt:lpwstr/>
  </property>
</Properties>
</file>