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E191-C1E9-4A97-910C-6E04A188792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2EB7-74BE-4B3B-823E-B8ADDEF4C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ercise 2: Mind Mapp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ercise 1: Shorthand Secret Cod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provides a comprehensive review of the process of taking notes in the field, including the organisation of field notes, important note-taking tools and techniques for capturing as much relevant and high quality information as possibl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s may want to remind trainees that the preferable kind of notebook will vary depending on the reasons for taking notes and on the local conditions. For example, if the note taker wishes to do a lot of writing, s/he may want a notebook with lined pages, whereas blank sheets may be a better choice if a lot of sketching or mind mapping will occur. Similarly, waterproof paper may not be as important if all of the notes will be taken indoo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lead pencils are preferable because they can be sharpened on a hard surface, such as a ro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amples of situations where it may be inappropriate to take note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convers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ceremon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s where it may be considered disrespectful to take notes (e.g. a fune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ust getting to know a person or group of peop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largely will be a judgment call as to whether or not notes should be tak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4E827C-7472-4038-AA12-27DA5A89ED1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1DD9844A-10DC-43A1-A959-DC04A874E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09EF306B-ED94-47DF-97E3-266F6A614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41FFC786-904D-4E17-9F9C-1589DC8EFD2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4AE49EC1-3358-47F6-987C-0C5CB53EC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72D8EAE-029A-4D21-B028-41D87BDFC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C697871-1835-4291-8275-9AD633DE2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F507BC3-E627-4197-9916-200E4462B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C129BE0-0350-408E-BC24-1A3B57F17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9995C1F-A9C9-4D24-B0F8-387AE565C5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32D2CF2-3130-4F40-BB03-824194BA5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5226DE4-92EB-4A60-A600-88223F798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69E87AA-7434-4727-B881-676478301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75FAE8C-9D1D-4871-A8CC-C3086F6FFF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7C1828D-8988-4774-8BD4-F8CA463C5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009AB98-B9B1-4231-9E1D-1EDA612768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82BC0C3-DB4F-428C-96C9-1E6AFA7816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08E1AD6-FDFA-4E22-AC7E-2718AB9E3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C05985B3-C10D-44B8-B5C5-B0ADE5BFC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B6659C5F-A986-429D-A06C-565917767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EB7FAEBD-25B3-47F5-89E7-34AE29AA4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038BDA8-412D-4F5E-99D5-F25DE09A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5AD5462-E047-4BFE-9403-F6237C954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966FBD7-978D-4AB4-BA28-1CDF4C2E7B3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2C85-254D-465C-8542-16174E0C0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F46E-DBA7-49F9-94C8-A5A73D96D2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undamentals of Note Taking</a:t>
            </a:r>
            <a:br>
              <a:rPr sz="4400"/>
            </a:b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ocumentation</a:t>
            </a:r>
            <a:endParaRPr b="0" lang="en-US" sz="3200" spc="-1" strike="noStrike">
              <a:solidFill>
                <a:srgbClr val="5f5f5f"/>
              </a:solidFill>
              <a:latin typeface="Arial"/>
            </a:endParaRPr>
          </a:p>
        </p:txBody>
      </p:sp>
      <p:sp>
        <p:nvSpPr>
          <p:cNvPr id="92" name="Rectangle 4"/>
          <p:cNvSpPr/>
          <p:nvPr/>
        </p:nvSpPr>
        <p:spPr>
          <a:xfrm>
            <a:off x="273636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14U03</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ersonal diary</a:t>
            </a:r>
            <a:endParaRPr b="0" lang="en-US" sz="4400" spc="-1" strike="noStrike">
              <a:solidFill>
                <a:srgbClr val="cc3300"/>
              </a:solidFill>
              <a:latin typeface="Arial"/>
            </a:endParaRPr>
          </a:p>
        </p:txBody>
      </p:sp>
      <p:sp>
        <p:nvSpPr>
          <p:cNvPr id="112"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ace to record personal thoughts and ide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tructured similar to notebook</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e and time recorde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 necessarily used to inform the map or future report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Note-taking techniques</a:t>
            </a:r>
            <a:endParaRPr b="0" lang="en-US" sz="4400" spc="-1" strike="noStrike">
              <a:solidFill>
                <a:srgbClr val="cc3300"/>
              </a:solidFill>
              <a:latin typeface="Arial"/>
            </a:endParaRPr>
          </a:p>
        </p:txBody>
      </p:sp>
      <p:sp>
        <p:nvSpPr>
          <p:cNvPr id="114" name=""/>
          <p:cNvSpPr txBox="1"/>
          <p:nvPr/>
        </p:nvSpPr>
        <p:spPr>
          <a:xfrm>
            <a:off x="457200" y="19749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ch person will have their ow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velop a system that works for you</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chniques for recording more information in less tim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ind mapp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horthand and abbreviation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ind mapping</a:t>
            </a:r>
            <a:endParaRPr b="0" lang="en-US" sz="4400" spc="-1" strike="noStrike">
              <a:solidFill>
                <a:srgbClr val="cc33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iagram used to organise thoughts through words, concepts and imag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egin with one central idea and work outwar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to illustrate relationshi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nhance with colours, symbols, icons and arrow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sing shorthand</a:t>
            </a:r>
            <a:endParaRPr b="0" lang="en-US" sz="4400" spc="-1" strike="noStrike">
              <a:solidFill>
                <a:srgbClr val="cc33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Quicker to write in point for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breviate words and use symbo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e takers may wish to develop their own shortha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ways keep a legend of abbreviations or symbols that have been use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quired as a means of: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ocumenting local knowledg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cording observa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cording ideas community members put fort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keeping track of what has been done</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ing field not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e-taking too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chniques for capturing information</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Note-taking tools</a:t>
            </a:r>
            <a:endParaRPr b="0" lang="en-US" sz="4400" spc="-1" strike="noStrike">
              <a:solidFill>
                <a:srgbClr val="cc3300"/>
              </a:solidFill>
              <a:latin typeface="Arial"/>
            </a:endParaRPr>
          </a:p>
        </p:txBody>
      </p:sp>
      <p:sp>
        <p:nvSpPr>
          <p:cNvPr id="98"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d t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cord impromptu comments or observa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reate a record of steps that have been taken</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es should be taken on a regular bas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liable tools a necessit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otebook</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riting utensil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notebook</a:t>
            </a:r>
            <a:endParaRPr b="0" lang="en-US" sz="4400" spc="-1" strike="noStrike">
              <a:solidFill>
                <a:srgbClr val="cc3300"/>
              </a:solidFill>
              <a:latin typeface="Arial"/>
            </a:endParaRPr>
          </a:p>
        </p:txBody>
      </p:sp>
      <p:sp>
        <p:nvSpPr>
          <p:cNvPr id="100" name=""/>
          <p:cNvSpPr txBox="1"/>
          <p:nvPr/>
        </p:nvSpPr>
        <p:spPr>
          <a:xfrm>
            <a:off x="457200" y="1617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urability and portability are the two most important featu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enough to write on, small enough to carr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rd cov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umbered pag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aterproof pap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riting utensils</a:t>
            </a:r>
            <a:endParaRPr b="0" lang="en-US" sz="4400" spc="-1" strike="noStrike">
              <a:solidFill>
                <a:srgbClr val="cc33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mportant for ensuring recorded data does not fade, blur or ru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ncil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edium lea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void mechanical pencil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llpoint pen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ack-up choice if a pencil is unavailable</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void felt-tipped or fountain pens</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en to take notes</a:t>
            </a:r>
            <a:endParaRPr b="0" lang="en-US" sz="4400" spc="-1" strike="noStrike">
              <a:solidFill>
                <a:srgbClr val="cc3300"/>
              </a:solidFill>
              <a:latin typeface="Arial"/>
            </a:endParaRPr>
          </a:p>
        </p:txBody>
      </p:sp>
      <p:sp>
        <p:nvSpPr>
          <p:cNvPr id="104"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y be inappropriate to take notes in some situa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uld become disengag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uld make some people uncomfortabl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rganising the notebook</a:t>
            </a:r>
            <a:endParaRPr b="0" lang="en-US" sz="4400" spc="-1" strike="noStrike">
              <a:solidFill>
                <a:srgbClr val="cc33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clude name and contact information on inside cov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ave a few blank pages for a table of conte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egorising observation typ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ormatting</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egin each new day or interview with a new pa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 date and time in a consistent form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y include names of people pres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 locati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uld involve a sketch of the are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cording observations</a:t>
            </a:r>
            <a:endParaRPr b="0" lang="en-US" sz="4400" spc="-1" strike="noStrike">
              <a:solidFill>
                <a:srgbClr val="cc33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bjective note takin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void writing note taker’s own interpret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cord actual occurrenc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ersonal ideas can be briefly noted and explored later in a personal diary</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e into multiple sec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y wish to summarise at the end of each series of not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00:34:05Z</dcterms:created>
  <dc:creator>Jond Corbett and Kasondra White</dc:creator>
  <dc:description/>
  <dc:language>en-US</dc:language>
  <cp:lastModifiedBy>hkraft</cp:lastModifiedBy>
  <dcterms:modified xsi:type="dcterms:W3CDTF">2009-10-12T21:21:31Z</dcterms:modified>
  <cp:revision>34</cp:revision>
  <dc:subject/>
  <dc:title>Presentation - The Fundamentals of Note-Ta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3</vt:lpwstr>
  </property>
  <property fmtid="{D5CDD505-2E9C-101B-9397-08002B2CF9AE}" pid="9" name="Subject">
    <vt:lpwstr/>
  </property>
  <property fmtid="{D5CDD505-2E9C-101B-9397-08002B2CF9AE}" pid="10" name="_Author">
    <vt:lpwstr>Jond Corbett and Kasondra White</vt:lpwstr>
  </property>
  <property fmtid="{D5CDD505-2E9C-101B-9397-08002B2CF9AE}" pid="11" name="_Category">
    <vt:lpwstr/>
  </property>
  <property fmtid="{D5CDD505-2E9C-101B-9397-08002B2CF9AE}" pid="12" name="_Comments">
    <vt:lpwstr/>
  </property>
</Properties>
</file>