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A7FE-A99D-422A-9606-C93C12AF18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terview is a dialogue between two or more people for the purpose of exploring a specific theme or topic or providing insight into a broad subject. Interviews usually involve an interviewer (who asks questions) and an interviewee (who answers). Interviews are intrinsic in all of the other documentation methods discussed in thi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some of the more popular interview styles is useful for recognising how they can be used for participatory mapping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cus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ocus group is an interview that is conducted with a group of people to discuss a subject of interest. The kind of information obtained through focus group interviews can resemble that obtained in a brainstorming session. For this reason, focus groups are particularly useful for determining project goals and design. On the other hand, a focus group may not be the best choice if detailed information about a specific topic is desired; that may be more easily obtained in a personal interview with one person who understands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interviews are conducted between an interviewer and one or more interviewees. They involve a discussion that is framed by a predetermined series of questions. This approach is most useful for investigating a specific subject that community members might understand differently; it should not be used for more exploratory inquir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mi-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i-structured interviews draw upon certain components of the structured interview process: the interviewer comes prepared with a series of questions or topics for discussion. However, the interview can deviate from the interview schedule. It is generally beneficial to record semi-structured interviews when exploring the range of knowledge relating to a particular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structure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structured interview begins with the premise that the interviewer does not know the most important subjects to discuss. Therefore, they are not guided by an interview schedule, but by the natural flow of conversation between the interviewer and respondent. The interviewer probes the respondent based upon the things that are said and in areas where greater detail or clarification is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photographs serves to enhance the aesthetics and content of a participatory map (especially if it is a digital map). People, places, objects or events can be photographed by community members and other people involved in the mapping project and added to the map. Historic photos or pictures from community members’ personal collections also can be included. Depending on the mapping techniques that are used, photographs may even serve as the primary form of conveying local knowledge, supplemented with text or spoke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cipatory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m is a powerful tool for conveying events, sentiments or the everyday affairs that characterise life in a particular place. Through the use of film, community members are able to demonstrate actions, practices or beliefs related to the land that may take many words to properly explain. Furthermore, film is a great equaliser because ideas can be conveyed across groups which may not share the same written or spoken language. While there are certain costs associated with using participatory video (e.g. the costs of equipment and the amount of time it takes to train those who are not familiar with these tools), footage can enhance a community map by documenting the ways that people interact with one another and the 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ice of documentation meth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preceding criteria, there are a number of questions that map makers should ask themselves prior to determining the ways to document local knowledge and the map-making process. It is important to remember that one need not choose a single technique but that multiple styles of documentation can be used to enhance the project. The following list serves as a guide to the kinds of questions that might be asked at the outset of 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ill the map be displayed (e.g. paper, model, digit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time is avail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of this time can be dedicated to the actual documentation process? And to trai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budget? Are there any opportunities for additional fun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costs of the different documentation styles that are being consider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role do community members have in the documentation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tyles of documentation are most acceptable within the commun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cumentation techniques best meet the project goals that have been outlined by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ation is a generic term that refers to the process and tools for collecting and recording information. A variety of documentation methods exist which employ visual and auditory components and convey the relevance and meaning of the material that is collected. These include text, video, audio or a combination of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includes a review of approaches to gathering and documenting information, including observation and note taking and conducting interviews. It addresses the questions of why documentation is necessary, how and when it should be conducted, which techniques should be used and for whom and by whom data should be recorded. It identifies requirements specific to documenting the processes of creating a participatory map and collecting local knowledge. Ethical requirements related to documentation will be discussed, including obtaining prior consent  and release forms from community members (this will be linked to Module 02 – Attitudes, Behaviours and Et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 and fund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rogrammes ultimately operate under time and funding constraints. Depending upon what needs to be accomplished within these limitations, certain documentation processes and techniques may be more suitable than others. An assortment of techniques can, and likely should, be employed in a manner so that the techniques are complementary to one another and allow the project to move forward within its time and fund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element to consider is the amount of assistance that will be drawn from the community. While this might allow more knowledge to be recorded in a shorter time period, the process of training community members must also be considered. However, the training component may be expressed as a goal in and of itself, carrying the added benefit of allowing greater community engagement and input and enabling local actors to refine certain skills which can then be shared throughout the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hical requirements of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prior and informed consent (FPIC) recognises a community’s inherent and prior rights to their lands and resources and respects their legitimate authority to require that third parties enter into an equal and respectful relationship with them, based on the principle of informed consent. The process of FPIC refers to the dialogue, information sharing and general process through which community members choose to participate in a project. When properly implemented, the FPIC process ensures that communities and individuals are voluntary participants with a comprehensive knowledge of relevant risks and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rticipatory mapping initiatives that are initiated by outsiders, FPIC includes ensuring that community members have a clear understanding o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e initiative and its expected duration and proced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right to decline to participate and to withdraw from the initiative, as well as the anticipated consequences of doing s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tors that may influence their willingness to participate, such as potential risks or adverse eff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derstanding of prospective benef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 spatial information that they provide is recorded, used, archived and possibly re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to contact with ques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cumenting mapping initiatives, applying a participatory process does not guarantee that recorded materials are an authentic representation of a community’s values and desires. Participatory mapping can, in some cases, be misapplied so as to be an extractive, data-mining exercise rather than a genuinely empowering endeavour. These potential risks need to be communicated to the community at the outset of the project, even though this might influence the willingness of the community to engage in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ease 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should always ask the interviewee for permission to share the information and materials created during interviews and participatory mapping programmes. Ideally, permission should be given in writing, using a prepared document called a “release (or consent) form”. This is particularly important if the materials are used in a public forum, such as online presentations, print publications, documentary fil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es sign a written release form to indicate their awareness of the goals of the project and their willingness to allow their recorded material to be used in stated programmes or for other purposes. Release forms may be specific (such as requesting permission to use a person's image in a video) or they may be broad to allow the documentation to be used in ways impossible to anticipate at the time of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ally, a release form is not needed in cases where people are participating in public events – a photograph of a large group of people watching a P3DM or dancing at a festival, for example. However, use caution when photographing or recording professional performers participating in staged events, since many professional performers do not allow such documentation without their cons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olklife and Fieldwork: A Layman’s Introduction to Field Techniques. First Edition Prepared 1979 by Peter Bartis. Revised 2002 Library of Congress, Washington D.C.</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documentation is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ation is important for a variety of reasons. It generates material that can b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 and support a community’s mapping product (this material might also become useful in the long-term archiving of local knowledge and might have uses beyond its original mapping purpo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an account of a mapping project’s activities and events (through its entire lifespan), which can be useful in project evaluation and to provide feedback on a project’s progress to stakeholders (e.g. government, fu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ole of community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eful consideration needs to be given to what gets documented, the methods used for documentation and who identifies and records this material. While members of the community take a prominent role in the documentation process, it is likely that people from outside the community will also be involved (usually in a facilitation or training role). Materials and methods that are identified for documentation should fit within the project goals and within the community members’ interests and comfort zone. While certain individuals, such as community leaders or those acting as an authority on a specific topic, may play a greater role in the documentation process, input should be sought from the community at large regarding materials to be recorded and preferred approaches to docu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likely will be necessary to incorporate local ways of expressing knowledge when considering the role that community members will play in the project. This may affect the appropriateness of certain styles of documentation, depending upon the ability of certain techniques to represent local knowledge in a way that is meaningful to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ariety of cultural factors shape the way that the documentation component of a mapping project proceeds. For example, group discussions may prevent less vocal members of the community from being involved or using photography or video may inadvertently limit the involvement of participants who do not feel comfortable having their image captured. Documentation methods should be sensitive to cultural appropriateness and personal feelings, while also recognising and responding to power imbalances that may exist with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facilitators need to understand that certain styles of documentation lead to greater inclusivity than others and multiple approaches and methods may be required to obtain input from a broad spectrum of community members. One way to begin to think about this is in how the documentation team is formed. It should be comprised of outsiders and community members, women and men,  young, middle-aged and elderly, rich and poor and those from different ethnic groups within the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GB" sz="1200" spc="-1" strike="noStrike">
                <a:solidFill>
                  <a:srgbClr val="000000"/>
                </a:solidFill>
                <a:latin typeface="Arial"/>
              </a:rPr>
              <a:t>Documentatio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ariety of techniques can be employed on their own or in conjunction with one another to document local knowledge and/or the participatory mapping process. An overview of these documentation styles provides a useful starting point for determining which methods  are most suitable for a particular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chive and literature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view of existing reports, studies, videos, photos, maps and other documents that have been created regarding the area and/or community in question is often useful before engaging in a community mapping exercise. Gathering information in this manner involves collecting and organising items such as archival materials, reports and other published literature or records. This step is important to avoid duplicating material and wasting the time of community members who might have provided this information before. However, it is also important for community members to validate this material before applying it to the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bservation and note t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ening and watching are fundamental to the process of using observation as a means of documenting local knowledge. Observation involves paying attention to the things that people are doing and saying, including the ways that they make use of private and public spaces, and the suggestions they make surrounding the mapp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s need to be conscious of bias, or "seeing what we expect to see". In other words, we have a preconceived notion of what is happening, so our observations are distorted by our own limited understanding of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s also need to be impartial in drawing definitive conclusions about certain events. In particular, we need to avoid subjectivity and "seeing what we want to see". This can be the case especially when evaluating projects that observers want to appear successful because events may be misinterpreted (consciously or unconsciously) in order to better suit one’s ow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eld notes are important not only for recording direct observations, but also for documenting procedures that are employed and ideas that arise surrounding these. Keeping well-organised, detailed field notes is necessary even for projects that do not rely on observation and note taking as a primary method of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0294AA-3042-4BAC-8182-DE749902D2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F295501-63C0-403D-9716-85210C41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B7C6C1E-32D0-4CA8-96B7-C97CF68A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CC849CD9-6228-4E1D-990B-59AF19DA6F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2EDAE45-83D5-4441-AE06-60EEB84AD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8CB67A4-5600-4D63-BD2B-8CA5A9684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D052968-D62B-429F-8B8C-AAD7E10F8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7691C03-6BFC-4267-B25C-22E93EE80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73E8D60-4D19-4FEB-80B1-57B6890FD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4747FD8-E2F7-4200-A6AF-1250FC4CF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B4C6AFB-9FE8-4001-8B26-DB15981D0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A62BA92-515A-43FC-9F11-E4DF26EAF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357EC1F-1219-4BF8-8D3A-F063A98CC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766ED08-F6C2-4AB9-AE85-28E32D1DD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A92BB73-5080-43A3-90B2-EFA45F7F6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1B5DF94-C972-4E8D-8300-1B84C7BB2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DBBFBB1-C913-4C95-BFFF-EAB65A1EF4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B534FD3-966D-4A4C-AAFB-A16F28E0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9C8EE9F-353F-4275-9F1E-38AFF0CFC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B48973C5-AB2C-4C71-99B7-7B3FF39A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F5889B59-16F8-410D-AFF4-541494AF0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DF9C3BE-7EDF-45E7-A9F1-511073DB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C5CD3F5-D7D8-42FA-A99F-B52A9F47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13642EF-7A7D-4D7A-8399-C0590CE157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6E60-FDFB-4C62-A227-CAA27A120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22CC-2029-44BC-A6A1-C0BB5D2A4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 to Documentation</a:t>
            </a:r>
            <a:endParaRPr b="0" lang="en-US" sz="3200" spc="-1" strike="noStrike">
              <a:solidFill>
                <a:srgbClr val="5f5f5f"/>
              </a:solidFill>
              <a:latin typeface="Arial"/>
            </a:endParaRPr>
          </a:p>
        </p:txBody>
      </p:sp>
      <p:sp>
        <p:nvSpPr>
          <p:cNvPr id="91" name="Rectangle 4"/>
          <p:cNvSpPr/>
          <p:nvPr/>
        </p:nvSpPr>
        <p:spPr>
          <a:xfrm>
            <a:off x="29505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4U01</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rview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alogue between two or more peop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cus grou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ructured 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mi-structured 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structured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ocus groups: pros and cons</a:t>
            </a:r>
            <a:endParaRPr b="0" lang="en-US" sz="4400" spc="-1" strike="noStrike">
              <a:solidFill>
                <a:srgbClr val="cc3300"/>
              </a:solidFill>
              <a:latin typeface="Arial"/>
            </a:endParaRPr>
          </a:p>
        </p:txBody>
      </p:sp>
      <p:graphicFrame>
        <p:nvGraphicFramePr>
          <p:cNvPr id="113"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llaborative problem solving</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Time-effective and cost-effectiv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Places community members on equal footing</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Flexible form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annot provide same kind of in-depth information as one-on-one conversation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speaking up</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Group think: agreeing on popular ide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uctured interviews: pros and cons</a:t>
            </a:r>
            <a:endParaRPr b="0" lang="en-US" sz="4400" spc="-1" strike="noStrike">
              <a:solidFill>
                <a:srgbClr val="cc3300"/>
              </a:solidFill>
              <a:latin typeface="Arial"/>
            </a:endParaRPr>
          </a:p>
        </p:txBody>
      </p:sp>
      <p:graphicFrame>
        <p:nvGraphicFramePr>
          <p:cNvPr id="115" name=""/>
          <p:cNvGraphicFramePr/>
          <p:nvPr/>
        </p:nvGraphicFramePr>
        <p:xfrm>
          <a:off x="457200" y="2035080"/>
          <a:ext cx="8229600" cy="2109960"/>
        </p:xfrm>
        <a:graphic>
          <a:graphicData uri="http://schemas.openxmlformats.org/drawingml/2006/table">
            <a:tbl>
              <a:tblPr/>
              <a:tblGrid>
                <a:gridCol w="4114800"/>
                <a:gridCol w="411480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173988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mparability across a group of peopl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need to transcribe interviews (less time-consu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reveal true concerns of community members if they cannot deviate from question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es not allow for inclusion of interesting or revealing sto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mi-structured interviews: pros and cons</a:t>
            </a:r>
            <a:endParaRPr b="0" lang="en-US" sz="4400" spc="-1" strike="noStrike">
              <a:solidFill>
                <a:srgbClr val="cc3300"/>
              </a:solidFill>
              <a:latin typeface="Arial"/>
            </a:endParaRPr>
          </a:p>
        </p:txBody>
      </p:sp>
      <p:graphicFrame>
        <p:nvGraphicFramePr>
          <p:cNvPr id="117" name=""/>
          <p:cNvGraphicFramePr/>
          <p:nvPr/>
        </p:nvGraphicFramePr>
        <p:xfrm>
          <a:off x="457200" y="2238480"/>
          <a:ext cx="8229600" cy="1834920"/>
        </p:xfrm>
        <a:graphic>
          <a:graphicData uri="http://schemas.openxmlformats.org/drawingml/2006/table">
            <a:tbl>
              <a:tblPr/>
              <a:tblGrid>
                <a:gridCol w="4114800"/>
                <a:gridCol w="4114800"/>
              </a:tblGrid>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146556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a degree of comparabilit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till allows for inclusion of some incidental comments or sto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still be seen as ultimately representing the agenda of researchers from outside the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structured interviews: pros and cons</a:t>
            </a:r>
            <a:endParaRPr b="0" lang="en-US" sz="4400" spc="-1" strike="noStrike">
              <a:solidFill>
                <a:srgbClr val="cc3300"/>
              </a:solidFill>
              <a:latin typeface="Arial"/>
            </a:endParaRPr>
          </a:p>
        </p:txBody>
      </p:sp>
      <p:graphicFrame>
        <p:nvGraphicFramePr>
          <p:cNvPr id="119" name=""/>
          <p:cNvGraphicFramePr/>
          <p:nvPr/>
        </p:nvGraphicFramePr>
        <p:xfrm>
          <a:off x="457200" y="1938240"/>
          <a:ext cx="8229600" cy="2933640"/>
        </p:xfrm>
        <a:graphic>
          <a:graphicData uri="http://schemas.openxmlformats.org/drawingml/2006/table">
            <a:tbl>
              <a:tblPr/>
              <a:tblGrid>
                <a:gridCol w="4114800"/>
                <a:gridCol w="41148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5628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cognises unique body of knowledge possessed by each responden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riven by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the full expression of each person’s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asy to get off track</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spend time discussing seemingly irrelevant point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ore time-consuming than other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require tran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hotography</a:t>
            </a:r>
            <a:endParaRPr b="0" lang="en-US" sz="4400" spc="-1" strike="noStrike">
              <a:solidFill>
                <a:srgbClr val="cc3300"/>
              </a:solidFill>
              <a:latin typeface="Arial"/>
            </a:endParaRPr>
          </a:p>
        </p:txBody>
      </p:sp>
      <p:sp>
        <p:nvSpPr>
          <p:cNvPr id="121"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nhances the:</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esthetic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ten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places and ev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storic pho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s from community members’ personal collections</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hotography: pros and cons</a:t>
            </a:r>
            <a:endParaRPr b="0" lang="en-US" sz="4400" spc="-1" strike="noStrike">
              <a:solidFill>
                <a:srgbClr val="cc3300"/>
              </a:solidFill>
              <a:latin typeface="Arial"/>
            </a:endParaRPr>
          </a:p>
        </p:txBody>
      </p:sp>
      <p:graphicFrame>
        <p:nvGraphicFramePr>
          <p:cNvPr id="123"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dds aesthetic value to words of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eaningful regardless of language or literac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epicts people, places and events in a way that could not be accomplished using words al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uld give the wrong impressio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Not all map makers will be familiar with photo-taking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in front of the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video</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icts:</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vent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motion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mmunity lif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ares ideas regardless of language or literac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volves community in film making</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video: pros and cons</a:t>
            </a:r>
            <a:endParaRPr b="0" lang="en-US" sz="4400" spc="-1" strike="noStrike">
              <a:solidFill>
                <a:srgbClr val="cc3300"/>
              </a:solidFill>
              <a:latin typeface="Arial"/>
            </a:endParaRPr>
          </a:p>
        </p:txBody>
      </p:sp>
      <p:graphicFrame>
        <p:nvGraphicFramePr>
          <p:cNvPr id="127" name=""/>
          <p:cNvGraphicFramePr/>
          <p:nvPr/>
        </p:nvGraphicFramePr>
        <p:xfrm>
          <a:off x="457200" y="1938240"/>
          <a:ext cx="8229600" cy="2933640"/>
        </p:xfrm>
        <a:graphic>
          <a:graphicData uri="http://schemas.openxmlformats.org/drawingml/2006/table">
            <a:tbl>
              <a:tblPr/>
              <a:tblGrid>
                <a:gridCol w="4114800"/>
                <a:gridCol w="41148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5628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onveys action, so is a preferred means of conveying event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eaningful regardless of language or literac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llows for the depiction of emo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latively expensive compared with other techniqu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Not all map makers will be familiar with the tools required to create a film</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me community members may feel uncomfortable in front of the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a documentation method</a:t>
            </a:r>
            <a:endParaRPr b="0" lang="en-US" sz="4400" spc="-1" strike="noStrike">
              <a:solidFill>
                <a:srgbClr val="cc3300"/>
              </a:solidFill>
              <a:latin typeface="Arial"/>
            </a:endParaRPr>
          </a:p>
        </p:txBody>
      </p:sp>
      <p:sp>
        <p:nvSpPr>
          <p:cNvPr id="129"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ltiple techniques may be us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me questions to ask: </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ow will the map be displayed?</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ow much time is available?</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is the budge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styles of documentation are preferred within the community?</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hat techniques best meet project goa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ing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ing mater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ocumentation is necessa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and how it should be conduc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r whom and by whom information is recor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ailable techniqu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ime and funding constraints</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nder certain techniques more appropriate than others</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ance between: </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lower cost but less comprehensive approaches</a:t>
            </a:r>
            <a:endParaRPr b="0" lang="en-US" sz="28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higher cost but more thorough techniques</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role</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ining community members</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haring learned skil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thical requirements of documentation</a:t>
            </a:r>
            <a:endParaRPr b="0" lang="en-US" sz="4400" spc="-1" strike="noStrike">
              <a:solidFill>
                <a:srgbClr val="cc3300"/>
              </a:solidFill>
              <a:latin typeface="Arial"/>
            </a:endParaRPr>
          </a:p>
        </p:txBody>
      </p:sp>
      <p:sp>
        <p:nvSpPr>
          <p:cNvPr id="133"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ree, prior and informed cons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Knowledge of risks and benefi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isuse of participatory practices</a:t>
            </a:r>
            <a:endParaRPr b="0" lang="en-US" sz="32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extractive data mining versus empowermen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ease forms</a:t>
            </a:r>
            <a:endParaRPr b="0" lang="en-US" sz="32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igned consent</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generally not needed when participating in public events</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documentation is necessary</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form and support a community’s mapping project</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Keep an account of the mapping product’s activities and even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role of community members</a:t>
            </a:r>
            <a:endParaRPr b="0" lang="en-US" sz="4400" spc="-1" strike="noStrike">
              <a:solidFill>
                <a:srgbClr val="cc3300"/>
              </a:solidFill>
              <a:latin typeface="Arial"/>
            </a:endParaRPr>
          </a:p>
        </p:txBody>
      </p:sp>
      <p:sp>
        <p:nvSpPr>
          <p:cNvPr id="99"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ole of facilitators and train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ways of expressing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ltural facto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clusiv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ancing multiple metho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hods of documentation</a:t>
            </a:r>
            <a:endParaRPr b="0" lang="en-US" sz="4400" spc="-1" strike="noStrike">
              <a:solidFill>
                <a:srgbClr val="cc3300"/>
              </a:solidFill>
              <a:latin typeface="Arial"/>
            </a:endParaRPr>
          </a:p>
        </p:txBody>
      </p:sp>
      <p:sp>
        <p:nvSpPr>
          <p:cNvPr id="101" name=""/>
          <p:cNvSpPr txBox="1"/>
          <p:nvPr/>
        </p:nvSpPr>
        <p:spPr>
          <a:xfrm>
            <a:off x="457200" y="19033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rchive and literature re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servation and note tak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vie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icipatory vid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rchive and literature reviews</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view:</a:t>
            </a:r>
            <a:endParaRPr b="0" lang="en-US" sz="32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existing report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studie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video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photo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maps</a:t>
            </a:r>
            <a:endParaRPr b="0" lang="en-US" sz="2800" spc="-1" strike="noStrike">
              <a:solidFill>
                <a:srgbClr val="5f5f5f"/>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documents</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oid duplication and wasting time</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alidate collected information</a:t>
            </a:r>
            <a:endParaRPr b="0" lang="en-US" sz="3200" spc="-1" strike="noStrike">
              <a:solidFill>
                <a:srgbClr val="5f5f5f"/>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rchive and literature reviews: pros and cons</a:t>
            </a:r>
            <a:endParaRPr b="0" lang="en-US" sz="4400" spc="-1" strike="noStrike">
              <a:solidFill>
                <a:srgbClr val="cc3300"/>
              </a:solidFill>
              <a:latin typeface="Arial"/>
            </a:endParaRPr>
          </a:p>
        </p:txBody>
      </p:sp>
      <p:graphicFrame>
        <p:nvGraphicFramePr>
          <p:cNvPr id="105" name=""/>
          <p:cNvGraphicFramePr/>
          <p:nvPr/>
        </p:nvGraphicFramePr>
        <p:xfrm>
          <a:off x="457200" y="1938240"/>
          <a:ext cx="8229600" cy="320832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68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cuments group characteristic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laborates upon history and pattern    of developmen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Establishes historic presence </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Provides insight into ways that the community has been portrayed in the p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Sources from outside the community may not reflect local perspectiv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Quality of documents will vary</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Access may be restricted</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ata may be inaccurate or an incomplete re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bservation and note taking</a:t>
            </a:r>
            <a:endParaRPr b="0" lang="en-US" sz="4400" spc="-1" strike="noStrike">
              <a:solidFill>
                <a:srgbClr val="cc3300"/>
              </a:solidFill>
              <a:latin typeface="Arial"/>
            </a:endParaRPr>
          </a:p>
        </p:txBody>
      </p:sp>
      <p:sp>
        <p:nvSpPr>
          <p:cNvPr id="10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stening and watch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a:r>
            <a:r>
              <a:rPr b="0" lang="en-US" sz="3200" spc="-1" strike="noStrike">
                <a:solidFill>
                  <a:srgbClr val="5f5f5f"/>
                </a:solidFill>
                <a:latin typeface="Arial"/>
              </a:rPr>
              <a:t>Seeing what we expect to se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a:r>
            <a:r>
              <a:rPr b="0" lang="en-US" sz="3200" spc="-1" strike="noStrike">
                <a:solidFill>
                  <a:srgbClr val="5f5f5f"/>
                </a:solidFill>
                <a:latin typeface="Arial"/>
              </a:rPr>
              <a:t>Seeing what we want to see”</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ject evaluatio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eld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bservation and note taking: pros and cons</a:t>
            </a:r>
            <a:endParaRPr b="0" lang="en-US" sz="4400" spc="-1" strike="noStrike">
              <a:solidFill>
                <a:srgbClr val="cc3300"/>
              </a:solidFill>
              <a:latin typeface="Arial"/>
            </a:endParaRPr>
          </a:p>
        </p:txBody>
      </p:sp>
      <p:graphicFrame>
        <p:nvGraphicFramePr>
          <p:cNvPr id="109" name=""/>
          <p:cNvGraphicFramePr/>
          <p:nvPr/>
        </p:nvGraphicFramePr>
        <p:xfrm>
          <a:off x="457200" y="1938240"/>
          <a:ext cx="8229600" cy="327816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9066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Low cost</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Includes impromptu remark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cords behaviours that may escape other tools of documentation </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Documents steps taken in creating the ma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Can exclude some community member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Reflects researcher’s perspectiv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May not include context behind statements or occurrenc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20:59:02Z</dcterms:created>
  <dc:creator>Jon Corbett and Kasondra White</dc:creator>
  <dc:description/>
  <dc:language>en-US</dc:language>
  <cp:lastModifiedBy>hkraft</cp:lastModifiedBy>
  <dcterms:modified xsi:type="dcterms:W3CDTF">2009-10-12T21:52:42Z</dcterms:modified>
  <cp:revision>70</cp:revision>
  <dc:subject/>
  <dc:title>Presentation - Introduction to Documentation</dc:title>
</cp:coreProperties>
</file>