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7f7f7f"/>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6CAEF-CF0E-437C-AF57-7B09786D4DF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9950F-A61F-4397-9136-0E34A1979AB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valiere microphones (sometimes called lapel mikes) are usually attached to the subject's clothing using a clip. The preferred position is on or near a shirt lapel. This provides consistent pick up of close-range sounds and is ideal for interview situations in which each participant has his or her own microphone. It also means the subject doesn't have to worry about microphone technique. If there is time, the cable can be discreetly hidden in the clothing. If there is nowhere to place the microphone on the subject's chest, the collar provides an altern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avaliere microphone should be positioned so that it will not rub against your subject's clothing when he or she moves. Lapel microphones are not ideal because they produce a muddier sound, but they can be helpful for recording people who are not used to being interviewed and for whom a regular microphone may be intimid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D3A54-7466-4B8A-B640-1BF912D7AEF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recording an interview or discussion, it is a good idea for the recorder to sit quietly in the room that will be used and simply listen to the environment. This will create an awareness of different locations in the room that may produce better results as the interviewer moves away from air vents and computers. Doors and windows should be closed, phones and computer speakers muted and cell phones turned off. If there is noise, it should be behind the interviewer so that when the microphone is pointed at the guest, it is directed away from the noise. Try not to record near windows and walls and marble floors since sound bounces off of these surfaces into the mike, creating a hollow e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48A8-3693-4AAD-BB20-4536A78D3DF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beneficial to spend a minute recording some small talk with  the subject and then listening to it before conducting the entire interview. It will be a little awkward, but if it prevents creating an unusable recording, it will be worth it. It's good to record  guests saying their name, the date and a verbal acknowledgment that they are giving  permission to record and edit their voice for use in a participatory mapping project. This should not be erased because it is an audio version of a release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71C0-7FD3-48BD-962A-5F7302977DF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corders are often asking questions and/or engaging in a conversation with the person being recorded. They need to be careful about encouraging the person being recorded by saying "uh-huh" or "mmmm" or "I see" – the things that everyone says in everyday conversation to let people know they’re listening and understanding. These interruptions will appear on the final recording and are often very difficult to edit. Instead, nodding and making facial expressions will non-verbally let the interviewee know the recorder/interviewer is enga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D440-789A-4DCB-939F-BFFD34AA7FA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often, interviews will be conducted in the interviewee’s home. The interviewee will likely have a favourite place to sit — probably in the sitting room. Any audio-recording devices that are being used should be positioned close to the interviewee. If the microphone is placed on a table,  it will need to be lifted off the table using a microphone stand. If a stand is not used, there is the danger that the tabletop will reflect the sound and cause an echo or hollow effect in the final recording. Ideally, there will be a coffee table to one side of the sofa where the equipment can be position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of these noises can be minimised by seating the interviewee with his or her back to the quietest side of the room and with the microphone positioned in front of the interviewee pointing toward the quiet are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preferable that windows be closed and computer and air conditioners turned off during the interview. If possible, the ringer on the telephone should also be turned off (this includes cell phon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refrigerators and air conditioners turn on and off automatically and cause unnecessary noise — this is a good argument for not conducting the interview in a kitchen! Interviewers should use their best judgment as to whether or not it is advisable to stop the interview because of a loud noise, such as a passing airplane or truck. It might be more important at that moment to let the person continue t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viewer must always balance the sound quality of the interview with the general comfort and ease of the interviewe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o much fussing can make a person feel nervous and inhibited when it is finally time to start talking.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5CE0-846E-4827-ADD1-DAFA18B10EA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considering where the interviewee should sit in a room, interviewers should pay attention to things around the room that might cause a distraction. For example interviewers may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there a door that may open during the intervie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there an open windo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there a television or radio play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they close to a refrigerator, air conditioner or computer whose fans will impact the audio 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9415-8402-4D8B-AFBC-60F45720217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participatory mapping activities, it is often necessary to record groups of people engaging in dialogue with each other and/or a recorder or facilitator. Successfully recording a group discussion requires that all participants are clearly audible and that individuals are easily identifiable. To try to achieve this, it is best to place the recording device in a central lo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it is possible, it will be helpful to have all participants briefly introduce themselves once the group discussion has begun. This will be of assistance when trying to identify voices later on. Another tip for simplifying the identification of participants is to have the moderator call on or thank respondents by name or some other ident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capturing a group discussion, the recorders will play an important role in ensuring that a high-quality audio recording is produced. They will need to remind participants to speak up if they are talking too softly and should intervene when more than one person begins to speak at a time. Furthermore, any snacks or beverages should be served during a break in the session to avoid any unnecessary no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14D1A-1CD2-45E7-877B-C7B690AEE43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ring digital audio files for archival purposes – such as when recording elders’ land-related knowledge in support of participatory mapping activities – is not necessarily straightforward. The preservation of digital information hinges on three facto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operability – creating digital files in standard, non-proprietary formats that can be opened on any computer using freely available software which will be supported over tim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ndancy – storing files in more than one place and creating multiple back-ups on secure medi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gration – shifting files to new media before the old media degrade and/or become obsolete and shifting files to new standard file formats before the old formats are no longer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rent standard format is WAV files; it is likely that the files are already encoded (or stored) in this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7FF7-1EB7-4B60-8DA1-249B253259D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ve audio files on multiple external hard disc drive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ate at least two copies on CD or DVD discs that contain the audio files for each interview using two different brands of high-quality, blank media.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ep storage materials in more than one physical location. Store CD and DVD discs in a cool, dry place away from direct sunligh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files and media regularly. Transfer files to new media if any problems are suspecte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time comes, migrate immediately – do not del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ed from http://www.vermontfolklifecenter.org/archive/preservation-resources.s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69AB-8234-44B0-8F92-A059B1B24CE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dio footage recorded during participatory mapping activities can be used for multiple purpos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an be spliced together with photo and video material to create digital stories.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an be used to create podcasts for reaching a broad audience across the Internet.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an be incorporated into video documentary products and used to support some of the advocacy elements of participatory mapping activities.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an be used for archival purposes (and may be of great value for a community and family in later years).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an also have unanticipated uses in the future. The material might have been recorded with a singular purpose in mind, but might be repurposed to address a different issue some time in the fu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CC4A-E840-44B4-89B7-7DAA1E6FF48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Unit outlines some of the fundamentals of audio recording, including the steps that can be taken to ensure that the end footage is clear and audible. It will elaborate upon the process of organising and storing audio data and making use of the recordings for PGIS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0ADB-21FB-40AF-9458-BCE68B42ECA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often, audio-recording devices used in the field today record and store material in a digital format. The days of cassettes and reels have passed and have now been replaced with small hand-held devices that utilise either small internal hard drives (such as on a computer) or flash media (e.g. compact flash, secure digital). Your choice of recording device will be contingent on balancing price and audio quality needs (this Unit does not include a description of different models). This technology is changing at a blistering pace; however, the fundamentals of audio recording remain the same. This section will highlight some of these essent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B654-6A61-4260-824A-04A25C6C8BD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phones (preferably the kind that cover the entire ear) allow the person recording the sound to hear exactly what the microphone is picking up (or not recording at all in some cases). This can allow for the elimination of certain sounds (e.g. someone tapping their feet) that may be unnoticeable to the naked ear, but which are being picked up on the recor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E413-CCA3-4E5F-8A26-1110DA8913D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be fully aware of any sounds that are being picked up in the audio recording, recorders should close their eyes and listen. Ideally, sound recording should take place in soundproof studios or labs. However, these locations are rarely available, so the next best situation is to find a relatively quiet room with as little noise and distraction as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224C9-3154-4FF9-8246-0AD69243F61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viewers should not be afraid to ask someone to turn off the TV, radio, cell phone or anything that brings unwelcome sound into the recording. Even recording in an office can be noisier than one would expect. Air conditioners, fans and computers create a constant, annoying background hum that can't be removed since it will underlie every bit of the recor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E689-2B71-4433-9395-A4384978E5B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recording must take place in a noisy environment, capture two or three minutes of "room tone" at the beginning or end of any recording session. This can be done by setting the microphone up and recording while everyone present is silent. This "room tone" can be mixed into the interview later to smooth out any bad edits and make them less aud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2E4E6-72CD-43BF-BD99-2A0B0EDB1A1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nterview can be ruined by bad microphone techniques, such as when the microphone is too close or too far away from the speaker. The further the interviewee is from the microphone, the more noise is introduced into the recording, which makes the guest sound hollow or boomy. If the microphone is too close,  heavy breathing, dry mouth noises or plosives – the fancy technical word for those popping sounds people make when they say words that begin with the letter "p“ – may be audib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olden rule of microphone placement is to place the microphone as close as practical to the sound source without getting so close that unwanted effects are introduced. A typical hand-held microphone is usually placed at a distance of 30 cm from the speaker’s lips. Obviously, this is sometimes difficult to achieve but it is important to get as close as possib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im is to achieve a good balance between the subject sound (i.e. the voice of the person talking) and the ambient noise (i.e. the other “background” noises in the room at the time). In most cases, the subject sound should be the clear focus, filled out with a moderate or low level of ambient noise. The desired balance will vary depending on the situation and the required effect. As was discussed above, recordings usually work best with few audio distractions and very low ambient nois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40FE-6758-4FD0-B687-5986A727901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interviewing someone using a hand-held microphone, the mike should be held with the fingertips (not the whole fist), since this will reduce the handling noise and allow the interviewer to more easily tilt the microphone away to record his or her own questions. The mike can also be gently and soundlessly wiggled to nonverbally signal to the guest that they are going on too long and it's time to wrap it up. The interviewee should never hold the microphone; when this happens,  the interviewer loses control of the interview and the quality of the recor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deal position of the microphone depends on what type is being used, but generally the microphone should be 30 centimetres from the speaker’s mouth, at a slight angle (45 degrees) from the corner. Listen and reposition the microphone if the guest sounds off-mike or  if too many plosives are aud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any kinds of microphones, but generally an omni-directional microphone works well for most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8FCCA-2881-472F-90FF-87DF1339221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7089BB-0F85-40E0-AD6A-4EDDB88419E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61DC9A89-FB26-4D71-9D9D-DAC49EBFF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DC51F1F1-0EFE-48C9-B9FB-459956539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BC056AEC-274F-4E35-8DAA-1A79F2220C1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24AF457B-F791-4591-BB30-2B379334DE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F58E3D4-C59C-4941-B5AC-7C5F124E48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5F505B4-8D0F-44C9-9F0A-B08F470F1F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AFF472CC-5635-468B-AADC-653506349C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58192CB6-A0F6-4F79-BD2B-CB3ECE9A24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2EEFA83-2180-4B1A-BC66-F9E407315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193BF63-8A4D-48BF-B059-9EAD6853D7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43D50BEE-B687-4F79-8199-1EBA5F75B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01D6EAC-6559-4FEE-967E-C492AE062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3BD91E3-D384-4BAC-ACE8-807636B1C1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A7058151-5FCD-404A-9ECE-F7F2F2F183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9D8EBEF9-164B-4E04-856A-EFD13F8944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A3A2763A-882B-495A-9E6A-D1F478217A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635D22B6-4BC5-4401-B256-C6D43BDE8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74CA12F9-68FD-4434-856C-82E4155C2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4AFFED75-E9F5-46B3-8F73-54E94F1DE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A0E9419C-10B7-44E1-97E3-96A959F98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697B5CF7-47FD-4749-B2EA-510EB68C0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E89E051-A88A-4EF1-841C-1E9D2518A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98D2C353-0353-40A2-9EB1-8AF461F5594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8C73-8338-4F0B-8AD2-B7A5DDFA7D42}"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0EB8-F009-4C5B-B823-E0900EA9591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ocumentation</a:t>
            </a: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undamentals of Audio Recording</a:t>
            </a:r>
            <a:endParaRPr b="0" lang="en-US" sz="3200" spc="-1" strike="noStrike">
              <a:solidFill>
                <a:srgbClr val="5f5f5f"/>
              </a:solidFill>
              <a:latin typeface="Arial"/>
            </a:endParaRPr>
          </a:p>
        </p:txBody>
      </p:sp>
      <p:sp>
        <p:nvSpPr>
          <p:cNvPr id="92" name="Rectangle 4"/>
          <p:cNvSpPr/>
          <p:nvPr/>
        </p:nvSpPr>
        <p:spPr>
          <a:xfrm>
            <a:off x="3003840" y="5157720"/>
            <a:ext cx="388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69696"/>
                </a:solidFill>
                <a:latin typeface="Arial"/>
              </a:rPr>
              <a:t>By: Jon Corbett and Kasondra White</a:t>
            </a:r>
            <a:endParaRPr b="0" lang="en-US" sz="1800" spc="-1" strike="noStrike">
              <a:solidFill>
                <a:srgbClr val="000000"/>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f5f5f"/>
                </a:solidFill>
                <a:latin typeface="Arial"/>
              </a:rPr>
              <a:t>Unit: M14U06</a:t>
            </a:r>
            <a:endParaRPr b="0" lang="en-US" sz="1800" spc="-1" strike="noStrike">
              <a:solidFill>
                <a:srgbClr val="000000"/>
              </a:solidFill>
              <a:latin typeface="Arial"/>
            </a:endParaRPr>
          </a:p>
        </p:txBody>
      </p:sp>
      <p:pic>
        <p:nvPicPr>
          <p:cNvPr id="94"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udio-recording tips:</a:t>
            </a:r>
            <a:br>
              <a:rPr sz="4400"/>
            </a:br>
            <a:r>
              <a:rPr b="0" lang="en-CA" sz="4400" spc="-1" strike="noStrike">
                <a:solidFill>
                  <a:srgbClr val="cc3300"/>
                </a:solidFill>
                <a:latin typeface="Arial"/>
              </a:rPr>
              <a:t>lavaliere microphones</a:t>
            </a:r>
            <a:endParaRPr b="0" lang="en-US" sz="4400" spc="-1" strike="noStrike">
              <a:solidFill>
                <a:srgbClr val="cc3300"/>
              </a:solidFill>
              <a:latin typeface="Arial"/>
            </a:endParaRPr>
          </a:p>
        </p:txBody>
      </p:sp>
      <p:sp>
        <p:nvSpPr>
          <p:cNvPr id="112" name=""/>
          <p:cNvSpPr txBox="1"/>
          <p:nvPr/>
        </p:nvSpPr>
        <p:spPr>
          <a:xfrm>
            <a:off x="468360" y="1700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ttach to subject’s cloth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onsistently pick up close-range s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deal when multiple participants have their own microphon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roduce a muddier s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n rub against clothing</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udio-recording tips: listening</a:t>
            </a:r>
            <a:endParaRPr b="0" lang="en-US" sz="4400" spc="-1" strike="noStrike">
              <a:solidFill>
                <a:srgbClr val="cc3300"/>
              </a:solidFill>
              <a:latin typeface="Arial"/>
            </a:endParaRPr>
          </a:p>
        </p:txBody>
      </p:sp>
      <p:sp>
        <p:nvSpPr>
          <p:cNvPr id="114" name=""/>
          <p:cNvSpPr txBox="1"/>
          <p:nvPr/>
        </p:nvSpPr>
        <p:spPr>
          <a:xfrm>
            <a:off x="468360" y="1700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it and listen prior to record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ifferent locations may produce better resul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lose doors and window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ny noise should be behind the interviewe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udio-recording tips:</a:t>
            </a:r>
            <a:br>
              <a:rPr sz="4400"/>
            </a:br>
            <a:r>
              <a:rPr b="0" lang="en-CA" sz="4400" spc="-1" strike="noStrike">
                <a:solidFill>
                  <a:srgbClr val="cc3300"/>
                </a:solidFill>
                <a:latin typeface="Arial"/>
              </a:rPr>
              <a:t>test recordings</a:t>
            </a:r>
            <a:endParaRPr b="0" lang="en-US" sz="4400" spc="-1" strike="noStrike">
              <a:solidFill>
                <a:srgbClr val="cc3300"/>
              </a:solidFill>
              <a:latin typeface="Arial"/>
            </a:endParaRPr>
          </a:p>
        </p:txBody>
      </p:sp>
      <p:sp>
        <p:nvSpPr>
          <p:cNvPr id="116"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Record some small talk first and then review prior to the actual record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Have guests state: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their nam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the dat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 verbal acknowledgement of permission</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udio-recording tips:</a:t>
            </a:r>
            <a:br>
              <a:rPr sz="4400"/>
            </a:br>
            <a:r>
              <a:rPr b="0" lang="en-CA" sz="4400" spc="-1" strike="noStrike">
                <a:solidFill>
                  <a:srgbClr val="cc3300"/>
                </a:solidFill>
                <a:latin typeface="Arial"/>
              </a:rPr>
              <a:t>keeping quiet</a:t>
            </a:r>
            <a:endParaRPr b="0" lang="en-US" sz="4400" spc="-1" strike="noStrike">
              <a:solidFill>
                <a:srgbClr val="cc3300"/>
              </a:solidFill>
              <a:latin typeface="Arial"/>
            </a:endParaRPr>
          </a:p>
        </p:txBody>
      </p:sp>
      <p:sp>
        <p:nvSpPr>
          <p:cNvPr id="118" name=""/>
          <p:cNvSpPr txBox="1"/>
          <p:nvPr/>
        </p:nvSpPr>
        <p:spPr>
          <a:xfrm>
            <a:off x="468360" y="17733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e careful with encouragements such as “uh-huh” or “mmm”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nterruptions very difficult to edit ou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Nodding or facial expressions a good alternativ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Interviewing in a home</a:t>
            </a:r>
            <a:endParaRPr b="0" lang="en-US" sz="4400" spc="-1" strike="noStrike">
              <a:solidFill>
                <a:srgbClr val="cc3300"/>
              </a:solidFill>
              <a:latin typeface="Arial"/>
            </a:endParaRPr>
          </a:p>
        </p:txBody>
      </p:sp>
      <p:sp>
        <p:nvSpPr>
          <p:cNvPr id="120" name=""/>
          <p:cNvSpPr txBox="1"/>
          <p:nvPr/>
        </p:nvSpPr>
        <p:spPr>
          <a:xfrm>
            <a:off x="457200" y="1285920"/>
            <a:ext cx="8229600" cy="4525920"/>
          </a:xfrm>
          <a:prstGeom prst="rect">
            <a:avLst/>
          </a:prstGeom>
          <a:noFill/>
          <a:ln w="0">
            <a:noFill/>
          </a:ln>
        </p:spPr>
        <p:txBody>
          <a:bodyPr anchor="t">
            <a:normAutofit fontScale="92000"/>
          </a:bodyPr>
          <a:p>
            <a:pPr marL="315360" indent="-315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nterviews will often be conducted in the interviewee’s home.</a:t>
            </a:r>
            <a:endParaRPr b="0" lang="en-US" sz="3200" spc="-1" strike="noStrike">
              <a:solidFill>
                <a:srgbClr val="5f5f5f"/>
              </a:solidFill>
              <a:latin typeface="Arial"/>
            </a:endParaRPr>
          </a:p>
          <a:p>
            <a:pPr marL="315360" indent="-315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osition devices close to interviewees.</a:t>
            </a:r>
            <a:endParaRPr b="0" lang="en-US" sz="3200" spc="-1" strike="noStrike">
              <a:solidFill>
                <a:srgbClr val="5f5f5f"/>
              </a:solidFill>
              <a:latin typeface="Arial"/>
            </a:endParaRPr>
          </a:p>
          <a:p>
            <a:pPr marL="315360" indent="-315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Lift microphone off the table with a microphone stand.</a:t>
            </a:r>
            <a:endParaRPr b="0" lang="en-US" sz="3200" spc="-1" strike="noStrike">
              <a:solidFill>
                <a:srgbClr val="5f5f5f"/>
              </a:solidFill>
              <a:latin typeface="Arial"/>
            </a:endParaRPr>
          </a:p>
          <a:p>
            <a:pPr marL="315360" indent="-315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eat interviewee with back to the quietest side of the room.</a:t>
            </a:r>
            <a:endParaRPr b="0" lang="en-US" sz="3200" spc="-1" strike="noStrike">
              <a:solidFill>
                <a:srgbClr val="5f5f5f"/>
              </a:solidFill>
              <a:latin typeface="Arial"/>
            </a:endParaRPr>
          </a:p>
          <a:p>
            <a:pPr marL="315360" indent="-315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alance sound quality with comfort of interviewe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Interviewing in a home</a:t>
            </a:r>
            <a:endParaRPr b="0" lang="en-US" sz="4400" spc="-1" strike="noStrike">
              <a:solidFill>
                <a:srgbClr val="cc33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When deciding where an interviewee should sit, interviewers may ask:</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s there a door that may ope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s there an open window?</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s there a television or radio play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s there a refrigerator, air conditioner or computer nearby?</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Recording groups</a:t>
            </a:r>
            <a:endParaRPr b="0" lang="en-US" sz="4400" spc="-1" strike="noStrike">
              <a:solidFill>
                <a:srgbClr val="cc33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ll participants need to be clearly audible and easily identifiab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lace recording device centrall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Have participants introduce themselv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ll on or thank respondents by nam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Remind participants to speak up and ensure that only one person is speaking at a tim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Storing recordings</a:t>
            </a:r>
            <a:endParaRPr b="0" lang="en-US" sz="4400" spc="-1" strike="noStrike">
              <a:solidFill>
                <a:srgbClr val="cc33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reserving digital information hinges on three factor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nteroperability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redundanc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migration</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Backing up recordings</a:t>
            </a:r>
            <a:endParaRPr b="0" lang="en-US" sz="4400" spc="-1" strike="noStrike">
              <a:solidFill>
                <a:srgbClr val="cc33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ave files on multiple external hard driv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reate at least 2 CD or DVD discs containing audio fi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Keep materials in more than one physical loc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heck on files regularl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When the time comes, migrate immediately.</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Using audio recordings in participatory mapping projects</a:t>
            </a:r>
            <a:endParaRPr b="0" lang="en-US" sz="4400" spc="-1" strike="noStrike">
              <a:solidFill>
                <a:srgbClr val="cc3300"/>
              </a:solidFill>
              <a:latin typeface="Arial"/>
            </a:endParaRPr>
          </a:p>
        </p:txBody>
      </p:sp>
      <p:sp>
        <p:nvSpPr>
          <p:cNvPr id="130"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udio recordings can b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pliced together with photos or vide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used to create podcast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ncorporated into video documentary project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used for archival purpos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repurposed to address different issues in the futur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Introduction</a:t>
            </a:r>
            <a:endParaRPr b="0" lang="en-US" sz="4400" spc="-1" strike="noStrike">
              <a:solidFill>
                <a:srgbClr val="cc3300"/>
              </a:solidFill>
              <a:latin typeface="Arial"/>
            </a:endParaRPr>
          </a:p>
        </p:txBody>
      </p:sp>
      <p:sp>
        <p:nvSpPr>
          <p:cNvPr id="96" name=""/>
          <p:cNvSpPr txBox="1"/>
          <p:nvPr/>
        </p:nvSpPr>
        <p:spPr>
          <a:xfrm>
            <a:off x="457200" y="150012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nsuring the end footage is clear and audib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ips for making high-quality audio recording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Recording audio in different setting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Organising and storing audio recording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udio-recording tips</a:t>
            </a:r>
            <a:endParaRPr b="0" lang="en-US" sz="4400" spc="-1" strike="noStrike">
              <a:solidFill>
                <a:srgbClr val="cc3300"/>
              </a:solidFill>
              <a:latin typeface="Arial"/>
            </a:endParaRPr>
          </a:p>
        </p:txBody>
      </p:sp>
      <p:sp>
        <p:nvSpPr>
          <p:cNvPr id="98" name=""/>
          <p:cNvSpPr txBox="1"/>
          <p:nvPr/>
        </p:nvSpPr>
        <p:spPr>
          <a:xfrm>
            <a:off x="457200" y="15717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ssettes used less ofte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mall, hand-held devices that record in a digital format are more comm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hoosing a recording device – balancing cost with audio quality need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Regardless of device, fundamentals will remain the sam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udio-recording tips: headphones</a:t>
            </a:r>
            <a:endParaRPr b="0" lang="en-US" sz="4400" spc="-1" strike="noStrike">
              <a:solidFill>
                <a:srgbClr val="cc3300"/>
              </a:solidFill>
              <a:latin typeface="Arial"/>
            </a:endParaRPr>
          </a:p>
        </p:txBody>
      </p:sp>
      <p:sp>
        <p:nvSpPr>
          <p:cNvPr id="100" name=""/>
          <p:cNvSpPr txBox="1"/>
          <p:nvPr/>
        </p:nvSpPr>
        <p:spPr>
          <a:xfrm>
            <a:off x="39528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llows the person who is recording to hear exactly what is being picked u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llows for the elimination of otherwise unnoticeable sounds</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udio-recording tips:</a:t>
            </a:r>
            <a:br>
              <a:rPr sz="4400"/>
            </a:br>
            <a:r>
              <a:rPr b="0" lang="en-CA" sz="4400" spc="-1" strike="noStrike">
                <a:solidFill>
                  <a:srgbClr val="cc3300"/>
                </a:solidFill>
                <a:latin typeface="Arial"/>
              </a:rPr>
              <a:t>minimise background noise</a:t>
            </a:r>
            <a:endParaRPr b="0" lang="en-US" sz="4400" spc="-1" strike="noStrike">
              <a:solidFill>
                <a:srgbClr val="cc3300"/>
              </a:solidFill>
              <a:latin typeface="Arial"/>
            </a:endParaRPr>
          </a:p>
        </p:txBody>
      </p:sp>
      <p:sp>
        <p:nvSpPr>
          <p:cNvPr id="102"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lose your eyes and liste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oundproof studios and lab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s quiet and free of distractions as possibl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udio-recording tips: manipulating the environment</a:t>
            </a:r>
            <a:endParaRPr b="0" lang="en-US" sz="4400" spc="-1" strike="noStrike">
              <a:solidFill>
                <a:srgbClr val="cc3300"/>
              </a:solidFill>
              <a:latin typeface="Arial"/>
            </a:endParaRPr>
          </a:p>
        </p:txBody>
      </p:sp>
      <p:sp>
        <p:nvSpPr>
          <p:cNvPr id="104" name=""/>
          <p:cNvSpPr txBox="1"/>
          <p:nvPr/>
        </p:nvSpPr>
        <p:spPr>
          <a:xfrm>
            <a:off x="468360" y="17733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sk interviewees to turn off the TV, radio, cell phones, etc.</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ackground hum</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ome noises cannot be removed from recording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udio-recording tips:</a:t>
            </a:r>
            <a:br>
              <a:rPr sz="4400"/>
            </a:br>
            <a:r>
              <a:rPr b="0" lang="en-CA" sz="4400" spc="-1" strike="noStrike">
                <a:solidFill>
                  <a:srgbClr val="cc3300"/>
                </a:solidFill>
                <a:latin typeface="Arial"/>
              </a:rPr>
              <a:t>room tone</a:t>
            </a:r>
            <a:endParaRPr b="0" lang="en-US" sz="4400" spc="-1" strike="noStrike">
              <a:solidFill>
                <a:srgbClr val="cc3300"/>
              </a:solidFill>
              <a:latin typeface="Arial"/>
            </a:endParaRPr>
          </a:p>
        </p:txBody>
      </p:sp>
      <p:sp>
        <p:nvSpPr>
          <p:cNvPr id="106" name=""/>
          <p:cNvSpPr txBox="1"/>
          <p:nvPr/>
        </p:nvSpPr>
        <p:spPr>
          <a:xfrm>
            <a:off x="468360" y="1700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ackground noise before speaking is record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lso known as “ambient s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Record 2-3 minutes prior to the recording sess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n be used to smooth out bad edit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udio-recording tips: microphone positioning</a:t>
            </a:r>
            <a:endParaRPr b="0" lang="en-US" sz="4400" spc="-1" strike="noStrike">
              <a:solidFill>
                <a:srgbClr val="cc3300"/>
              </a:solidFill>
              <a:latin typeface="Arial"/>
            </a:endParaRPr>
          </a:p>
        </p:txBody>
      </p:sp>
      <p:sp>
        <p:nvSpPr>
          <p:cNvPr id="108" name=""/>
          <p:cNvSpPr txBox="1"/>
          <p:nvPr/>
        </p:nvSpPr>
        <p:spPr>
          <a:xfrm>
            <a:off x="468360" y="17733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Negative effects if too far away or too clos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s close as possible, before getting so close that unwanted effects are introduc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alance between:</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ubject sound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mbient nois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udio-recording tips:</a:t>
            </a:r>
            <a:br>
              <a:rPr sz="4400"/>
            </a:br>
            <a:r>
              <a:rPr b="0" lang="en-CA" sz="4400" spc="-1" strike="noStrike">
                <a:solidFill>
                  <a:srgbClr val="cc3300"/>
                </a:solidFill>
                <a:latin typeface="Arial"/>
              </a:rPr>
              <a:t>holding the microphone</a:t>
            </a:r>
            <a:endParaRPr b="0" lang="en-US" sz="4400" spc="-1" strike="noStrike">
              <a:solidFill>
                <a:srgbClr val="cc3300"/>
              </a:solidFill>
              <a:latin typeface="Arial"/>
            </a:endParaRPr>
          </a:p>
        </p:txBody>
      </p:sp>
      <p:sp>
        <p:nvSpPr>
          <p:cNvPr id="110" name=""/>
          <p:cNvSpPr txBox="1"/>
          <p:nvPr/>
        </p:nvSpPr>
        <p:spPr>
          <a:xfrm>
            <a:off x="468360" y="17733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Hold with the fingerti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nterviewee should not hold the microphon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lace it 30 centimetres from the speaker’s mout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Omni-directional microphones work well.</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tens</cp:lastModifiedBy>
  <dcterms:modified xsi:type="dcterms:W3CDTF">2010-01-15T13:07:21Z</dcterms:modified>
  <cp:revision>2</cp:revision>
  <dc:subject/>
  <dc:title>Presentation - Docum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
  </property>
  <property fmtid="{D5CDD505-2E9C-101B-9397-08002B2CF9AE}" pid="7" name="Slides">
    <vt:lpwstr>19</vt:lpwstr>
  </property>
  <property fmtid="{D5CDD505-2E9C-101B-9397-08002B2CF9AE}" pid="8" name="Subject">
    <vt:lpwstr/>
  </property>
  <property fmtid="{D5CDD505-2E9C-101B-9397-08002B2CF9AE}" pid="9" name="_Author">
    <vt:lpwstr/>
  </property>
  <property fmtid="{D5CDD505-2E9C-101B-9397-08002B2CF9AE}" pid="10" name="_Category">
    <vt:lpwstr/>
  </property>
  <property fmtid="{D5CDD505-2E9C-101B-9397-08002B2CF9AE}" pid="11" name="_Comments">
    <vt:lpwstr/>
  </property>
</Properties>
</file>