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74DE4-6D96-42DE-951B-6DBACB31A73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5EAE-7F95-4A7C-9BA3-6EB3DE4ED9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Exercise 2: Mind Mapp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Exercise 1: Shorthand Secret Cod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Unit provides a comprehensive review of the process of taking notes in the field, including the organisation of field notes, important note-taking tools and techniques for capturing as much relevant and high quality information as possibl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rs may want to remind trainees that the preferable kind of notebook will vary depending on the reasons for taking notes and on the local conditions. For example, if the note taker wishes to do a lot of writing, s/he may want a notebook with lined pages, whereas blank sheets may be a better choice if a lot of sketching or mind mapping will occur. Similarly, waterproof paper may not be as important if all of the notes will be taken indoor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lead pencils are preferable because they can be sharpened on a hard surface, such as a roc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examples of situations where it may be inappropriate to take notes inclu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convers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ceremon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uations where it may be considered disrespectful to take notes (e.g. a funer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ust getting to know a person or group of peop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largely will be a judgment call as to whether or not notes should be tak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561ECB-265A-44C6-8436-B117100A85B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22298E22-A5C8-4624-A552-4224C206D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5D775ACB-AACB-4D4B-B7D7-C82E1B019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742665D8-A7D6-4082-A7C7-2415D516BE3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0A292C08-DFDE-4C41-BAA5-0E0B785DBF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FA12A1D-FC32-4C4B-B19C-D467DA2F2C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64F1A56C-25D3-4040-AD63-421F80BCA9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9F56288C-AC72-4069-96E4-8CCCB3E8F5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60C53A0F-BCEA-4D1E-A008-6EFA978809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882ADDF0-A84A-4FA8-A0AA-370DA30924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6FF6B4C-ED11-424C-9EC2-2DBF14F0FE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B9F907D2-2A68-4B02-8C16-827788132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34BB610-4BB0-4316-A7EF-C350773864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DA5A35F-5D68-445D-920A-F69719238C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4F327DDF-B427-4063-8DA5-00E2598CE0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57FD193C-AE2E-497C-8BD0-A898094250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6F9E7A50-5812-4DBB-B469-84BA72198D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AAFD1E87-1435-45BA-8D79-894EDB383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013EDEDA-43A0-41A4-9345-77D5C44EA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5E9FEF18-44E9-4F71-BA1F-0721FD6C6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5A86C0E4-3BC6-4803-95BF-EA2372FB5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B8F4156A-A586-430A-805E-DE069B4DD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CD8B9A18-B17D-4311-A217-545E5F128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9F655B8E-E649-447C-BE81-C6B88EFA546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6C659-1113-4B35-B480-257D0C4FBD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E401B-20E5-48C7-8D45-213FC1F1BA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Fundamentals of Note Taking</a:t>
            </a:r>
            <a:br>
              <a:rPr sz="4400"/>
            </a:br>
            <a:endParaRPr b="0" lang="en-US" sz="4400" spc="-1" strike="noStrike">
              <a:solidFill>
                <a:srgbClr val="cc3300"/>
              </a:solidFill>
              <a:latin typeface="Arial"/>
            </a:endParaRPr>
          </a:p>
        </p:txBody>
      </p:sp>
      <p:sp>
        <p:nvSpPr>
          <p:cNvPr id="91"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ocumentation</a:t>
            </a:r>
            <a:endParaRPr b="0" lang="en-US" sz="3200" spc="-1" strike="noStrike">
              <a:solidFill>
                <a:srgbClr val="5f5f5f"/>
              </a:solidFill>
              <a:latin typeface="Arial"/>
            </a:endParaRPr>
          </a:p>
        </p:txBody>
      </p:sp>
      <p:sp>
        <p:nvSpPr>
          <p:cNvPr id="92" name="Rectangle 4"/>
          <p:cNvSpPr/>
          <p:nvPr/>
        </p:nvSpPr>
        <p:spPr>
          <a:xfrm>
            <a:off x="2736360" y="5157720"/>
            <a:ext cx="388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Jon Corbett and Kasondra White</a:t>
            </a:r>
            <a:endParaRPr b="0" lang="en-US" sz="1800" spc="-1" strike="noStrike">
              <a:solidFill>
                <a:srgbClr val="000000"/>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14U03</a:t>
            </a:r>
            <a:endParaRPr b="0" lang="en-US" sz="1800" spc="-1" strike="noStrike">
              <a:solidFill>
                <a:srgbClr val="000000"/>
              </a:solidFill>
              <a:latin typeface="Arial"/>
            </a:endParaRPr>
          </a:p>
        </p:txBody>
      </p:sp>
      <p:pic>
        <p:nvPicPr>
          <p:cNvPr id="94"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ersonal diary</a:t>
            </a:r>
            <a:endParaRPr b="0" lang="en-US" sz="4400" spc="-1" strike="noStrike">
              <a:solidFill>
                <a:srgbClr val="cc3300"/>
              </a:solidFill>
              <a:latin typeface="Arial"/>
            </a:endParaRPr>
          </a:p>
        </p:txBody>
      </p:sp>
      <p:sp>
        <p:nvSpPr>
          <p:cNvPr id="112"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lace to record personal thoughts and ide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tructured similar to notebook</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ate and time recorded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ot necessarily used to inform the map or future report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Note-taking techniques</a:t>
            </a:r>
            <a:endParaRPr b="0" lang="en-US" sz="4400" spc="-1" strike="noStrike">
              <a:solidFill>
                <a:srgbClr val="cc3300"/>
              </a:solidFill>
              <a:latin typeface="Arial"/>
            </a:endParaRPr>
          </a:p>
        </p:txBody>
      </p:sp>
      <p:sp>
        <p:nvSpPr>
          <p:cNvPr id="114" name=""/>
          <p:cNvSpPr txBox="1"/>
          <p:nvPr/>
        </p:nvSpPr>
        <p:spPr>
          <a:xfrm>
            <a:off x="457200" y="19749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ach person will have their ow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velop a system that works for you</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echniques for recording more information in less time: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ind mapping</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horthand and abbreviation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ind mapping</a:t>
            </a:r>
            <a:endParaRPr b="0" lang="en-US" sz="4400" spc="-1" strike="noStrike">
              <a:solidFill>
                <a:srgbClr val="cc33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iagram used to organise thoughts through words, concepts and imag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Begin with one central idea and work outward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d to illustrate relationshi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Enhance with colours, symbols, icons and arrow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Using shorthand</a:t>
            </a:r>
            <a:endParaRPr b="0" lang="en-US" sz="4400" spc="-1" strike="noStrike">
              <a:solidFill>
                <a:srgbClr val="cc33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Quicker to write in point form</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bbreviate words and use symbol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ote takers may wish to develop their own shortha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lways keep a legend of abbreviations or symbols that have been used</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a:t>
            </a:r>
            <a:endParaRPr b="0" lang="en-US" sz="4400" spc="-1" strike="noStrike">
              <a:solidFill>
                <a:srgbClr val="cc3300"/>
              </a:solidFill>
              <a:latin typeface="Arial"/>
            </a:endParaRPr>
          </a:p>
        </p:txBody>
      </p:sp>
      <p:sp>
        <p:nvSpPr>
          <p:cNvPr id="96" name=""/>
          <p:cNvSpPr txBox="1"/>
          <p:nvPr/>
        </p:nvSpPr>
        <p:spPr>
          <a:xfrm>
            <a:off x="457200" y="1428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quired as a means of: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ocumenting local knowledg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cording observation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cording ideas community members put forth</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keeping track of what has been done</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rganising field not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ote-taking tool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echniques for capturing information</a:t>
            </a:r>
            <a:endParaRPr b="0" lang="en-US" sz="32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Note-taking tools</a:t>
            </a:r>
            <a:endParaRPr b="0" lang="en-US" sz="4400" spc="-1" strike="noStrike">
              <a:solidFill>
                <a:srgbClr val="cc3300"/>
              </a:solidFill>
              <a:latin typeface="Arial"/>
            </a:endParaRPr>
          </a:p>
        </p:txBody>
      </p:sp>
      <p:sp>
        <p:nvSpPr>
          <p:cNvPr id="98" name=""/>
          <p:cNvSpPr txBox="1"/>
          <p:nvPr/>
        </p:nvSpPr>
        <p:spPr>
          <a:xfrm>
            <a:off x="457200" y="18320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d to:</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cord impromptu comments or observation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reate a record of steps that have been taken</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otes should be taken on a regular basi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liable tools a necessity: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notebook</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riting utensil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notebook</a:t>
            </a:r>
            <a:endParaRPr b="0" lang="en-US" sz="4400" spc="-1" strike="noStrike">
              <a:solidFill>
                <a:srgbClr val="cc3300"/>
              </a:solidFill>
              <a:latin typeface="Arial"/>
            </a:endParaRPr>
          </a:p>
        </p:txBody>
      </p:sp>
      <p:sp>
        <p:nvSpPr>
          <p:cNvPr id="100" name=""/>
          <p:cNvSpPr txBox="1"/>
          <p:nvPr/>
        </p:nvSpPr>
        <p:spPr>
          <a:xfrm>
            <a:off x="457200" y="1617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urability and portability are the two most important featur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rge enough to write on, small enough to carr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ard cov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umbered pag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aterproof paper</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riting utensils</a:t>
            </a:r>
            <a:endParaRPr b="0" lang="en-US" sz="4400" spc="-1" strike="noStrike">
              <a:solidFill>
                <a:srgbClr val="cc33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mportant for ensuring recorded data does not fade, blur or run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encil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edium lea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void mechanical pencil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allpoint pen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back-up choice if a pencil is unavailable</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void felt-tipped or fountain pens</a:t>
            </a:r>
            <a:endParaRPr b="0" lang="en-US" sz="32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en to take notes</a:t>
            </a:r>
            <a:endParaRPr b="0" lang="en-US" sz="4400" spc="-1" strike="noStrike">
              <a:solidFill>
                <a:srgbClr val="cc3300"/>
              </a:solidFill>
              <a:latin typeface="Arial"/>
            </a:endParaRPr>
          </a:p>
        </p:txBody>
      </p:sp>
      <p:sp>
        <p:nvSpPr>
          <p:cNvPr id="104"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y be inappropriate to take notes in some situatio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uld become disengag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uld make some people uncomfortabl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rganising the notebook</a:t>
            </a:r>
            <a:endParaRPr b="0" lang="en-US" sz="4400" spc="-1" strike="noStrike">
              <a:solidFill>
                <a:srgbClr val="cc33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clude name and contact information on inside cov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eave a few blank pages for a table of conten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tegorising observation typ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Formatting</a:t>
            </a:r>
            <a:endParaRPr b="0" lang="en-US" sz="4400" spc="-1" strike="noStrike">
              <a:solidFill>
                <a:srgbClr val="cc33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egin each new day or interview with a new pag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cord date and time in a consistent forma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y include names of people presen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cord location</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uld involve a sketch of the area</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Recording observations</a:t>
            </a:r>
            <a:endParaRPr b="0" lang="en-US" sz="4400" spc="-1" strike="noStrike">
              <a:solidFill>
                <a:srgbClr val="cc33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bjective note taking</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void writing note taker’s own interpretat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cord actual occurrenc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ersonal ideas can be briefly noted and explored later in a personal diary</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rganise into multiple sectio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y wish to summarise at the end of each series of not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8T00:34:05Z</dcterms:created>
  <dc:creator>Jond Corbett and Kasondra White</dc:creator>
  <dc:description/>
  <dc:language>en-US</dc:language>
  <cp:lastModifiedBy>hkraft</cp:lastModifiedBy>
  <dcterms:modified xsi:type="dcterms:W3CDTF">2009-10-12T21:21:31Z</dcterms:modified>
  <cp:revision>34</cp:revision>
  <dc:subject/>
  <dc:title>Presentation - The Fundamentals of Note-Tak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ContentTypeId">
    <vt:lpwstr>0x010100524DE4F4C995CC49A2E3EBF903E298A700444F003324912E469596FEA97841A527</vt:lpwstr>
  </property>
  <property fmtid="{D5CDD505-2E9C-101B-9397-08002B2CF9AE}" pid="7" name="Keywords">
    <vt:lpwstr/>
  </property>
  <property fmtid="{D5CDD505-2E9C-101B-9397-08002B2CF9AE}" pid="8" name="Slides">
    <vt:lpwstr>13</vt:lpwstr>
  </property>
  <property fmtid="{D5CDD505-2E9C-101B-9397-08002B2CF9AE}" pid="9" name="Subject">
    <vt:lpwstr/>
  </property>
  <property fmtid="{D5CDD505-2E9C-101B-9397-08002B2CF9AE}" pid="10" name="_Author">
    <vt:lpwstr>Jond Corbett and Kasondra White</vt:lpwstr>
  </property>
  <property fmtid="{D5CDD505-2E9C-101B-9397-08002B2CF9AE}" pid="11" name="_Category">
    <vt:lpwstr/>
  </property>
  <property fmtid="{D5CDD505-2E9C-101B-9397-08002B2CF9AE}" pid="12" name="_Comments">
    <vt:lpwstr/>
  </property>
</Properties>
</file>