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3649-9A84-4C81-9BD6-471B7DB64E4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6114-CDF4-4BFF-A415-BE11B01B598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lose-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shot is often used as a close-up of a full face. This shot helps to make characters recognisabl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15D3-DD88-41F5-9A73-8D8AE9162C0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um close-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dium close-up is a very common shot and is often a head and shoulders shot. Unlike the close-up, it leaves some headroom above the subject and typically cuts off in the middle of the chest. This is a good shot if people are sitting on the ground or on a chair and you are taking a photograph or video of an individ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4B3B-5D9A-46C1-B77F-167AC0088D3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dium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dium shot shows most of the body, generally cutting off between the waist and knee. This is a good shot for individuals because the body fills the frame and it is difficult to see the 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DE18-EBAA-4AC0-BB4E-D16B39FF98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g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ong shot is used quite commonly. This is the shot that will be used when there is more than one subject – for instance, during a meeting when more than one person is the focus of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AF89-D3F2-4268-A351-76F39142EB6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1" lang="en-GB" sz="1200" spc="-1" strike="noStrike">
                <a:solidFill>
                  <a:srgbClr val="000000"/>
                </a:solidFill>
                <a:latin typeface="Arial"/>
              </a:rPr>
              <a:t>Extreme long 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treme long shot is used mainly for panoramas. Distinguishing features, such as facial details, are minimal. It is usually used to give an idea about an environment or the subject’s relation to its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C260-B336-40D7-9B1A-7A8277B521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igh-angle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shots are when the camera is positioned above, looking down on the subject. This type of shot can insinuate that the subject is in some way inferior and small or it may just give a removed feeling to the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F79A-3D6E-4C8C-B146-C0CA93128F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w-angle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shots are when the camera is positioned below, looking up at the subject. People say that it is used to confer respect on them or accentuates their magnitude and grand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889D-6162-473B-86DC-C8E1878BC71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ye-level 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ye-level shots are used to imply equanim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3FA6-B44A-4B29-97D9-A308B009B2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17C8-6454-441B-A1F5-BE0F2AD0D2D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r>
              <a:rPr b="1" lang="en-GB" sz="1200" spc="-1" strike="noStrike">
                <a:solidFill>
                  <a:srgbClr val="000000"/>
                </a:solidFill>
                <a:latin typeface="Arial"/>
              </a:rPr>
              <a:t>Brigh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iners may wish to explain to trainees that the quality of light will vary substantially depending on the time of day and the weather (when taking photos outdo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0BB3-48C8-4DD0-8293-C4F3CA5D0A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graphy as a tool in participatory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graphy (together with video) can be used during participatory mapping projects to provide a visual representation of the local geographic features, infrastructure and land-use practices included on a community’s m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Unit will introduce trainees to basic photography techniques. Trainers may suggest to trainees that these skills be passed along to community members through the use of photo vo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can be linked to Module 13, given the expanding usage of Internet mapping and the ability to geotag a photo and display it on a map. For this reason, the use of community photography is becoming increasingly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5AF4-249B-47E8-BE15-1B3EE21541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hoto voic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to voice benefits communities in at least two distinct ways. These ar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providing community members with an outlet for creatively expressing their concerns and documenting community practices and values. This is done in a manner that allows community members to make connections with one another and see the ways that their photographs can influence policy maker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building the capacity of community members through the process of teaching them basic photographic techniques. Skills associated with photo production, working with digital images and processing and displaying images will stay in the community, allowing community members to share these abilities with one anoth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photo voice concept confers a sense of authority on community members and raises the confidence of the photographers surrounding the role that they can play in illustrating their localities and influencing decision makers. However, using photographic equipment should also be seen as a responsibility and the following issues should be discuss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s it appropriate to take someone’s picture?</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it acceptable to take pictures of people without their knowledge?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kinds of responsibilities are associated with using a camera?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ctivities would you prefer not to be photographed doin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Who Knows the Streets as Well as the Homeless? Promoting Personal and Community Action Through Photovoice.” Carline C. Wang, Jennifer L. Cash and Lisa S. Powers. Health Promotion Practice 1.1 2000. </a:t>
            </a:r>
            <a:endParaRPr b="0" lang="en-US" sz="1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swers to these questions will likely vary in response to the cultural setting in which photo voice is being used. These kinds of issues should be discussed in a training session with community members, prior to having them actually take any pictures. This training session would also include a discussion of how to use the camera and an introduction to some of the following photographic techniques. These techniques will also be useful to project facilitators who are interested in taking meaningful photograph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FE55-66D6-47C5-9EEC-57DD47C3FD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posi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fference between a “good”’ picture and a “bad” one is subjective – trainers may wish to emphasise that there is no one right way to take a picture and participants should experiment with what they like in a pictu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D2F2-5E4C-4519-8E19-F58ADBAE2AE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Rule of Third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asic principle behind the Rule of Thirds is to imagine dividing an image into thirds, both horizontally and vertically, so that the image is made up of nine squares. You think about this when you are looking through the viewfinder or in the LCD display that you use to frame your shot. The idea of the grid is to help you identify the points of interest of your image and place them in a part of the frame that will draw the eye. The four lines (two vertical and two horizontal) in the grid help you position the elements of your photograph.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If you place the points of interest of your image in the intersections or along the lines of this imaginary grid, your photo becomes more balanced and the viewer is able to interact with it more naturally. Studies have shown that when people view an image, their eyes tend to focus on these intersection points rather than on the centre of the sho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D5E4-C84F-414E-9131-4A25E08267D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91F59-6959-445A-AD88-D795A536D1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ad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Headroom refers to the space between the top of someone’s head and the top of the frame. If there is too much headroom, the shot looks awkward.</a:t>
            </a:r>
            <a:endParaRPr b="0" lang="en-US" sz="1200" spc="-1" strike="noStrike">
              <a:solidFill>
                <a:srgbClr val="000000"/>
              </a:solidFill>
              <a:latin typeface="Arial"/>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C420-4A54-4BEE-B955-9DB4E43FEA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se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se room refers to the distance between the nose of the subject and the edge of the frame. This principle is usually only relevant when you are taking a close-up, profile shot of your subject. Typically the space in the direction that the nose is pointing should be greater than the space behind the head. </a:t>
            </a:r>
            <a:endParaRPr b="0" lang="en-US" sz="1200" spc="-1" strike="noStrike">
              <a:solidFill>
                <a:srgbClr val="000000"/>
              </a:solidFill>
              <a:latin typeface="Arial"/>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CA09-9FBE-4CDF-94F0-9B8C591B52B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treme clos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is refers to something very close up, such as a single flower or someone’s eyes or nose; it is not used too often. You should be careful using this shot because it can make the object seem unnatural to the point where it might become unrecognisable. This shot is good when you want your audience to become very intimate with your subject, almost to a point that wouldn’t be possible in everyday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9C05-D0FF-4AF6-A772-B151912B4C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71F882-0A19-4E3A-AAAD-2841BD93D8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4F05D1A3-3D97-449B-8FF0-A4282CCFB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DC2CBEB0-01F2-4CFE-81B8-13CCA0D9F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4776C3E-D5DF-49F7-98C0-0D829C223C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4739855-283F-4CEA-92B0-34964257C8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FB423DB-8F6B-4E43-9724-E039F5D38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16EC67F-43F9-4F44-BC45-5304D3FB5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F6CD376-C466-4CFF-8D38-646CC3FBA2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28FA047-628C-46E9-8084-9D9D9DE79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344B1A3-2D4C-4B9B-B7D6-EF2D3DEAA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8E79759-67BE-45E7-B94E-674ADAFC80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8FF03CC-A6F2-426B-A88F-E3A43233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AA60812-9B7A-4A0A-BBFE-9E421F1E3E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3A3625A-417B-4595-9320-67DBC14C4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8FD7F77-AE0F-43E4-BC93-7F8985400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5DF3F6C-6129-4762-8902-75B3176ECE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747EA041-2B0A-4C0F-9B0D-6C2631B06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985AFA1-01AB-4D0E-967B-D1CC5BD7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FB2E2E2F-6162-46CE-AA05-6FF04C5B1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37404289-65BC-463F-8727-CF4696D45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34020EDC-AA89-4649-B9E0-73F71167D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CC9066B0-2EA6-4D1D-912D-7F468D0A6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E60A1E8-1A45-4C2C-8947-6D5C3A485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9D02AA45-F116-40F6-8EAE-585A9EE62C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7912-DA34-4E02-BCF8-1BBFC76325AB}"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42B3-2AB5-407A-BC51-22773B5993E1}"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ation</a:t>
            </a:r>
            <a:endParaRPr b="0" lang="en-US" sz="4400" spc="-1" strike="noStrike">
              <a:solidFill>
                <a:srgbClr val="cc3300"/>
              </a:solidFill>
              <a:latin typeface="Arial"/>
            </a:endParaRPr>
          </a:p>
        </p:txBody>
      </p:sp>
      <p:sp>
        <p:nvSpPr>
          <p:cNvPr id="91" name="PlaceHolder 2"/>
          <p:cNvSpPr>
            <a:spLocks noGrp="1"/>
          </p:cNvSpPr>
          <p:nvPr>
            <p:ph type="subTitle"/>
          </p:nvPr>
        </p:nvSpPr>
        <p:spPr>
          <a:xfrm>
            <a:off x="1371600" y="3733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undamentals of Photography (Photo Voice)</a:t>
            </a:r>
            <a:endParaRPr b="0" lang="en-US" sz="3200" spc="-1" strike="noStrike">
              <a:solidFill>
                <a:srgbClr val="5f5f5f"/>
              </a:solidFill>
              <a:latin typeface="Arial"/>
            </a:endParaRPr>
          </a:p>
        </p:txBody>
      </p:sp>
      <p:sp>
        <p:nvSpPr>
          <p:cNvPr id="92" name="Rectangle 4"/>
          <p:cNvSpPr/>
          <p:nvPr/>
        </p:nvSpPr>
        <p:spPr>
          <a:xfrm>
            <a:off x="2950560" y="5157720"/>
            <a:ext cx="388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69696"/>
                </a:solidFill>
                <a:latin typeface="Arial"/>
              </a:rPr>
              <a:t>By: Jon Corbett and Kasondra White</a:t>
            </a:r>
            <a:endParaRPr b="0" lang="en-US" sz="1800" spc="-1" strike="noStrike">
              <a:solidFill>
                <a:srgbClr val="000000"/>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5f5f5f"/>
                </a:solidFill>
                <a:latin typeface="Arial"/>
              </a:rPr>
              <a:t>Unit: M14U05</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close-up</a:t>
            </a:r>
            <a:endParaRPr b="0" lang="en-US" sz="4400" spc="-1" strike="noStrike">
              <a:solidFill>
                <a:srgbClr val="cc3300"/>
              </a:solidFill>
              <a:latin typeface="Arial"/>
            </a:endParaRPr>
          </a:p>
        </p:txBody>
      </p:sp>
      <p:sp>
        <p:nvSpPr>
          <p:cNvPr id="112"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ften used to capture a full f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make characters recognisabl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medium close-up</a:t>
            </a:r>
            <a:endParaRPr b="0" lang="en-US" sz="4400" spc="-1" strike="noStrike">
              <a:solidFill>
                <a:srgbClr val="cc3300"/>
              </a:solidFill>
              <a:latin typeface="Arial"/>
            </a:endParaRPr>
          </a:p>
        </p:txBody>
      </p:sp>
      <p:sp>
        <p:nvSpPr>
          <p:cNvPr id="114" name=""/>
          <p:cNvSpPr txBox="1"/>
          <p:nvPr/>
        </p:nvSpPr>
        <p:spPr>
          <a:xfrm>
            <a:off x="39528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Very common sho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Often of the head and should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ood for photographing an individu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medium shot</a:t>
            </a:r>
            <a:endParaRPr b="0" lang="en-US" sz="4400" spc="-1" strike="noStrike">
              <a:solidFill>
                <a:srgbClr val="cc3300"/>
              </a:solidFill>
              <a:latin typeface="Arial"/>
            </a:endParaRPr>
          </a:p>
        </p:txBody>
      </p:sp>
      <p:sp>
        <p:nvSpPr>
          <p:cNvPr id="116" name=""/>
          <p:cNvSpPr txBox="1"/>
          <p:nvPr/>
        </p:nvSpPr>
        <p:spPr>
          <a:xfrm>
            <a:off x="468360" y="2060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ws most of the body, which fills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Also good for photographing individual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 long shot</a:t>
            </a:r>
            <a:endParaRPr b="0" lang="en-US" sz="4400" spc="-1" strike="noStrike">
              <a:solidFill>
                <a:srgbClr val="cc3300"/>
              </a:solidFill>
              <a:latin typeface="Arial"/>
            </a:endParaRPr>
          </a:p>
        </p:txBody>
      </p:sp>
      <p:sp>
        <p:nvSpPr>
          <p:cNvPr id="118"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ofte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when there is more than one individual or subject that is the focus of atten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xtreme long shot</a:t>
            </a:r>
            <a:endParaRPr b="0" lang="en-US" sz="4400" spc="-1" strike="noStrike">
              <a:solidFill>
                <a:srgbClr val="cc3300"/>
              </a:solidFill>
              <a:latin typeface="Arial"/>
            </a:endParaRPr>
          </a:p>
        </p:txBody>
      </p:sp>
      <p:sp>
        <p:nvSpPr>
          <p:cNvPr id="12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mainly for panoram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Details are difficult to distinguis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Good for shooting the natural environmen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high-angle shots</a:t>
            </a:r>
            <a:endParaRPr b="0" lang="en-US" sz="4400" spc="-1" strike="noStrike">
              <a:solidFill>
                <a:srgbClr val="cc3300"/>
              </a:solidFill>
              <a:latin typeface="Arial"/>
            </a:endParaRPr>
          </a:p>
        </p:txBody>
      </p:sp>
      <p:sp>
        <p:nvSpPr>
          <p:cNvPr id="122" name=""/>
          <p:cNvSpPr txBox="1"/>
          <p:nvPr/>
        </p:nvSpPr>
        <p:spPr>
          <a:xfrm>
            <a:off x="53964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above the subject, looking downwar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insinuate that the subject is small or inferio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low-angle shots</a:t>
            </a:r>
            <a:endParaRPr b="0" lang="en-US" sz="4400" spc="-1" strike="noStrike">
              <a:solidFill>
                <a:srgbClr val="cc3300"/>
              </a:solidFill>
              <a:latin typeface="Arial"/>
            </a:endParaRPr>
          </a:p>
        </p:txBody>
      </p:sp>
      <p:sp>
        <p:nvSpPr>
          <p:cNvPr id="124"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below the subject, looking upwa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confer respect or accentuate grandeu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ye-level shots</a:t>
            </a:r>
            <a:endParaRPr b="0" lang="en-US" sz="4400" spc="-1" strike="noStrike">
              <a:solidFill>
                <a:srgbClr val="cc3300"/>
              </a:solidFill>
              <a:latin typeface="Arial"/>
            </a:endParaRPr>
          </a:p>
        </p:txBody>
      </p:sp>
      <p:sp>
        <p:nvSpPr>
          <p:cNvPr id="126" name=""/>
          <p:cNvSpPr txBox="1"/>
          <p:nvPr/>
        </p:nvSpPr>
        <p:spPr>
          <a:xfrm>
            <a:off x="468360" y="1988640"/>
            <a:ext cx="8229600" cy="45262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camera is positioned level with the sub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to imply equanimity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king with light: low lighting</a:t>
            </a:r>
            <a:endParaRPr b="0" lang="en-US" sz="44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May seem light enough, when it is actually too dark for the camer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ing a flash can create a gl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o take a picture in low light: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ut camera on a tripo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keep it very stil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decrease shutter spee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crease ISO setting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Working with light: bright light</a:t>
            </a:r>
            <a:endParaRPr b="0" lang="en-US" sz="4400" spc="-1" strike="noStrike">
              <a:solidFill>
                <a:srgbClr val="cc3300"/>
              </a:solidFill>
              <a:latin typeface="Arial"/>
            </a:endParaRPr>
          </a:p>
        </p:txBody>
      </p:sp>
      <p:sp>
        <p:nvSpPr>
          <p:cNvPr id="130"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Very bright light, such as the sun, can cause the photo to look washed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 aware of shadows, particularly outdoors on bright day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rovides a visual representation of:</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geographic featur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frastructur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and-use practic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ommunity</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hoto voic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raining community memb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reating photograph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Photo voice</a:t>
            </a:r>
            <a:endParaRPr b="0" lang="en-US" sz="4400" spc="-1" strike="noStrike">
              <a:solidFill>
                <a:srgbClr val="cc3300"/>
              </a:solidFill>
              <a:latin typeface="Arial"/>
            </a:endParaRPr>
          </a:p>
        </p:txBody>
      </p:sp>
      <p:sp>
        <p:nvSpPr>
          <p:cNvPr id="98" name=""/>
          <p:cNvSpPr txBox="1"/>
          <p:nvPr/>
        </p:nvSpPr>
        <p:spPr>
          <a:xfrm>
            <a:off x="457200" y="1500120"/>
            <a:ext cx="822960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s photography to represent the interests of community members who normally may not have a voice</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Empowers community members to be the photographer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Benefits communities by:</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providing an outlet for expressing local knowledge</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teaching community members a new skill set</a:t>
            </a:r>
            <a:endParaRPr b="0" lang="en-US" sz="2800" spc="-1" strike="noStrike">
              <a:solidFill>
                <a:srgbClr val="5f5f5f"/>
              </a:solidFill>
              <a:latin typeface="Arial"/>
            </a:endParaRPr>
          </a:p>
          <a:p>
            <a:pPr lvl="2" marL="1097280" indent="-21924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ng photographs: composition</a:t>
            </a:r>
            <a:endParaRPr b="0" lang="en-US" sz="4400" spc="-1" strike="noStrike">
              <a:solidFill>
                <a:srgbClr val="cc33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ow to set up the subject in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mposition communicates meaning</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ing subjects with intention and purpo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nvolves working with: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igh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camera ang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len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reating photographs: The Rule of Thirds</a:t>
            </a:r>
            <a:endParaRPr b="0" lang="en-US" sz="4400" spc="-1" strike="noStrike">
              <a:solidFill>
                <a:srgbClr val="cc33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magine dividing an image into thirds horizontally and verticall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Image is made up of nine squa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Place points of interest:</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in the intersectio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along the lin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at are the points of inter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Where am I intentionally placing them?</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a:t>
            </a:r>
            <a:endParaRPr b="0" lang="en-US" sz="4400" spc="-1" strike="noStrike">
              <a:solidFill>
                <a:srgbClr val="cc3300"/>
              </a:solidFill>
              <a:latin typeface="Arial"/>
            </a:endParaRPr>
          </a:p>
        </p:txBody>
      </p:sp>
      <p:sp>
        <p:nvSpPr>
          <p:cNvPr id="104" name=""/>
          <p:cNvSpPr txBox="1"/>
          <p:nvPr/>
        </p:nvSpPr>
        <p:spPr>
          <a:xfrm>
            <a:off x="457200" y="18320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onventions of compositi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acing the camer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illing the picture (objects should not be too far awa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f5f5f"/>
                </a:solidFill>
                <a:latin typeface="Arial"/>
              </a:rPr>
              <a:t>Subjects should be framed within the pictur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 headroom</a:t>
            </a:r>
            <a:endParaRPr b="0" lang="en-US" sz="4400" spc="-1" strike="noStrike">
              <a:solidFill>
                <a:srgbClr val="cc3300"/>
              </a:solidFill>
              <a:latin typeface="Arial"/>
            </a:endParaRPr>
          </a:p>
        </p:txBody>
      </p:sp>
      <p:sp>
        <p:nvSpPr>
          <p:cNvPr id="106" name=""/>
          <p:cNvSpPr txBox="1"/>
          <p:nvPr/>
        </p:nvSpPr>
        <p:spPr>
          <a:xfrm>
            <a:off x="468360" y="23320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space between the top of someone’s head and the top of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Content: nose room</a:t>
            </a:r>
            <a:endParaRPr b="0" lang="en-US" sz="4400" spc="-1" strike="noStrike">
              <a:solidFill>
                <a:srgbClr val="cc3300"/>
              </a:solidFill>
              <a:latin typeface="Arial"/>
            </a:endParaRPr>
          </a:p>
        </p:txBody>
      </p:sp>
      <p:sp>
        <p:nvSpPr>
          <p:cNvPr id="108"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The distance between the nose of the subject and the edge of the fra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Used for close-up, profile sho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pace in direction nose is pointing should be greater than space behind the head</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cc3300"/>
                </a:solidFill>
                <a:latin typeface="Arial"/>
              </a:rPr>
              <a:t>Types of shots:</a:t>
            </a:r>
            <a:br>
              <a:rPr sz="4400"/>
            </a:br>
            <a:r>
              <a:rPr b="0" lang="en-CA" sz="4400" spc="-1" strike="noStrike">
                <a:solidFill>
                  <a:srgbClr val="cc3300"/>
                </a:solidFill>
                <a:latin typeface="Arial"/>
              </a:rPr>
              <a:t>extreme close-up </a:t>
            </a:r>
            <a:endParaRPr b="0" lang="en-US" sz="4400" spc="-1" strike="noStrike">
              <a:solidFill>
                <a:srgbClr val="cc3300"/>
              </a:solidFill>
              <a:latin typeface="Arial"/>
            </a:endParaRPr>
          </a:p>
        </p:txBody>
      </p:sp>
      <p:sp>
        <p:nvSpPr>
          <p:cNvPr id="110" name=""/>
          <p:cNvSpPr txBox="1"/>
          <p:nvPr/>
        </p:nvSpPr>
        <p:spPr>
          <a:xfrm>
            <a:off x="468360" y="18446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Shooting something very close up (e.g. a flower, someone’s ey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Can make objects seem unnatura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5f5f5f"/>
                </a:solidFill>
                <a:latin typeface="Arial"/>
              </a:rPr>
              <a:t>Helps audience become intimate with subject</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sondra</cp:lastModifiedBy>
  <dcterms:modified xsi:type="dcterms:W3CDTF">2009-10-16T22:19:18Z</dcterms:modified>
  <cp:revision>1</cp:revision>
  <dc:subject/>
  <dc:title>Presentation - Docum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Document</vt:lpwstr>
  </property>
  <property fmtid="{D5CDD505-2E9C-101B-9397-08002B2CF9AE}" pid="6" name="Keywords">
    <vt:lpwstr/>
  </property>
  <property fmtid="{D5CDD505-2E9C-101B-9397-08002B2CF9AE}" pid="7" name="Slides">
    <vt:lpwstr>19</vt:lpwstr>
  </property>
  <property fmtid="{D5CDD505-2E9C-101B-9397-08002B2CF9AE}" pid="8" name="Subject">
    <vt:lpwstr/>
  </property>
  <property fmtid="{D5CDD505-2E9C-101B-9397-08002B2CF9AE}" pid="9" name="_Author">
    <vt:lpwstr/>
  </property>
  <property fmtid="{D5CDD505-2E9C-101B-9397-08002B2CF9AE}" pid="10" name="_Category">
    <vt:lpwstr/>
  </property>
  <property fmtid="{D5CDD505-2E9C-101B-9397-08002B2CF9AE}" pid="11" name="_Comments">
    <vt:lpwstr/>
  </property>
</Properties>
</file>