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DB64-8833-4E2A-97C0-944AC69607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different planning methodologies are described in the Additional Resources and also in the Glossary. You won’t be able to teach a full methodology, the goal is to help trainees see the value of a coherent system of planning, monitoring and evalu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You may want trainees to discuss why these different levels matter. Understanding the scale at which one is addressing a problem helps take a step back and see the larger picture, rather than always trying to address immediate symptoms of a deeper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Out of this, trainees should be able to see the relationship between planning, monitoring and evaluation (as part of a methodolog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Here it is worth exploring the concept of ‘target group’. Who is it that will bring about change in the situation the mapping is meant to addres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Is are a key concept here. Trainees should be able to give clear examples of OV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The idea here is that you are in a cycle which moves forward progressively. You are moving through actions, to reflections, to re-planning and fresh a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Some people do not like the idea of evaluation, but it is a very helpful tool for improving the quality of projects and learning as a t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701CB-BD65-44FF-B2C9-DDE69412EA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367D3-528D-4CB5-8060-D6DF5FE4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29573-73EB-4486-86A7-6C57C952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28A9F-5F07-431F-A9C0-2E505FE3DE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EEEB3-B2CA-405F-857C-8339A99A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4F8F1-0F5B-4260-8482-374D9B48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51534-1F3C-4010-860D-61BE75F9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E7ECD-E127-4B2A-9AA8-3CDBF9AA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A9805-E652-4139-9C8F-1F13528D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12A69-ED3D-4943-8515-7AF1E3BC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F95F5-2787-43DA-ABA0-5590B3D2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E5CD8-55F9-49A6-9A9C-11B0E4DC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5A39B-D24C-4672-863E-2707EF97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808C6-1F01-474A-B776-F0C4674A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3E200-6516-45E5-B53E-70EA027D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50E45-3D4F-4802-B225-D8E46AC3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FCB7A-64EA-43CB-9624-0AE0937E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366D0-072E-48FF-AD01-972E535D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5E80C-6096-410D-8494-F2575FFA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6A859-227A-4000-A7FC-3E932EDA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F13EC-4555-41EC-85D3-56428708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37839-7405-46EF-9918-05EA8DE7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18CE3-CF51-409D-A957-3B6FD6B6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00E90-C849-456E-96A8-A085E294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F0FF-87C4-471A-84BC-56B7E87C68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9CCC-762E-448D-B2C3-89C548415E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Evaluating and Reflecting on the Map-making Proces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ools for Success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12400" y="515772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By: Nigel Craw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Unit: M15U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dopting a methodolog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There are different methodologies for planning, monitoring and evaluating project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Adopting a particular method helps to be consistent and check key points in the planning and assessment tool ki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Logical Framework (ZOPP) and Appreciative Inquiry are exampl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ale of resul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cc3300"/>
                </a:solidFill>
                <a:latin typeface="Arial"/>
              </a:rPr>
              <a:t>Development goal</a:t>
            </a: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: This is the overall positive, long-term result the community seek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cc3300"/>
                </a:solidFill>
                <a:latin typeface="Arial"/>
              </a:rPr>
              <a:t>Project purpose</a:t>
            </a: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: This is the immediate outcome of implementing this project and should contribute to the development go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cc3300"/>
                </a:solidFill>
                <a:latin typeface="Arial"/>
              </a:rPr>
              <a:t>Results/objectives</a:t>
            </a: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: A project purpose is made up of smaller steps and outputs which together assure that the project purpose is achiev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cc3300"/>
                </a:solidFill>
                <a:latin typeface="Arial"/>
              </a:rPr>
              <a:t>Planning, monitoring &amp; evaluation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Planning, monitoring and evaluation are all part of one proces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Planning sets the objectiv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Monitoring helps check that the objectives are on track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Evaluation measures whether the overall project purpose has been met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Evaluation also provides a chance to reflect on the overall process and empowerment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lan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Adopt a methodology appropriate to the contex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Develop an analysis of the negative situation that should be solv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Specify the target group (i.e. those in the community who will do the actions)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Identify levels of desired results: development goal, project purpose, results leading to the project purpos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Monitor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Every result in the project needs an indicator to help determine whether you are achieving the result as plann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Indicators should at least give quantity, quality, time and location for the resul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Monitoring involves collecting data as events happe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Objectively verifiable indicators (OVIs) make your work transparent to donors, the whole community and other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2038320" y="1361880"/>
            <a:ext cx="5317560" cy="4656600"/>
            <a:chOff x="2038320" y="1361880"/>
            <a:chExt cx="5317560" cy="4656600"/>
          </a:xfrm>
        </p:grpSpPr>
        <p:sp>
          <p:nvSpPr>
            <p:cNvPr id="106" name="_s13319"/>
            <p:cNvSpPr/>
            <p:nvPr/>
          </p:nvSpPr>
          <p:spPr>
            <a:xfrm>
              <a:off x="3085200" y="1361880"/>
              <a:ext cx="3222720" cy="3291120"/>
            </a:xfrm>
            <a:custGeom>
              <a:avLst/>
              <a:gdLst>
                <a:gd name="textAreaLeft" fmla="*/ 0 w 3222720"/>
                <a:gd name="textAreaRight" fmla="*/ 3223080 w 3222720"/>
                <a:gd name="textAreaTop" fmla="*/ 0 h 3291120"/>
                <a:gd name="textAreaBottom" fmla="*/ 3291480 h 329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3320"/>
            <p:cNvSpPr/>
            <p:nvPr/>
          </p:nvSpPr>
          <p:spPr>
            <a:xfrm rot="7200000">
              <a:off x="3492000" y="2174400"/>
              <a:ext cx="3291120" cy="3222720"/>
            </a:xfrm>
            <a:custGeom>
              <a:avLst/>
              <a:gdLst>
                <a:gd name="textAreaLeft" fmla="*/ 0 w 3291120"/>
                <a:gd name="textAreaRight" fmla="*/ 3291480 w 3291120"/>
                <a:gd name="textAreaTop" fmla="*/ 0 h 3222720"/>
                <a:gd name="textAreaBottom" fmla="*/ 3223080 h 32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3322"/>
            <p:cNvSpPr/>
            <p:nvPr/>
          </p:nvSpPr>
          <p:spPr>
            <a:xfrm rot="14400000">
              <a:off x="2610720" y="2176200"/>
              <a:ext cx="3291120" cy="3222720"/>
            </a:xfrm>
            <a:custGeom>
              <a:avLst/>
              <a:gdLst>
                <a:gd name="textAreaLeft" fmla="*/ 0 w 3291120"/>
                <a:gd name="textAreaRight" fmla="*/ 3291480 w 3291120"/>
                <a:gd name="textAreaTop" fmla="*/ 0 h 3222720"/>
                <a:gd name="textAreaBottom" fmla="*/ 3223080 h 32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3317"/>
            <p:cNvSpPr/>
            <p:nvPr/>
          </p:nvSpPr>
          <p:spPr>
            <a:xfrm>
              <a:off x="5578920" y="1964880"/>
              <a:ext cx="1293480" cy="13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000" spc="-1" strike="noStrike">
                  <a:solidFill>
                    <a:srgbClr val="000000"/>
                  </a:solidFill>
                  <a:latin typeface="Arial"/>
                </a:rPr>
                <a:t>REFLECTION</a:t>
              </a:r>
              <a:br>
                <a:rPr sz="1000"/>
              </a:br>
              <a:r>
                <a:rPr b="1" lang="en-ZA" sz="1000" spc="-1" strike="noStrike">
                  <a:solidFill>
                    <a:srgbClr val="000000"/>
                  </a:solidFill>
                  <a:latin typeface="Arial"/>
                </a:rPr>
                <a:t>Monitoring -&gt; Evalu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3318"/>
            <p:cNvSpPr/>
            <p:nvPr/>
          </p:nvSpPr>
          <p:spPr>
            <a:xfrm>
              <a:off x="4050360" y="4668120"/>
              <a:ext cx="1293480" cy="13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000" spc="-1" strike="noStrike">
                  <a:solidFill>
                    <a:srgbClr val="000000"/>
                  </a:solidFill>
                  <a:latin typeface="Arial"/>
                </a:rPr>
                <a:t>PLANNING </a:t>
              </a:r>
              <a:br>
                <a:rPr sz="1000"/>
              </a:br>
              <a:r>
                <a:rPr b="1" lang="en-ZA" sz="1000" spc="-1" strike="noStrike">
                  <a:solidFill>
                    <a:srgbClr val="000000"/>
                  </a:solidFill>
                  <a:latin typeface="Arial"/>
                </a:rPr>
                <a:t>/ RE-PLA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3321"/>
            <p:cNvSpPr/>
            <p:nvPr/>
          </p:nvSpPr>
          <p:spPr>
            <a:xfrm>
              <a:off x="2521800" y="1965960"/>
              <a:ext cx="1293840" cy="13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0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24000" y="26028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cc3300"/>
                </a:solidFill>
                <a:latin typeface="Arial"/>
              </a:rPr>
              <a:t>Planning, monitoring and evaluating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Evaluation can be summative (i.e. what happened?) or formative (i.e. what does this tell you for the future?)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Projects are evaluated against their project purpose and result indicator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Evaluation can look at the impact caused by the project (which may sometimes be unintentional)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Evaluation can look at processes, including human dynamics and empowerment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9:34:06Z</dcterms:created>
  <dc:creator>Nigel Crawhall</dc:creator>
  <dc:description/>
  <cp:keywords>pgis training kit</cp:keywords>
  <dc:language>en-US</dc:language>
  <cp:lastModifiedBy>martens</cp:lastModifiedBy>
  <dcterms:modified xsi:type="dcterms:W3CDTF">2009-10-07T08:14:31Z</dcterms:modified>
  <cp:revision>22</cp:revision>
  <dc:subject>M15 - Action planning</dc:subject>
  <dc:title>Presentation -  Evaluating and reflecting on the map-making proc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