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831E-9AC8-4E33-AFFB-31D9758882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point here is to remind community leaders and NGO members that dialogue is always important in generating advocacy capacity and influence. Some situations may be very difficult and hostile, but where possible, creating a working relationship with the civil service can bring about important opportunities and chang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nts as ‘international law’ can be fairly confusing or difficult to define. Some people want to believe that any international decision is binding, while others discard the international system as irrelevant. Reality is somewhere between these two, but also still linked to the ability of change agents to use the international instrument in their local advocacy effor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f you can think of it, it is likely that there is some UN instrument on the subject. Use Google to search for examples of UN instruments, agreements and nor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C7E056-B2B9-417C-81E0-BF3356C1329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33D517E-69E0-4414-ACA8-49C535A53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063587F-E8E7-40BD-8E92-07E4AC176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0B62FA14-5279-41F2-9E7D-F301F6736A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3877C71D-D1A4-4E7D-A728-9863BDEB5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DB51160-6F3B-427E-80B9-EF7C94C2B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C6701C1-A181-45CF-8E9F-7F04EE7F8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00FBF81-B048-4486-8676-95D3AF0B0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0E411B2-20B8-4BB9-95F7-1E2B7AA0D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D04EBCC-9DC4-45F4-B560-44B37317B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5EDCF95-B5CE-4ABA-8ADD-6AAAC05B6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2E5BB0B2-F8D7-4B66-9359-ABB09EC1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B99A153-3F51-4D19-AEAE-033E82458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CA50342-0F65-44C8-9EDA-491835EA1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A006B67-68D9-4315-95CE-14A467890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9D7D7B9-CC4D-49DD-90A5-71035DF489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CC377B2-73F5-4B7B-A4F3-36A503BD45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09637C3-83C7-4DE1-87CD-99FCF5B7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803A198B-EB7C-4811-B21A-F1980DF17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18387DCD-C848-4EB6-97DB-9E7542500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49B1512B-32AD-42CF-9320-A6F537427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BA751C7-CF1B-4A47-B3FD-4F58EC24C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64C68C4-47D8-45B9-B06F-61CC2984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A9EAFDE-131E-421A-A3A0-666A9FD02F8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95A1-E0E6-4F4B-B162-242E2D29E8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0C86-B3ED-4CD4-80A4-179A82F5A7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llaboration and Advocacy Techniques </a:t>
            </a:r>
            <a:endParaRPr b="0" lang="en-US" sz="4400" spc="-1" strike="noStrike">
              <a:solidFill>
                <a:srgbClr val="cc3300"/>
              </a:solidFill>
              <a:latin typeface="Arial"/>
            </a:endParaRPr>
          </a:p>
        </p:txBody>
      </p:sp>
      <p:sp>
        <p:nvSpPr>
          <p:cNvPr id="91" name=""/>
          <p:cNvSpPr/>
          <p:nvPr/>
        </p:nvSpPr>
        <p:spPr>
          <a:xfrm>
            <a:off x="3812400" y="515772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Nigel Crawhall</a:t>
            </a:r>
            <a:endParaRPr b="0" lang="en-US" sz="1800" spc="-1" strike="noStrike">
              <a:solidFill>
                <a:srgbClr val="000000"/>
              </a:solidFill>
              <a:latin typeface="Arial"/>
            </a:endParaRPr>
          </a:p>
        </p:txBody>
      </p:sp>
      <p:sp>
        <p:nvSpPr>
          <p:cNvPr id="92"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5U03</a:t>
            </a:r>
            <a:endParaRPr b="0" lang="en-US" sz="1800" spc="-1" strike="noStrike">
              <a:solidFill>
                <a:srgbClr val="000000"/>
              </a:solidFill>
              <a:latin typeface="Arial"/>
            </a:endParaRPr>
          </a:p>
        </p:txBody>
      </p:sp>
      <p:pic>
        <p:nvPicPr>
          <p:cNvPr id="93"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It is about advocacy</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The purpose of participatory mapping is to bring about </a:t>
            </a:r>
            <a:r>
              <a:rPr b="0" lang="en-ZA" sz="3200" spc="-1" strike="noStrike">
                <a:solidFill>
                  <a:srgbClr val="cc3300"/>
                </a:solidFill>
                <a:latin typeface="Arial"/>
              </a:rPr>
              <a:t>positive changes</a:t>
            </a:r>
            <a:r>
              <a:rPr b="0" lang="en-ZA"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dvocating for change is required to change laws, policies and practic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ome changes need to be effected through national government, laws and policies; others require going through cour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Network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etworks help bring </a:t>
            </a:r>
            <a:r>
              <a:rPr b="0" lang="en-ZA" sz="3200" spc="-1" strike="noStrike">
                <a:solidFill>
                  <a:srgbClr val="cc3300"/>
                </a:solidFill>
                <a:latin typeface="Arial"/>
              </a:rPr>
              <a:t>new ideas</a:t>
            </a:r>
            <a:r>
              <a:rPr b="0" lang="en-ZA" sz="3200" spc="-1" strike="noStrike">
                <a:solidFill>
                  <a:srgbClr val="5f5f5f"/>
                </a:solidFill>
                <a:latin typeface="Arial"/>
              </a:rPr>
              <a:t> and </a:t>
            </a:r>
            <a:r>
              <a:rPr b="0" lang="en-ZA" sz="3200" spc="-1" strike="noStrike">
                <a:solidFill>
                  <a:srgbClr val="cc3300"/>
                </a:solidFill>
                <a:latin typeface="Arial"/>
              </a:rPr>
              <a:t>information</a:t>
            </a:r>
            <a:r>
              <a:rPr b="0" lang="en-ZA"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etworks can attract </a:t>
            </a:r>
            <a:r>
              <a:rPr b="0" lang="en-ZA" sz="3200" spc="-1" strike="noStrike">
                <a:solidFill>
                  <a:srgbClr val="cc3300"/>
                </a:solidFill>
                <a:latin typeface="Arial"/>
              </a:rPr>
              <a:t>resources</a:t>
            </a:r>
            <a:r>
              <a:rPr b="0" lang="en-ZA"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etworks can increase </a:t>
            </a:r>
            <a:r>
              <a:rPr b="0" lang="en-ZA" sz="3200" spc="-1" strike="noStrike">
                <a:solidFill>
                  <a:srgbClr val="cc3300"/>
                </a:solidFill>
                <a:latin typeface="Arial"/>
              </a:rPr>
              <a:t>attention</a:t>
            </a:r>
            <a:r>
              <a:rPr b="0" lang="en-ZA" sz="3200" spc="-1" strike="noStrike">
                <a:solidFill>
                  <a:srgbClr val="5f5f5f"/>
                </a:solidFill>
                <a:latin typeface="Arial"/>
              </a:rPr>
              <a:t> by decision makers.</a:t>
            </a:r>
            <a:r>
              <a:rPr b="0" lang="en-ZA" sz="3200" spc="-1" strike="noStrike">
                <a:solidFill>
                  <a:srgbClr val="5f5f5f"/>
                </a:solidFill>
                <a:latin typeface="Arial"/>
              </a:rPr>
              <a:t>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8"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lliance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lliances with other similar communiti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vide moral suppor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allow sharing of lessons and strateg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an lead to joint ac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vide solidarity and encouragem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strengthen arguments for systemic reforms.</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Build advocacy capacity</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nalyse and define the </a:t>
            </a:r>
            <a:r>
              <a:rPr b="0" lang="en-ZA" sz="3200" spc="-1" strike="noStrike">
                <a:solidFill>
                  <a:srgbClr val="cc3300"/>
                </a:solidFill>
                <a:latin typeface="Arial"/>
              </a:rPr>
              <a:t>local</a:t>
            </a:r>
            <a:r>
              <a:rPr b="0" lang="en-ZA" sz="3200" spc="-1" strike="noStrike">
                <a:solidFill>
                  <a:srgbClr val="5f5f5f"/>
                </a:solidFill>
                <a:latin typeface="Arial"/>
              </a:rPr>
              <a:t> nee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tudy </a:t>
            </a:r>
            <a:r>
              <a:rPr b="0" lang="en-ZA" sz="3200" spc="-1" strike="noStrike">
                <a:solidFill>
                  <a:srgbClr val="cc3300"/>
                </a:solidFill>
                <a:latin typeface="Arial"/>
              </a:rPr>
              <a:t>national</a:t>
            </a:r>
            <a:r>
              <a:rPr b="0" lang="en-ZA" sz="3200" spc="-1" strike="noStrike">
                <a:solidFill>
                  <a:srgbClr val="5f5f5f"/>
                </a:solidFill>
                <a:latin typeface="Arial"/>
              </a:rPr>
              <a:t> legislation and policy opportunit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Connect with </a:t>
            </a:r>
            <a:r>
              <a:rPr b="0" lang="en-ZA" sz="3200" spc="-1" strike="noStrike">
                <a:solidFill>
                  <a:srgbClr val="cc3300"/>
                </a:solidFill>
                <a:latin typeface="Arial"/>
              </a:rPr>
              <a:t>international</a:t>
            </a:r>
            <a:r>
              <a:rPr b="0" lang="en-ZA" sz="3200" spc="-1" strike="noStrike">
                <a:solidFill>
                  <a:srgbClr val="5f5f5f"/>
                </a:solidFill>
                <a:latin typeface="Arial"/>
              </a:rPr>
              <a:t> standards and policy instrume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Build alliances and join networks to share the advocacy work and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trengthen </a:t>
            </a:r>
            <a:r>
              <a:rPr b="0" lang="en-ZA" sz="3200" spc="-1" strike="noStrike">
                <a:solidFill>
                  <a:srgbClr val="cc3300"/>
                </a:solidFill>
                <a:latin typeface="Arial"/>
              </a:rPr>
              <a:t>leadership</a:t>
            </a:r>
            <a:r>
              <a:rPr b="0" lang="en-ZA" sz="3200" spc="-1" strike="noStrike">
                <a:solidFill>
                  <a:srgbClr val="5f5f5f"/>
                </a:solidFill>
                <a:latin typeface="Arial"/>
              </a:rPr>
              <a:t> in the communit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Speak with government</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dvocacy almost always requires </a:t>
            </a:r>
            <a:r>
              <a:rPr b="0" lang="en-ZA" sz="3200" spc="-1" strike="noStrike">
                <a:solidFill>
                  <a:srgbClr val="cc3300"/>
                </a:solidFill>
                <a:latin typeface="Arial"/>
              </a:rPr>
              <a:t>dialogue</a:t>
            </a:r>
            <a:r>
              <a:rPr b="0" lang="en-ZA" sz="3200" spc="-1" strike="noStrike">
                <a:solidFill>
                  <a:srgbClr val="5f5f5f"/>
                </a:solidFill>
                <a:latin typeface="Arial"/>
              </a:rPr>
              <a:t> with govern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Understand how governance work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Contact national </a:t>
            </a:r>
            <a:r>
              <a:rPr b="0" lang="en-ZA" sz="3200" spc="-1" strike="noStrike">
                <a:solidFill>
                  <a:srgbClr val="cc3300"/>
                </a:solidFill>
                <a:latin typeface="Arial"/>
              </a:rPr>
              <a:t>focal points</a:t>
            </a:r>
            <a:r>
              <a:rPr b="0" lang="en-ZA" sz="3200" spc="-1" strike="noStrike">
                <a:solidFill>
                  <a:srgbClr val="5f5f5f"/>
                </a:solidFill>
                <a:latin typeface="Arial"/>
              </a:rPr>
              <a:t> for relevant UN Convention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Develop </a:t>
            </a:r>
            <a:r>
              <a:rPr b="0" lang="en-ZA" sz="3200" spc="-1" strike="noStrike">
                <a:solidFill>
                  <a:srgbClr val="cc3300"/>
                </a:solidFill>
                <a:latin typeface="Arial"/>
              </a:rPr>
              <a:t>good relations</a:t>
            </a:r>
            <a:r>
              <a:rPr b="0" lang="en-ZA" sz="3200" spc="-1" strike="noStrike">
                <a:solidFill>
                  <a:srgbClr val="5f5f5f"/>
                </a:solidFill>
                <a:latin typeface="Arial"/>
              </a:rPr>
              <a:t> with civil servants, local government and Members of Parlia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im to </a:t>
            </a:r>
            <a:r>
              <a:rPr b="0" lang="en-ZA" sz="3200" spc="-1" strike="noStrike">
                <a:solidFill>
                  <a:srgbClr val="cc3300"/>
                </a:solidFill>
                <a:latin typeface="Arial"/>
              </a:rPr>
              <a:t>influence</a:t>
            </a:r>
            <a:r>
              <a:rPr b="0" lang="en-ZA" sz="3200" spc="-1" strike="noStrike">
                <a:solidFill>
                  <a:srgbClr val="5f5f5f"/>
                </a:solidFill>
                <a:latin typeface="Arial"/>
              </a:rPr>
              <a:t> decision maker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cc3300"/>
                </a:solidFill>
                <a:latin typeface="Arial"/>
              </a:rPr>
              <a:t>The international system</a:t>
            </a:r>
            <a:br>
              <a:rPr sz="4000"/>
            </a:br>
            <a:r>
              <a:rPr b="0" lang="en-ZA" sz="4000" spc="-1" strike="noStrike">
                <a:solidFill>
                  <a:srgbClr val="cc3300"/>
                </a:solidFill>
                <a:latin typeface="Arial"/>
              </a:rPr>
              <a:t>(…you are not alone)</a:t>
            </a:r>
            <a:endParaRPr b="0" lang="en-US" sz="40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National governments sign treaties and agreements at the United Nations which are international la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Governments must report on binding instruments (such as conven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Communities can be active in the review proces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UN instruments</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Human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Indigenous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omen’s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hildren’s righ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Biodiversity</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onservatio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tected are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Forestry</a:t>
            </a:r>
            <a:endParaRPr b="0" lang="en-US" sz="2800" spc="-1" strike="noStrike">
              <a:solidFill>
                <a:srgbClr val="5f5f5f"/>
              </a:solidFill>
              <a:latin typeface="Arial"/>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Drylands / Desert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Marine Conservatio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ate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Health</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Educatio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ultur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Heritag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Traditional knowled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cc3300"/>
                </a:solidFill>
                <a:latin typeface="Arial"/>
              </a:rPr>
              <a:t>Link local, national and international</a:t>
            </a:r>
            <a:endParaRPr b="0" lang="en-US" sz="40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Advocacy can become highly effective when communities link local needs with national policies and legislation, in accordance with international law, norms and standard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Know your rights and know the instrument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Be an informed and active citizen – it is your righ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0:25:16Z</dcterms:created>
  <dc:creator>Giulia Pedone</dc:creator>
  <dc:description/>
  <cp:keywords>pgis training kit</cp:keywords>
  <dc:language>en-US</dc:language>
  <cp:lastModifiedBy>Nigel Crawhall</cp:lastModifiedBy>
  <dcterms:modified xsi:type="dcterms:W3CDTF">2009-09-24T13:34:46Z</dcterms:modified>
  <cp:revision>19</cp:revision>
  <dc:subject/>
  <dc:title>Presentation - Collaboration and Advocacy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