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F5EA-F3A1-40E7-9189-D0058C529D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Scoping is part of the planning methodology. It means identifying who all the interested parties are and deciding which ones will need what type of information and in what form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See the glossary on how networks and alliances are being distinguished. This is not a fixed and hard definition, but useful to distinguish those who you can share information with and learn from, and those who share your advocacy goals and will commit to deeper cooperation strategi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orth finding out the experience level of the trainees. This may vary widely. No better way to learn than hands 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4BA5EB-3993-499B-B681-86CBFFA682D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58741F2B-FCCE-45A0-A718-1ECEA87D9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9F4096D4-A1B5-4C65-982B-352C98695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387217B2-4401-4110-8BF7-DAB240ACC4A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CEDCE68-E6FD-4BE9-A18F-3BDD6312C0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24403E5-E8B6-495D-9502-EAA3E5783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268196C-242C-4ACE-B675-AE509164F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E81D9D4-51F5-40B8-93A6-6384FF11DB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B3638D9-FD4F-45C0-922F-73700FBB3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73CFB84-937C-4B15-AAE2-4E0B721DE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D0E74B2-0336-405E-AD1A-358731464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sldNum" idx="2"/>
          </p:nvPr>
        </p:nvSpPr>
        <p:spPr/>
        <p:txBody>
          <a:bodyPr/>
          <a:p>
            <a:fld id="{D54A7821-32CC-4338-B8B3-90DC6B642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ABE874A-0348-4DE5-88AB-745E8802D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2738204-E22D-4FBC-A8EA-6F96DC875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A533ED0-472A-47BE-852B-A03D09FF5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01FC3127-14D3-4D62-A68F-F0F5AF3AA8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69244321-352F-4089-829B-E55C0C348A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FC72CBF-51A3-492D-A87C-96063B631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24DD009-3D2A-4B32-B498-47039827E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5C49B6D5-6AB1-4151-B898-157C1A94C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sldNum" idx="2"/>
          </p:nvPr>
        </p:nvSpPr>
        <p:spPr/>
        <p:txBody>
          <a:bodyPr/>
          <a:p>
            <a:fld id="{CB069248-0ECC-426F-AA28-EF339E179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A8ABA84-EACA-4ADD-9821-01F6CFF8B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0EEA2F9-ED6F-4B6E-B348-CC23A18B8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6CC879D5-B4F5-47FD-8C95-D4D4A7FBBCF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4125-F9F6-4E4F-997D-473A238815C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4279-46FB-4CC7-B060-566D2360ED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a:hlinkClick r:id="rId2"/>
          </p:cNvPr>
          <p:cNvPicPr/>
          <p:nvPr/>
        </p:nvPicPr>
        <p:blipFill>
          <a:blip r:embed="rId3"/>
          <a:stretch/>
        </p:blipFill>
        <p:spPr>
          <a:xfrm>
            <a:off x="4145040" y="6381720"/>
            <a:ext cx="838080" cy="29520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ird Outline Level</a:t>
            </a:r>
            <a:endParaRPr b="0" lang="en-US" sz="2400" spc="-1" strike="noStrike">
              <a:solidFill>
                <a:srgbClr val="5f5f5f"/>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Arial"/>
              </a:rPr>
              <a:t>Processing and Packaging Information for Communication</a:t>
            </a:r>
            <a:endParaRPr b="0" lang="en-US" sz="40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Communication Planning and Strategy</a:t>
            </a:r>
            <a:endParaRPr b="0" lang="en-US" sz="2800" spc="-1" strike="noStrike">
              <a:solidFill>
                <a:srgbClr val="969696"/>
              </a:solidFill>
              <a:latin typeface="Arial"/>
            </a:endParaRPr>
          </a:p>
        </p:txBody>
      </p:sp>
      <p:sp>
        <p:nvSpPr>
          <p:cNvPr id="92" name=""/>
          <p:cNvSpPr/>
          <p:nvPr/>
        </p:nvSpPr>
        <p:spPr>
          <a:xfrm>
            <a:off x="3812400" y="5157720"/>
            <a:ext cx="204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Nigel Crawhall</a:t>
            </a:r>
            <a:endParaRPr b="0" lang="en-US" sz="1800" spc="-1" strike="noStrike">
              <a:solidFill>
                <a:srgbClr val="000000"/>
              </a:solidFill>
              <a:latin typeface="Arial"/>
            </a:endParaRPr>
          </a:p>
        </p:txBody>
      </p:sp>
      <p:sp>
        <p:nvSpPr>
          <p:cNvPr id="93" name=""/>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15U02</a:t>
            </a:r>
            <a:endParaRPr b="0" lang="en-US" sz="1800" spc="-1" strike="noStrike">
              <a:solidFill>
                <a:srgbClr val="000000"/>
              </a:solidFill>
              <a:latin typeface="Arial"/>
            </a:endParaRPr>
          </a:p>
        </p:txBody>
      </p:sp>
      <p:pic>
        <p:nvPicPr>
          <p:cNvPr id="94" name="" descr="">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cc3300"/>
                </a:solidFill>
                <a:latin typeface="Arial"/>
              </a:rPr>
              <a:t>Choose the media for the message</a:t>
            </a:r>
            <a:endParaRPr b="0" lang="en-US" sz="40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One </a:t>
            </a:r>
            <a:r>
              <a:rPr b="0" lang="en-ZA" sz="3200" spc="-1" strike="noStrike">
                <a:solidFill>
                  <a:srgbClr val="cc3300"/>
                </a:solidFill>
                <a:latin typeface="Arial"/>
              </a:rPr>
              <a:t>key</a:t>
            </a:r>
            <a:r>
              <a:rPr b="0" lang="en-ZA" sz="3200" spc="-1" strike="noStrike">
                <a:solidFill>
                  <a:srgbClr val="5f5f5f"/>
                </a:solidFill>
                <a:latin typeface="Arial"/>
              </a:rPr>
              <a:t> message may need to be expressed in different media to be accepted and understood by different stakeholder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Media options include:</a:t>
            </a:r>
            <a:endParaRPr b="0" lang="en-US" sz="32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5f5f5f"/>
                </a:solidFill>
                <a:latin typeface="Arial"/>
              </a:rPr>
              <a:t>oral presentations;</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5f5f5f"/>
                </a:solidFill>
                <a:latin typeface="Arial"/>
              </a:rPr>
              <a:t>GIS maps;</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5f5f5f"/>
                </a:solidFill>
                <a:latin typeface="Arial"/>
              </a:rPr>
              <a:t>PowerPoint;</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5f5f5f"/>
                </a:solidFill>
                <a:latin typeface="Arial"/>
              </a:rPr>
              <a:t>print reports;</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5f5f5f"/>
                </a:solidFill>
                <a:latin typeface="Arial"/>
              </a:rPr>
              <a:t>digital and electronic communication.</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Communication challenges</a:t>
            </a: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Scope the stakeholders who need the information. Communicat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within the target communit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within networks and all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with decision makers and state authorit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with international agencies and policy forum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Plan for good communication</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Effective communication requir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identifying the change agents who are going to champion the communic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identifying decision makers who can bring about positive chang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linking with resourceful networks or finding allies to share your strateg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getting these coordinated!</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Networking and alliances</a:t>
            </a:r>
            <a:endParaRPr b="0" lang="en-US" sz="4400" spc="-1" strike="noStrike">
              <a:solidFill>
                <a:srgbClr val="cc3300"/>
              </a:solidFill>
              <a:latin typeface="Arial"/>
            </a:endParaRPr>
          </a:p>
        </p:txBody>
      </p:sp>
      <p:sp>
        <p:nvSpPr>
          <p:cNvPr id="10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Networks and alliances can strengthen the impact of advocacy and attract resources.</a:t>
            </a:r>
            <a:endParaRPr b="0" lang="en-US" sz="2800" spc="-1" strike="noStrike">
              <a:solidFill>
                <a:srgbClr val="5f5f5f"/>
              </a:solidFill>
              <a:latin typeface="Arial"/>
            </a:endParaRPr>
          </a:p>
          <a:p>
            <a:pPr marL="329040" indent="-3290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Community members learn from networks and get moral support from alliances.</a:t>
            </a:r>
            <a:endParaRPr b="0" lang="en-US" sz="2800" spc="-1" strike="noStrike">
              <a:solidFill>
                <a:srgbClr val="5f5f5f"/>
              </a:solidFill>
              <a:latin typeface="Arial"/>
            </a:endParaRPr>
          </a:p>
          <a:p>
            <a:pPr marL="329040" indent="-3290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Networks and alliances rely on dynamic communication and sharing.</a:t>
            </a:r>
            <a:endParaRPr b="0" lang="en-US" sz="2800" spc="-1" strike="noStrike">
              <a:solidFill>
                <a:srgbClr val="5f5f5f"/>
              </a:solidFill>
              <a:latin typeface="Arial"/>
            </a:endParaRPr>
          </a:p>
          <a:p>
            <a:pPr marL="329040" indent="-3290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You have to contribute if you want to get something back.</a:t>
            </a:r>
            <a:endParaRPr b="0" lang="en-US" sz="2800" spc="-1" strike="noStrike">
              <a:solidFill>
                <a:srgbClr val="5f5f5f"/>
              </a:solidFill>
              <a:latin typeface="Arial"/>
            </a:endParaRPr>
          </a:p>
          <a:p>
            <a:pPr marL="329040" indent="-3290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Networks succeed when they have work to do, when members contribute and benefit and when the commitment of individual activists is monitored.</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Print media</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ublish the maps and make them availabl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roduce reports on the mapping proces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ublish articles about the maps in journals and onlin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roduce pamphlets with the recommendations.</a:t>
            </a:r>
            <a:endParaRPr b="0" lang="en-US" sz="2800" spc="-1" strike="noStrike">
              <a:solidFill>
                <a:srgbClr val="5f5f5f"/>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owerPoints can be printed.</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Collect maps and publish an atlas of the territory.</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Make posters to spread the messag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Get newspapers to report on the mapping and the messag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Web 2.0</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Blogs on websites create space for interactive dialogu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YouTube offers the chance to share the message in video format.</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Searches and RSS feeds help keep you informed.</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New email technology makes it easy to create e-list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Listservs can share your message widely and attract new information or alliance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Google Alert can monitor electronic media impact.</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09:51:53Z</dcterms:created>
  <dc:creator>Nigel Crawhall</dc:creator>
  <dc:description/>
  <cp:keywords>pgis training kit</cp:keywords>
  <dc:language>en-US</dc:language>
  <cp:lastModifiedBy>Nigel Crawhall</cp:lastModifiedBy>
  <dcterms:modified xsi:type="dcterms:W3CDTF">2009-09-24T13:26:44Z</dcterms:modified>
  <cp:revision>31</cp:revision>
  <dc:subject/>
  <dc:title>Presentation - Processing and packaging information for commun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